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103-7EE6-45F9-9218-E8ABE4D9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7203-2A88-452E-A966-073453C3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6E12-6E6C-41C8-BC22-66DB177D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99B-3AE1-4AF8-8920-08755DF5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4AEE-83F9-481A-B585-B94EBC26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102-9B75-42D1-A6FE-EDC8AE90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BB77-350B-47A2-A5BD-05E1AB5B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EAD-1248-40DE-ADE6-8C130F9B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E4C-16E0-40B6-B3D2-A3E4EB01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552-4FA4-40EA-94E9-54E24952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2F5-31E3-4B48-9CBB-EF135BDF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ECD-02BB-4214-86BC-F2CC333C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F9F9-05C7-436F-AC67-B79A8DD59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9000" y="2286000"/>
            <a:ext cx="614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be creativ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46280" y="950760"/>
            <a:ext cx="451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0840" y="579600"/>
            <a:ext cx="383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essage 2.0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0240" y="2514600"/>
            <a:ext cx="86022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ou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gita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ssag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term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selection of 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ediu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59400" y="5867280"/>
            <a:ext cx="71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rding to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sthetic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era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our ti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2514600"/>
            <a:ext cx="282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8720" y="327672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ios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4440" y="4952880"/>
            <a:ext cx="223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65720" y="3344760"/>
            <a:ext cx="18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3120" y="4572000"/>
            <a:ext cx="232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41480" y="601560"/>
            <a:ext cx="59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dia, viral(s), clips, casual game(s), message(s)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320080" y="545004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is, let’s begi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3600" y="685800"/>
            <a:ext cx="90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t when I start talking about the aesthetics of our time, it is better to announ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8160" y="992160"/>
            <a:ext cx="870876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do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video gam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ve to teach u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iteracy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learnin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6520" y="380880"/>
            <a:ext cx="8091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ituated cogni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emiotic domai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35720" y="603360"/>
            <a:ext cx="34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88920" y="2209680"/>
            <a:ext cx="681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ing the world in new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orming new affil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eparation for futu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48640" y="2286000"/>
            <a:ext cx="627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game ov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727520" y="457200"/>
            <a:ext cx="35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al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440" y="2743200"/>
            <a:ext cx="794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ink about the domain at a meta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omplex system of inter-relate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1828800"/>
            <a:ext cx="16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3440" y="2057400"/>
            <a:ext cx="81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let the fun beg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3809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5480" y="5326200"/>
            <a:ext cx="82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me play (G), exploration (E), simulation  (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6:39:10Z</dcterms:created>
  <dc:creator>User name placeholder</dc:creator>
  <dc:description/>
  <dc:language>en-US</dc:language>
  <cp:lastModifiedBy>User name placeholder</cp:lastModifiedBy>
  <dcterms:modified xsi:type="dcterms:W3CDTF">2008-05-31T14:15:57Z</dcterms:modified>
  <cp:revision>8</cp:revision>
  <dc:subject/>
  <dc:title>Slide 1</dc:title>
</cp:coreProperties>
</file>