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A89-25D3-4EB8-8F16-40AD066A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A40-82C6-4A1A-A998-78402A1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FB3-1535-400F-AAAE-F1225952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912-2DEF-44AF-99E6-5CC13642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5A3-F853-4CFE-9265-5A4A65BE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769C-4F43-498C-927E-6980AA6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286-5FE9-4023-A8D2-1E4CD1E1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AEBB-211E-4FD4-B21C-40E1B3B7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C81-F4E8-43B9-90C0-EECBC9B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510-7BC8-4658-A17F-7028065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D3F-E498-4BC1-8253-900488C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2E9-3822-4782-9A96-DBF4C0F7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C911-5DE0-42CB-A4BB-1EA6E9811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0160" y="2819520"/>
            <a:ext cx="63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you want to mak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64360" y="25146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ve in a networked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74560" y="28954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ke i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39360" y="2590920"/>
            <a:ext cx="403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conn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34800" y="2868480"/>
            <a:ext cx="43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th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51520" y="2514600"/>
            <a:ext cx="59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thing is intertwink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87560" y="2514600"/>
            <a:ext cx="532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make it twink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2514600"/>
            <a:ext cx="500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0160" y="281952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3200400"/>
            <a:ext cx="43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active vis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ch media mash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am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5760" y="838080"/>
            <a:ext cx="652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e technology / new 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3160" y="2743200"/>
            <a:ext cx="60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bachelor.utwente.nl/cre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90920" y="2590920"/>
            <a:ext cx="38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5720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72560" y="54100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w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9760" y="23623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259092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5360" y="29718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0920" y="36576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X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6560" y="175248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a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2040" y="3657600"/>
            <a:ext cx="18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Lif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510552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ious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0666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83240" y="685800"/>
            <a:ext cx="543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eative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360" y="52578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11520" y="52578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mar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31720" y="25304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8120" y="253044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0240" y="38098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88920" y="2743200"/>
            <a:ext cx="72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fference can be negative or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4880" y="281952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 everything is black and/or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440" y="2819520"/>
            <a:ext cx="293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not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0360" y="259092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not to make a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972160" y="2743200"/>
            <a:ext cx="264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274320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am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8840" y="281952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13880" y="2590920"/>
            <a:ext cx="36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v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440" y="2743200"/>
            <a:ext cx="605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eit Twente, Nether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8-03-20T15:12:22Z</dcterms:modified>
  <cp:revision>7</cp:revision>
  <dc:subject/>
  <dc:title>Slide 1</dc:title>
</cp:coreProperties>
</file>