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49A5-5C80-4445-BFCF-649C30D5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411-3403-42D3-9FC7-1C7A2CD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1C0-70D5-4478-8724-43DEF688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A717-AF8B-4472-B7B2-9DE4961A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6C1-A424-4CA2-9B43-F80F2829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D57-C725-4C88-9F3E-4F511FB9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04B-4839-48CC-9B31-3DE6712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028-989C-4788-BD05-885D832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A021-DDBC-44C0-8185-3F557BE8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496-1475-4063-BC4A-C0CDF53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73-1A8C-485C-9057-FC87A5E3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CFC-9AB6-42F5-999E-2C8C864C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E8C7-53B5-4961-A7D4-7CD95CD93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8880" y="2590920"/>
            <a:ext cx="44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236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00" y="3200400"/>
            <a:ext cx="78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media auth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lligent multimedia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(s) multimedia / 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6600" y="91440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90360" y="2819520"/>
            <a:ext cx="70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s.vu.nl/~eliens/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22240" y="777960"/>
            <a:ext cx="367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U @ Second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7400" y="4740120"/>
            <a:ext cx="38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ima Futur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9720" y="22255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85440" y="26067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76720" y="3063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5600" y="382572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16160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1480" y="352116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680" y="53499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39360" y="2819520"/>
            <a:ext cx="35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6400" y="2590920"/>
            <a:ext cx="33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@ 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9800" y="2819520"/>
            <a:ext cx="663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science / Vrije Univers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7-09-04T14:12:05Z</dcterms:modified>
  <cp:revision>6</cp:revision>
  <dc:subject/>
  <dc:title>Slide 1</dc:title>
</cp:coreProperties>
</file>