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D5D7-3EB5-43DE-92D2-32E7EA869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06D8-B8CF-4524-9113-88467C2B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C245-5EB4-4FC8-BC3A-3D93688E5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904A-8FFE-4BC6-967F-D98D80003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5BCB-6FAC-449B-8504-C49E2FC0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A010-9CF7-4116-BBEA-13F238A8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EE1D-5EBE-4F84-9E1E-355B9A80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233B-AF04-48D2-815D-A6F90FEF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05CD-68ED-4C7E-A300-F34EA69C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1073-E74C-404D-9E21-7E7DBD9F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183A-75EB-41D1-8A6A-B429D155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E27F-A141-4561-9FD7-44A7862C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CD86-144C-4A9D-AF32-1546672D7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905120" y="1828800"/>
            <a:ext cx="16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n 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3440" y="2057400"/>
            <a:ext cx="81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let the fun begi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07680" y="1371600"/>
            <a:ext cx="79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's be serious – X is not a (simple) ga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6160" y="3429000"/>
            <a:ext cx="690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X in { ICT, climate, promotion, …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883960" y="1789200"/>
            <a:ext cx="39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ference model for serious gam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7720" y="2590920"/>
            <a:ext cx="851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reference model for serious gam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77640" y="1198440"/>
            <a:ext cx="85636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ul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- service management protoco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outco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- learning proc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- intellectual satisf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ffor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- study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ttach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- corporate id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consequenc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- job qualifi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cenario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problem(s) service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war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service level agre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02600" y="533520"/>
            <a:ext cx="70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 service management ga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88560" y="2514600"/>
            <a:ext cx="73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me engine architecture requirement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6160" y="2362320"/>
            <a:ext cx="760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ndering system -- 2D/3D graph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put system -- user inter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nd system -- ambient and re-ac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sics system -- for the blockbus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imation system -- motion of objects and charac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tificial intelligence system -- for real challenge(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87840" y="838080"/>
            <a:ext cx="25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373040" y="2438280"/>
            <a:ext cx="642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chnical and artistic iss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449000" y="2286000"/>
            <a:ext cx="614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be creativ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320080" y="545004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is, let’s begin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777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600" y="1143000"/>
            <a:ext cx="89154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playing video gam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is a waste of ti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963800" y="209700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ly, let’s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47360" y="5410080"/>
            <a:ext cx="44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terclass gam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5040" y="685800"/>
            <a:ext cx="810252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.. is the move from the verbal to the visual a los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a gai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ld it be that, due to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.. it has to be handled visuall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the verbal is no longer adequate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59600" y="1295280"/>
            <a:ext cx="7678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at do video game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ave to teach u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bo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iteracy and learning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6520" y="380880"/>
            <a:ext cx="80917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situated cogniti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semiotic domain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35720" y="603360"/>
            <a:ext cx="345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e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88920" y="2209680"/>
            <a:ext cx="6818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ing the world in new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forming new affil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reparation for futur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48640" y="2286000"/>
            <a:ext cx="627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game ov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727520" y="457200"/>
            <a:ext cx="35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tical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8440" y="2743200"/>
            <a:ext cx="794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hink about the domain at a meta-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complex system of inter-related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6:39:10Z</dcterms:created>
  <dc:creator>User name placeholder</dc:creator>
  <dc:description/>
  <dc:language>en-US</dc:language>
  <cp:lastModifiedBy>User name placeholder</cp:lastModifiedBy>
  <dcterms:modified xsi:type="dcterms:W3CDTF">2007-02-26T19:07:00Z</dcterms:modified>
  <cp:revision>4</cp:revision>
  <dc:subject/>
  <dc:title>Slide 1</dc:title>
</cp:coreProperties>
</file>