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2AD-B5EF-42D3-BDAC-0939E7EB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2EBC-66CD-45E5-9CDD-38923CC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1FC-5C43-42BB-98D3-952DEDDE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9B42-AAFD-4ED4-9AC0-4EC6556C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040-8F59-4992-9383-5F1BF2A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F34-E7D1-4ED5-8563-0094933D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CCFA-D287-481E-B28D-EC11076B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68B9-AD3F-42C9-8679-EAF2066F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F81-56A1-4210-8BBB-41ABED68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C27-CF87-4747-8144-4C95CB1E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FA8-531F-4A61-801A-F336DA9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FC4-3B3A-4C5B-A240-7DB136C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DF27-181D-421E-85CD-B66E4B979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04360" y="83808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47800" y="1752480"/>
            <a:ext cx="708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e, Recommed, Regr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87240" y="3265560"/>
            <a:ext cx="576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d tours / serial recomm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4920" y="304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33360" y="5410080"/>
            <a:ext cx="188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on El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wen W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30492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2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3543120" cy="26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91320" y="1371600"/>
            <a:ext cx="3085920" cy="2314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5065560"/>
            <a:ext cx="33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T TECHNOLOGY / D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0" y="5486400"/>
            <a:ext cx="29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92360" y="457200"/>
            <a:ext cx="630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6240" y="1447920"/>
            <a:ext cx="703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ommender system that generates a collection of artwor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ccordance with  the users' prefer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rating of a small sample of ar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9720" y="6858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760" y="2743200"/>
            <a:ext cx="424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ies  =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ri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r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120" y="3581280"/>
            <a:ext cx="826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weighting scheme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is a difference metric on the proper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raph can be creat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ing a prioritized accessibility re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each artwork and a collection of related artwor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changing the weight for one of the proper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 case the tour is generated for the actual muse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iority ordering may be changed, resulting in a different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7720" y="60958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0560" y="1066680"/>
            <a:ext cx="251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 =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= 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 = behavi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 = recommend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 = fe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7840" y="1676520"/>
            <a:ext cx="28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s --  U x I x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mmendations --  U x 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7240" y="3124080"/>
            <a:ext cx="372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istributed recommender(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F -&gt;  U x I x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(s)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 x B -&gt; I x 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84360" y="411480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FEATUR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45560" y="4684680"/>
            <a:ext cx="51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time = 20sec, rating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artist(rembrandt) = r, topic(portrait) = r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97480" y="457200"/>
            <a:ext cx="42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MODEL 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50007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9080" y="114300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[ p1, p2 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re pk = [ f1 = v1, f2 = v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080" y="228600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nightwatch = [ artist=rembrandt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_guernica = [ artist=picasso, topic=group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700320" y="3808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68280" y="99072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= d(y,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y) &lt;= d(x,z) + d(z,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x,x) =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160" y="243828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1 = [ artist = rembrandt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2 = [ artist = rembrandt, name = nightwatch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3 = [ artist = picasso, topic = self-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4 = [ artist = picasso, name = guernica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0760" y="914400"/>
            <a:ext cx="40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d( a1, a2 ) &lt; d( a1, a3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n r(topic) &lt; r(arti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240" y="3998880"/>
            <a:ext cx="54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ice in sequence: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1360" y="4724280"/>
            <a:ext cx="475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n = [ time = 20sec, forward = ak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n = [ artist = rembrandt, topic = portrait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 = [ d(sn, ak ) &lt; d(sn, s_{n+1})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8720" y="594360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 / REFI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08560" y="457200"/>
            <a:ext cx="51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43040" y="1143000"/>
            <a:ext cx="43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mensions involved in r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vs neg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vs community/collabo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eature-based vs item-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760" y="3200400"/>
            <a:ext cx="43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: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 |-&gt; s_{n+1} / [ a1, a2, ... 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2360" y="3962520"/>
            <a:ext cx="611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al interpretation -- use d(sn, ak) &lt; d(sn, s_{n+1}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sitive interpretation -- increase w(feature(ak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gative interpretation -- decrease w(feature(s_{n+1}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360" y="571500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VE / NEGATIV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478920" y="45720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880" y="1295280"/>
            <a:ext cx="808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this paper we have shown how to adap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guided to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tracking expert users by modify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tached to the 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ontributed to the construction of this t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pplication of these techniques requires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hoices are discre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hence do not apply to arbitrary navigation in virtual environ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ess we find proper ways to encode such navigation as a s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ite collection of discrete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 in the discrete case, however, we must be able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rm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avigation path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n order to compare and weigh the con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the experts invol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 have generalized our approach to a wider clas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erial recommende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and indicated how to apply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revision of rating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an incremental fashion to adapt an existing tou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 preferences, reflecting 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ual navigation behavio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us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1840" y="304920"/>
            <a:ext cx="58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Advice and Regret for Serial Recommen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3200" y="762120"/>
            <a:ext cx="82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, Recommend, Regret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xpert-based Approach to the Personalization of Guided Tou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360" y="228600"/>
            <a:ext cx="194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960" y="2246400"/>
            <a:ext cx="6342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LLIGENT GUIDANCE --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REMENTAL ADAPTATION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IAL RECOMMENDER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ENT METR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S FOR FEEDBACK DISCREP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7440" y="304920"/>
            <a:ext cx="55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MMENDER SYSTEMS -- BRIEF OVER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29200" y="914400"/>
            <a:ext cx="742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ic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cial-based -- dependent on (group) rating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-based -- dependent on features of item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methods -- combining predic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9040" y="3313080"/>
            <a:ext cx="73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at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value representing a user's inter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commend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item(s) that might be of interest to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-- a function to measure the accuracy of recommend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41720" y="5141880"/>
            <a:ext cx="73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ial recommender --    predicts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xpert (obsessive)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99480" y="41760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 PRELIMINARIES -- DECISION THE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640" y="1066680"/>
            <a:ext cx="844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ical prediction theory a prediction is a sequence of 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1, x2, ... that results from a stationary stochastic proc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isk of the prediction is taken to be the expected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accumul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unc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ing the discrepancy between predicted values and actual outco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6240" y="29718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ariant: [Cesa-Bianchi and Lugosi (2006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1040" y="3468600"/>
            <a:ext cx="8340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orecast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=  an entity that gives a prediction for an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one or mor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r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(s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actual sequences stored in a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deviation of the forecaster with the actual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diction tas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 minimimizing the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unction by choo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best expert for advice for each element of a prediction sequ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use a weighting factor 0 &lt;= bi &lt;= 1 for each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indicate the credibility of the experts' ad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83280" y="228600"/>
            <a:ext cx="36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191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90960" cy="3962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760" y="569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pt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ga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39080" y="399888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ete step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5410080"/>
            <a:ext cx="31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183280" y="304920"/>
            <a:ext cx="35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RAMOV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SSIER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79132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4240" y="68580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ation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56520" y="460836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discret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3920" y="12556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 della Dea 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3800" y="53341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XPERT USER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038480" y="380880"/>
            <a:ext cx="45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D TOURS IN DIGITAL DOSSI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320" y="1219320"/>
            <a:ext cx="80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(viewpoint) navigation in virtual spa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imation explaining, for example, the construction of an artwork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(narrative) presentation of a sequence of concept 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5920" y="4952880"/>
            <a:ext cx="684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must be possible to normalize interaction 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34280" y="457200"/>
            <a:ext cx="47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ATION BY EXPERT R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7680" y="1295280"/>
            <a:ext cx="8038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cessor function S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each node n S(n) = { n1,...,nk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ign to each expert i a weight 0 &lt;= bi &lt;=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cating the relevance of expert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expe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sume to have an advice ai = x, with weight bi and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 S(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al advice will be a(n) =ai(n) with weight bi  and w(ei) &gt; w(ej) for i != 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f no suitable advice ai(n) exists, we may query the user to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ich expert has preference, and adapt the we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he experts according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05320" y="457200"/>
            <a:ext cx="52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LIGENT GUIDANCE – REALIZATION 1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143000"/>
            <a:ext cx="830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tering the information space according to the user's perspective,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 agents, that (pro) actively aid the user in searching the information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505320" cy="2273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5120" y="3886200"/>
            <a:ext cx="3790800" cy="2459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876920" y="2133720"/>
            <a:ext cx="3714480" cy="240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9320" y="52578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55240" y="54100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9:21:28Z</dcterms:created>
  <dc:creator>User name placeholder</dc:creator>
  <dc:description/>
  <dc:language>en-US</dc:language>
  <cp:lastModifiedBy>User name placeholder</cp:lastModifiedBy>
  <dcterms:modified xsi:type="dcterms:W3CDTF">2007-04-29T12:30:11Z</dcterms:modified>
  <cp:revision>3</cp:revision>
  <dc:subject/>
  <dc:title>Slide 1</dc:title>
</cp:coreProperties>
</file>