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D6C-B398-4C96-8554-E91C234E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FAB-47CF-4647-BD8F-BBE468F2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948-4188-481D-9D5C-342A40CE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2FC-7C60-4922-96FD-718850B7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0FF-EF3E-490F-AFC4-6B245831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C08-C12A-41FA-B44C-6937FDA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F4AF-613F-4AC6-A0E1-AD8AA871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E39-6DC3-4546-8C8A-2E3D8D72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99D-9707-433E-ADEB-5B7313A5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900-8260-451F-B5B1-2F43E4F4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4A4-6A9D-4661-8B98-4315265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00B-0FEA-4ED6-84CF-877F90BE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AE0D-7F66-495B-BB21-1D9C30E2F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2360" y="281952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581640" y="2819520"/>
            <a:ext cx="209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or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as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77080" y="259092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581280" y="2362320"/>
            <a:ext cx="214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4290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78160" y="25909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76360" y="259092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14240" y="2895480"/>
            <a:ext cx="437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as 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03680" y="304812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 is a social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5909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2360" y="2819520"/>
            <a:ext cx="259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77440" y="25909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76720" y="259092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by th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77800" y="2590920"/>
            <a:ext cx="19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2590920"/>
            <a:ext cx="28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582720" y="2819520"/>
            <a:ext cx="173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560" y="2438280"/>
            <a:ext cx="259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2000" y="3276720"/>
            <a:ext cx="25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2590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game pl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76720" y="2590920"/>
            <a:ext cx="214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583080" y="281952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1600" y="2590920"/>
            <a:ext cx="44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s of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82720" y="28195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680" y="2590920"/>
            <a:ext cx="33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is not 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581640" y="281952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82000" y="28195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43200" y="2606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4840" y="281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582360" y="281952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10600" y="274320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63040" y="2590920"/>
            <a:ext cx="40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 compu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4920" y="281952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     game    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3440" y="281952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5120" y="2819520"/>
            <a:ext cx="56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entered multimed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2720" y="274320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581280" y="281952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29000" y="2819520"/>
            <a:ext cx="214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89840" y="2438280"/>
            <a:ext cx="388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1280" y="3276720"/>
            <a:ext cx="381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sthetic ju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4:05:49Z</dcterms:created>
  <dc:creator>User name placeholder</dc:creator>
  <dc:description/>
  <dc:language>en-US</dc:language>
  <cp:lastModifiedBy>User name placeholder</cp:lastModifiedBy>
  <dcterms:modified xsi:type="dcterms:W3CDTF">2006-10-14T15:37:50Z</dcterms:modified>
  <cp:revision>5</cp:revision>
  <dc:subject/>
  <dc:title>Slide 1</dc:title>
</cp:coreProperties>
</file>