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89D98-F635-4C8A-B93F-FB738AFC1C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25C23-6C8E-404D-929C-899CF7A1BD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402D1-8EE3-470D-8946-428A025727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8946A-A85F-4085-BC4F-0EA9DF8C82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4E252-6F52-4995-AF9A-39BD9C4126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E28CD-CE31-4D76-A9B1-4F2BFF8D53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C4E65-A680-48B3-A328-38491792F9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4E4D0-BC55-4638-931F-D836A2D7D8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E9ADF-DAA0-4FCF-AD67-A4B7088435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8F184-7927-445C-BC25-9CC63E40D1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21C8A-48E2-40C9-B329-94443F1567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04D1C-9689-43CE-BF52-EEF100FB8A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9DF73-68E2-45EA-A94C-A6412140CC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7F974-1F4B-40AE-AA45-4E02301B2B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26CAC-B78C-4083-AA12-611706152D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C5DF9-1FB4-4F69-8D1A-F523539BA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B35D9-868A-4402-B326-9A7EBD950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F6EB7-239E-48A9-BC76-9D994B3E9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547D5-4784-4558-AE16-839574F69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C7A50-9C69-405B-AEF3-6DD7372A0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F6777-9F42-4C9E-BDCF-E3BC0A376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AF626-9109-4E60-899A-75B9E08DB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506E6-EE36-4780-AC78-35C46633E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2A512-0B09-464B-90EF-5809597FA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D8734-F552-4F12-B9E3-B064FAACF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DA4CF-1705-4C01-97FE-63366A89B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58FD6-BE3C-46A3-BC4C-B341F3609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ADAC1-4E09-4535-B4DA-433B00DA21A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Vrije Universiteit Amsterda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814A9-903B-41AB-A6A8-E9B67E7A78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1680" y="1142640"/>
            <a:ext cx="82864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PANORAMA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Rich VRML Platform For Online Gamin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856800" y="4714560"/>
            <a:ext cx="4357800" cy="1042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Si Yin    Anton Elie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Vrije Universiteit Amsterda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3" descr="C:\Documents and Settings\Administrator\Desktop\title.jpg"/>
          <p:cNvPicPr/>
          <p:nvPr/>
        </p:nvPicPr>
        <p:blipFill>
          <a:blip r:embed="rId1"/>
          <a:stretch/>
        </p:blipFill>
        <p:spPr>
          <a:xfrm>
            <a:off x="6072120" y="3405240"/>
            <a:ext cx="3071880" cy="34527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hoto Share Applic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97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Vrije Universiteit Amsterda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4F538-8EAA-4397-AEF8-6E7C859E67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2" descr="D:\Work\PANORAMA\ShortPaper\figure3_2.jpg"/>
          <p:cNvPicPr/>
          <p:nvPr/>
        </p:nvPicPr>
        <p:blipFill>
          <a:blip r:embed="rId2"/>
          <a:stretch/>
        </p:blipFill>
        <p:spPr>
          <a:xfrm>
            <a:off x="1357200" y="1643040"/>
            <a:ext cx="6318360" cy="44290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" descr="C:\Documents and Settings\Administrator\Desktop\vu.gif"/>
          <p:cNvPicPr/>
          <p:nvPr/>
        </p:nvPicPr>
        <p:blipFill>
          <a:blip r:embed="rId3"/>
          <a:stretch/>
        </p:blipFill>
        <p:spPr>
          <a:xfrm>
            <a:off x="8497800" y="0"/>
            <a:ext cx="646200" cy="5857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dvantages to other Online Gaming Platform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ree and Open sour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All the players and tools needed can be found free or open-source on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You can totally build up your game for fre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ut performance of VRM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otally a 3D game engin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High rendering spe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Open standard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DirectX9 fully support, you can port your effects easil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oyalty free develop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ree authoring tools available(Flux, VrmlPad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You can also build your world from Text Editor (It’s also very convenient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Vrije Universiteit Amsterda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C12FF-93B0-448B-AEF6-8444D073D3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2" descr="C:\Documents and Settings\Administrator\Desktop\vu.gif"/>
          <p:cNvPicPr/>
          <p:nvPr/>
        </p:nvPicPr>
        <p:blipFill>
          <a:blip r:embed="rId1"/>
          <a:stretch/>
        </p:blipFill>
        <p:spPr>
          <a:xfrm>
            <a:off x="8497800" y="0"/>
            <a:ext cx="646200" cy="5857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4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1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6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1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8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1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0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2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4" dur="5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6" dur="500" fill="hold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8" dur="500" fill="hold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2" dur="500" fill="hold"/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6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5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500" fill="hold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2" dur="500" fill="hold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4" dur="500" fill="hold"/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500" fill="hold"/>
                                        <p:tgtEl>
                                          <p:spTgt spid="1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isadvantage to other online Gaming platform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patibility problem among different player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Hard to find some worlds can be played as same using different player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ome players have their own special feature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o automatic installation on today's browser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User has to install the plug-in mannualy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Vrije Universiteit Amsterda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56312-A69D-438E-A02D-70068F2CE3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2" descr="C:\Documents and Settings\Administrator\Desktop\vu.gif"/>
          <p:cNvPicPr/>
          <p:nvPr/>
        </p:nvPicPr>
        <p:blipFill>
          <a:blip r:embed="rId1"/>
          <a:stretch/>
        </p:blipFill>
        <p:spPr>
          <a:xfrm>
            <a:off x="8497800" y="0"/>
            <a:ext cx="646200" cy="5857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0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2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4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6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4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6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new design model for multi-user support in VRML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pen-source development environmen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t’s not only for games, but can also used in other web 3d application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bine Google UI to overcome the tedious work in programming the interface in VRML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Vrije Universiteit Amsterda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53E30-03BC-4D6F-852A-CDED800B6B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Picture 2" descr="C:\Documents and Settings\Administrator\Desktop\vu.gif"/>
          <p:cNvPicPr/>
          <p:nvPr/>
        </p:nvPicPr>
        <p:blipFill>
          <a:blip r:embed="rId1"/>
          <a:stretch/>
        </p:blipFill>
        <p:spPr>
          <a:xfrm>
            <a:off x="8497800" y="0"/>
            <a:ext cx="646200" cy="5857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Q&amp;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118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Vrije Universiteit Amsterda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CB566-B422-4C32-BCE7-87AAB76405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2" descr="C:\Documents and Settings\Administrator\Desktop\vu.gif"/>
          <p:cNvPicPr/>
          <p:nvPr/>
        </p:nvPicPr>
        <p:blipFill>
          <a:blip r:embed="rId1"/>
          <a:stretch/>
        </p:blipFill>
        <p:spPr>
          <a:xfrm>
            <a:off x="8497800" y="0"/>
            <a:ext cx="646200" cy="5857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Problems in Traditional VRML Gam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w quality ima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mple Polyg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ull textu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oor Light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o communication facili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ngle us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corporate with other applic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C:\Documents and Settings\Administrator\Desktop\wasp-soccer1.jpg"/>
          <p:cNvPicPr/>
          <p:nvPr/>
        </p:nvPicPr>
        <p:blipFill>
          <a:blip r:embed="rId1"/>
          <a:stretch/>
        </p:blipFill>
        <p:spPr>
          <a:xfrm>
            <a:off x="2401920" y="2066760"/>
            <a:ext cx="4181400" cy="4645080"/>
          </a:xfrm>
          <a:prstGeom prst="rect">
            <a:avLst/>
          </a:prstGeom>
          <a:ln w="0">
            <a:noFill/>
          </a:ln>
        </p:spPr>
      </p:pic>
      <p:sp>
        <p:nvSpPr>
          <p:cNvPr id="54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EA2B8-5788-4DAA-BC3A-FB908D0E2E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Vrije Universiteit Amsterda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C:\Documents and Settings\Administrator\Desktop\vu.gif"/>
          <p:cNvPicPr/>
          <p:nvPr/>
        </p:nvPicPr>
        <p:blipFill>
          <a:blip r:embed="rId2"/>
          <a:stretch/>
        </p:blipFill>
        <p:spPr>
          <a:xfrm>
            <a:off x="8497800" y="0"/>
            <a:ext cx="646200" cy="5857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" dur="5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" dur="500" fill="hold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VRML Games Toda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igh quality ima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plex polygon and texture thanks to the fast video car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irectX9 fully suppor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hader Program in VRM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ut communication problems still haven’t been solve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78CFA-466C-43DA-94C0-2B90C66470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2" descr="C:\Documents and Settings\Administrator\Desktop\2.jpg"/>
          <p:cNvPicPr/>
          <p:nvPr/>
        </p:nvPicPr>
        <p:blipFill>
          <a:blip r:embed="rId1"/>
          <a:stretch/>
        </p:blipFill>
        <p:spPr>
          <a:xfrm>
            <a:off x="2262240" y="1994040"/>
            <a:ext cx="4906800" cy="5949720"/>
          </a:xfrm>
          <a:prstGeom prst="rect">
            <a:avLst/>
          </a:prstGeom>
          <a:ln w="0">
            <a:noFill/>
          </a:ln>
        </p:spPr>
      </p:pic>
      <p:sp>
        <p:nvSpPr>
          <p:cNvPr id="61" name="Footer Placeholder 4"/>
          <p:cNvSpPr/>
          <p:nvPr/>
        </p:nvSpPr>
        <p:spPr>
          <a:xfrm>
            <a:off x="3071880" y="649296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Vrije Universiteit Amsterda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" descr="C:\Documents and Settings\Administrator\Desktop\vu.gif"/>
          <p:cNvPicPr/>
          <p:nvPr/>
        </p:nvPicPr>
        <p:blipFill>
          <a:blip r:embed="rId2"/>
          <a:stretch/>
        </p:blipFill>
        <p:spPr>
          <a:xfrm>
            <a:off x="8497800" y="0"/>
            <a:ext cx="646200" cy="5857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0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2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6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4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6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6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8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lternative Solution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munication Serv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ompatibility Problem with other player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Not open enough for developer to expan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Expensive charges, licenses, user number limit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LP with socke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An academic research, not mature enoug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an only run  in I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Low Performanc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Jav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Hard to integrate and slow development perio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Low Performanc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Footer Placeholder 3"/>
          <p:cNvSpPr/>
          <p:nvPr/>
        </p:nvSpPr>
        <p:spPr>
          <a:xfrm>
            <a:off x="3286080" y="635796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Vrije Universiteit Amsterda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B2DDA-EFE9-4228-9F62-520C9CE2B2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2" descr="C:\Documents and Settings\Administrator\Desktop\vu.gif"/>
          <p:cNvPicPr/>
          <p:nvPr/>
        </p:nvPicPr>
        <p:blipFill>
          <a:blip r:embed="rId1"/>
          <a:stretch/>
        </p:blipFill>
        <p:spPr>
          <a:xfrm>
            <a:off x="8497800" y="0"/>
            <a:ext cx="646200" cy="5857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4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7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6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7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8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0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4" dur="5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6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8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0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2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4" dur="50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6" dur="500" fill="hold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8" dur="500" fill="hold"/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2" dur="500" fill="hold"/>
                                        <p:tgtEl>
                                          <p:spTgt spid="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4" dur="500" fill="hold"/>
                                        <p:tgtEl>
                                          <p:spTgt spid="6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6" dur="500" fill="hold"/>
                                        <p:tgtEl>
                                          <p:spTgt spid="6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8" dur="5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" dur="50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1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" dur="500" fill="hold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1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" dur="500" fill="hold"/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he PANORAMA Projec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atform to show self-reflectio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telligent, Interactive and visually good looking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nhance the awareness within the around environmen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Vrije Universiteit Amsterda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40930-ED24-4E01-80FB-3CE9355F45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2" descr="C:\Documents and Settings\Administrator\Desktop\vu.gif"/>
          <p:cNvPicPr/>
          <p:nvPr/>
        </p:nvPicPr>
        <p:blipFill>
          <a:blip r:embed="rId1"/>
          <a:stretch/>
        </p:blipFill>
        <p:spPr>
          <a:xfrm>
            <a:off x="8497800" y="0"/>
            <a:ext cx="646200" cy="5857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ystem Desig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ake VRML World For the Game and other application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realistic 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Interaction with user (web cam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se AJAX + EAI to set up a communication facility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requent asynchronize communication with the server so you can talk with other guy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Don’t have to refresh the page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se Google Web Toolkits to make control panel and integrate with other web conten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Overcome the weakness of UI in VRM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Elegantly  work with other web elements(form, text, tags…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Vrije Universiteit Amsterda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69853-62AF-4594-B0E2-B99D84DE46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2" descr="C:\Documents and Settings\Administrator\Desktop\vu.gif"/>
          <p:cNvPicPr/>
          <p:nvPr/>
        </p:nvPicPr>
        <p:blipFill>
          <a:blip r:embed="rId1"/>
          <a:stretch/>
        </p:blipFill>
        <p:spPr>
          <a:xfrm>
            <a:off x="8497800" y="0"/>
            <a:ext cx="646200" cy="5857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2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2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2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4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8" dur="5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2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0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3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2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4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3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6" dur="5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3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8" dur="500" fill="hold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2" dur="500" fill="hold"/>
                                        <p:tgtEl>
                                          <p:spTgt spid="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4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4" dur="500" fill="hold"/>
                                        <p:tgtEl>
                                          <p:spTgt spid="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6" dur="500" fill="hold"/>
                                        <p:tgtEl>
                                          <p:spTgt spid="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8" dur="5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5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2" dur="500" fill="hold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ystem Architectur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0040" y="1500120"/>
            <a:ext cx="8229600" cy="452592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Vrije Universiteit Amsterda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79CCD-2BBB-44BB-83B7-E3E58D2CD8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3" descr="D:\Work\PANORAMA\ShortPaper\figure1.jpg"/>
          <p:cNvPicPr/>
          <p:nvPr/>
        </p:nvPicPr>
        <p:blipFill>
          <a:blip r:embed="rId1"/>
          <a:stretch/>
        </p:blipFill>
        <p:spPr>
          <a:xfrm>
            <a:off x="1571760" y="1571760"/>
            <a:ext cx="5902200" cy="37861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2" descr="C:\Documents and Settings\Administrator\Desktop\vu.gif"/>
          <p:cNvPicPr/>
          <p:nvPr/>
        </p:nvPicPr>
        <p:blipFill>
          <a:blip r:embed="rId2"/>
          <a:stretch/>
        </p:blipFill>
        <p:spPr>
          <a:xfrm>
            <a:off x="8497800" y="0"/>
            <a:ext cx="646200" cy="5857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mplement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rasnfer value through the EAI interfac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Document.Contact3D.setNodeEventIn(node, field, value); # send the value in VRM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Browser.loadURL(“OnEvent(par)”, v); # call the function out of VRM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JAX request made in Javascript or the Google RPC at clien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et Timeout value smaller enough if you want to refresh it frequentl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rver page can be implemented in whatever way you like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GI, PHP, Perl, and Java with a databas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hink about the GTalk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gramming in Java to make the control interface in GWT saves lot of time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It’s not only on the HTML side, but also for the VRM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rogramming UI in VRML is time consum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Vrije Universiteit Amsterda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16F27-CF19-483F-9839-462C2D4C84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2" descr="C:\Documents and Settings\Administrator\Desktop\vu.gif"/>
          <p:cNvPicPr/>
          <p:nvPr/>
        </p:nvPicPr>
        <p:blipFill>
          <a:blip r:embed="rId1"/>
          <a:stretch/>
        </p:blipFill>
        <p:spPr>
          <a:xfrm>
            <a:off x="8497800" y="0"/>
            <a:ext cx="646200" cy="5857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2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6" dur="5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8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0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7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2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7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4" dur="500" fill="hold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8" dur="500" fill="hold"/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0" dur="5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2" dur="500" fill="hold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4" dur="500" fill="hold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6" dur="500" fill="hold"/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500" fill="hold"/>
                                        <p:tgtEl>
                                          <p:spTgt spid="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500" fill="hold"/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500" fill="hold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500" fill="hold"/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500" fill="hold"/>
                                        <p:tgtEl>
                                          <p:spTgt spid="8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500" fill="hold"/>
                                        <p:tgtEl>
                                          <p:spTgt spid="8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Jumping Tiger Gam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91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Vrije Universiteit Amsterda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47A77-88EF-40AE-A0FD-50CAF09F9D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2" descr="D:\Work\PANORAMA\ShortPaper\figure2_2.jpg"/>
          <p:cNvPicPr/>
          <p:nvPr/>
        </p:nvPicPr>
        <p:blipFill>
          <a:blip r:embed="rId2"/>
          <a:stretch/>
        </p:blipFill>
        <p:spPr>
          <a:xfrm>
            <a:off x="1500120" y="1714680"/>
            <a:ext cx="6286680" cy="44352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2" descr="C:\Documents and Settings\Administrator\Desktop\vu.gif"/>
          <p:cNvPicPr/>
          <p:nvPr/>
        </p:nvPicPr>
        <p:blipFill>
          <a:blip r:embed="rId3"/>
          <a:stretch/>
        </p:blipFill>
        <p:spPr>
          <a:xfrm>
            <a:off x="8497800" y="0"/>
            <a:ext cx="646200" cy="5857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5T11:18:05Z</dcterms:created>
  <dc:creator>S.Yin</dc:creator>
  <dc:description/>
  <dc:language>en-US</dc:language>
  <cp:lastModifiedBy>User name placeholder</cp:lastModifiedBy>
  <dcterms:modified xsi:type="dcterms:W3CDTF">2007-04-06T09:23:31Z</dcterms:modified>
  <cp:revision>57</cp:revision>
  <dc:subject/>
  <dc:title>PANORAMA A Rich VRML Platform For Online Gaming</dc:title>
</cp:coreProperties>
</file>