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356-11A5-4B32-BE76-250445AF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FC7-5489-4EA5-98F9-823F0DAB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AA5-B7B5-4B2A-9532-76060D0C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ACC-F11D-4F4D-A95B-B70E04F5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5CB-3489-4568-B541-C88D10B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2A1-F77C-41C7-BC96-76900A16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0BE-59EE-4B5F-A51C-1B552D65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037-D116-4192-B943-8537C18B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498-E5BB-4208-8E3F-827FB5DE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AE2-4E8F-4308-8166-8A9B6C51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4E8-2312-4503-83B9-2ADEF0D7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A5E-7496-4337-8BD1-3FED19E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F790-7962-485E-9C41-5F4563EC0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16400" y="13716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孫子兵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1:54:42Z</dcterms:created>
  <dc:creator>User name placeholder</dc:creator>
  <dc:description/>
  <dc:language>en-US</dc:language>
  <cp:lastModifiedBy>User name placeholder</cp:lastModifiedBy>
  <dcterms:modified xsi:type="dcterms:W3CDTF">2007-03-29T11:55:04Z</dcterms:modified>
  <cp:revision>1</cp:revision>
  <dc:subject/>
  <dc:title>Slide 1</dc:title>
</cp:coreProperties>
</file>