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240" y="1711440"/>
            <a:ext cx="139899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484200" indent="0" algn="ctr">
              <a:spcBef>
                <a:spcPts val="62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969840" algn="ctr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3" marL="1454040" algn="ctr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94004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9400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9400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../1.html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4200" spc="-1" strike="noStrike">
                <a:solidFill>
                  <a:srgbClr val="ccffff"/>
                </a:solidFill>
                <a:latin typeface="Arial"/>
              </a:rPr>
              <a:t>Web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60600" y="3251160"/>
            <a:ext cx="11530080" cy="3006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9 October 1999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Http://www.cs.vu.nl/~eliens/online/courses/web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Topic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Preliminar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Web Application Infra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The Network Econom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The Object 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Web-based Education System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Site Development Step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Virtual Organizations - meta 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Case Studie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Conclusions - current developm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f the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s the Answer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hat i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9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Question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10T22:21:09Z</dcterms:modified>
  <cp:revision>32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