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ccffff"/>
                </a:solidFill>
                <a:latin typeface="Arial"/>
              </a:rPr>
              <a:t>Web Applications – The Object We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bining servers and client-applica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ultiple compone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ultiple technolog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(in construction) the ObjectWeb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e rest of us’  vs Microsof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munication via IIOP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76040" y="32508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ObjectWeb (3) - Jav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extensible browser - with Java apple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platform independ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dynam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de is uploaded from the serve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nd (3 tier) client/server applica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(not to forget) Servle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nd  CORB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orb" descr=""/>
          <p:cNvPicPr/>
          <p:nvPr/>
        </p:nvPicPr>
        <p:blipFill>
          <a:blip r:embed="rId1"/>
          <a:stretch/>
        </p:blipFill>
        <p:spPr>
          <a:xfrm>
            <a:off x="2155680" y="1870200"/>
            <a:ext cx="10998360" cy="36558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Java applet  with  OR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teps" descr=""/>
          <p:cNvPicPr/>
          <p:nvPr/>
        </p:nvPicPr>
        <p:blipFill>
          <a:blip r:embed="rId1"/>
          <a:stretch/>
        </p:blipFill>
        <p:spPr>
          <a:xfrm>
            <a:off x="2155680" y="1138320"/>
            <a:ext cx="10998360" cy="2519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410640" y="4351320"/>
            <a:ext cx="29365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1  get HTML  page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2  get applet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3  start applet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53960" y="4351320"/>
            <a:ext cx="29548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4 connect to ORB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5 get objects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6 access database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7 display results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dvanced -- browser plugi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extend browser with arbitrary functiona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tat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platform specif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 and C++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sf-xample" descr=""/>
          <p:cNvPicPr/>
          <p:nvPr/>
        </p:nvPicPr>
        <p:blipFill>
          <a:blip r:embed="rId1"/>
          <a:stretch/>
        </p:blipFill>
        <p:spPr>
          <a:xfrm>
            <a:off x="1814400" y="1284120"/>
            <a:ext cx="11658600" cy="5085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92440" y="530280"/>
            <a:ext cx="5700960" cy="47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ample -   San Francisco Framework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air" descr=""/>
          <p:cNvPicPr/>
          <p:nvPr/>
        </p:nvPicPr>
        <p:blipFill>
          <a:blip r:embed="rId1"/>
          <a:stretch/>
        </p:blipFill>
        <p:spPr>
          <a:xfrm>
            <a:off x="2868480" y="2438280"/>
            <a:ext cx="9209160" cy="34149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asic Client/Server Pai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gi" descr=""/>
          <p:cNvPicPr/>
          <p:nvPr/>
        </p:nvPicPr>
        <p:blipFill>
          <a:blip r:embed="rId1"/>
          <a:stretch/>
        </p:blipFill>
        <p:spPr>
          <a:xfrm>
            <a:off x="1554120" y="2682720"/>
            <a:ext cx="12436560" cy="1706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305240" y="5407200"/>
            <a:ext cx="6815160" cy="93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ommon Gateway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Interface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rver-side extended with CG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ObjectWeb (1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e rest of us -- Netscape ON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anaging Cont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oftware archite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ntent" descr=""/>
          <p:cNvPicPr/>
          <p:nvPr/>
        </p:nvPicPr>
        <p:blipFill>
          <a:blip r:embed="rId1"/>
          <a:stretch/>
        </p:blipFill>
        <p:spPr>
          <a:xfrm>
            <a:off x="2155680" y="2193840"/>
            <a:ext cx="11646000" cy="31672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naging Content (in the ObjectWeb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netscape" descr=""/>
          <p:cNvPicPr/>
          <p:nvPr/>
        </p:nvPicPr>
        <p:blipFill>
          <a:blip r:embed="rId1"/>
          <a:stretch/>
        </p:blipFill>
        <p:spPr>
          <a:xfrm>
            <a:off x="2155680" y="1706400"/>
            <a:ext cx="12312720" cy="3983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Netscape Enterprise Serv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ObjectWeb (2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icrosoft  DNS/DN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DNS = Digital Nervous Syste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DNA = Dynamic Network Archite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ms" descr=""/>
          <p:cNvPicPr/>
          <p:nvPr/>
        </p:nvPicPr>
        <p:blipFill>
          <a:blip r:embed="rId1"/>
          <a:stretch/>
        </p:blipFill>
        <p:spPr>
          <a:xfrm>
            <a:off x="1913040" y="3394080"/>
            <a:ext cx="11837880" cy="19699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icrosoft Digital Nervous Syst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na" descr=""/>
          <p:cNvPicPr/>
          <p:nvPr/>
        </p:nvPicPr>
        <p:blipFill>
          <a:blip r:embed="rId1"/>
          <a:stretch/>
        </p:blipFill>
        <p:spPr>
          <a:xfrm>
            <a:off x="2390760" y="3071880"/>
            <a:ext cx="11241000" cy="2862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icrosoft  Dynamic Network Architectu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3:59:37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