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Web Development Tool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17120" y="1380600"/>
            <a:ext cx="1390644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sual (HTML) Edi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ite Manag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Tools -- rejuvenate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-Database Integration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ublication Wiz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odel-driven Web Genera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based on paper from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Piero Fraternali (WWW7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Tools (1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mail - threading, filters, MIME, ..., search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iling list -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majordom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/email-news Gateway - MHonArc  (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archives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ews reader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ferencing -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Tools (2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UD/MOO/MUSH - multi-user shared hallucin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at - CGI, IRC, Java, avatar-base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roupware - Lotus Not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dio communication - Cooltalk, Netmeet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deo communication - CuSeeMe, MBON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Concept Planning and Develop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Questions to ask yourself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ssues in concept developm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ment step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ite metaph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aken from Creating Internet Entertainmen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Questions to ask yoursel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hould you build a sit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Do you know how to use the Internet effectively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your industry/business onlin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Low cost or high cost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the concept practical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will create the sit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will develop/maintain the content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is the audienc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Does your site fit within a community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access unlimited or 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members-only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ssues in Concept Develop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nam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- micro or macro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metaphor - literal is possibl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 a flowchart - 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ser-centric - adaptive (cookie)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activity - email, form, bulletin, polls, chat,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ser evaluation - is it effectiv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evelopment Step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posal - short summar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cription of purpose - economic mod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ept - type, site, metaphor, multimedi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mplementation facilities - CGI, Java, Shockwav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 hardware, software, suppor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-table - research, production, development,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launch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intenance and upgrades - personn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xpansion options - programming and administ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9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endix - flowchart and demographic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0. Business plan - funding and market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etaphors for Sit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patial - cities, solar system, room, backyar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presentational - train, ship, radi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rson or entity - home, tax-wizar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 or event - camera, mechanical arm, fishca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iteral - functional control (tables and list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Visual Editors and Site Manage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YSIWYG, page upload, link repai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obe Site/Page Mill, NetObject Fusion, SoftQuad HotMetal, MS Frontp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Hypermedia Tool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symetrix Toolbook, Macromedia Director and Author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thoring, multimedia and synchronisation, 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atform-dependent - plugi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HTML-DBPL Integ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rge of Web and databas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grate HTML with database programming langu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ld Fusion, MS Active Server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orm editors, report writ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atabase publishing wiz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S Visual InterDev, Oracle Developer 2000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odel-driven Web Generato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verage of all developers activit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rom analysis to implement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ate-of-the art software enginee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racle Web Developer Suit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toWeb, OOHDM, ... - research prototyp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pplication Development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esent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 orthogonal features, with peer dign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Enabling communication - edu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creasing sense of isol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flexibi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varie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communication exper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nabling variety of pedag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Forms of communi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synchronous -  email, news, ftp, htt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nchronous - IRC, MUD/MOO, ch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ace-to-face - audio/video conferenc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Approach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e-to-one - peer assessment and email budd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e-to-many - lectures, present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ny-to-one - feedback and evalu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ny-to-many - virtual class, panel discus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4:02:22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