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97B7-F02C-4D50-BAFD-833EA363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52B6-91E9-434C-BD69-AE8FD7AD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D1A-55A5-48DE-B275-1EEC52B7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EF6-708F-4AD9-9CE0-51E66FD5A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327E-6488-4556-871E-D5B50AA3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A570-8C53-49F2-A014-13331DDD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52B-8F9A-4651-869E-F7D92C43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725-A46C-46E1-BCF8-E4A76C12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59E-4C5F-4230-81BF-7669BD05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9F3-23AC-4E20-A6FB-4FDC4915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CD31-FD59-49F2-AFA7-8384DA75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A051-231D-4EAB-863F-26555AB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9389-DB6F-4ADF-B714-A5BE622A1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s of Object-Oriented Software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28195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soft 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G COR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MG persisten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linking and embed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-enabling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centered -- text, graphics, repor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software -- standard programmatic interfa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object systems -- component object mod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4267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181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                                            linking, embedding, sto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s                          IBM SOM/DSOM, Apple OpenDo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Request Brok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3049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ation -- system   integration                                            OM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haring -- technology,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anagement Architecture -- interface  standards                   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Ser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Request Broker                                                            COR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Facilities -- file  manipulation, print queuing, e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 Objects --  spreadsheets, word process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MG standardization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cycle -- creation and dele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istence -- management of object stor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ming -- mapping names to refere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 notification -- registration of ev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actions, concurrency,  relationships,...,ti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istent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M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2280" y="297000"/>
            <a:ext cx="88394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istent objects                                                                        ODMG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 extension -- unified type 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Definition Language                                                            OD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types -- objects and liter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s -- Ref&lt; T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s -- List&lt; T &gt;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g&lt; T &gt;, Set&lt; T 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anipulation Language                                                      O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, delete, modify, refer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Query Language                                                                  OQL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ql(type&amp; value, const  char* query,..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6172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DMG-93 standardization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899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principles                                                                object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grammer feels that there is one 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binding                                                           C++ODL/OM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and literals -- embedded objects are litera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s -- not directly supported by C+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ts -- must be maintained by programm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s -- simulated by C++ data mem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38480" y="6248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binding -- C++ ODL/O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049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ODL/OML binding --                                                                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istinction between persistent and transient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integration of the query sub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ications to C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loading dot (access operator), r/l values,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ation efforts -- de facto market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DES/STEP, ODA, PCTE, OSI/NMF, ISO ODP, ANSI X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6172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standardization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2133720"/>
            <a:ext cx="746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versus compon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for interoper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va Plat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mple workgroup ap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ush -- extending hush with CORB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/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teratu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Java Plat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inno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net Applications -- the dial-tone of the Inte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ware Engineering -- long-term mainten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Design -- semantic compromi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 Development -- light weight clients, heavy weight serv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Science -- towards declarative, verifiable technolo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(in) Business -- standards for business objects and process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Village -- virtual world technolog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net-ba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Workgroup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1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00100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943600" y="6172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u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ng hush with 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ending a framewor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gacy problem -- granularity of wrapp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creation and access -- factories and t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-side adaptors -- to fit within native type syste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versus objects -- natural interfa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hush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447920"/>
            <a:ext cx="792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handler {                                                           handl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dispatch( in event data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3276720"/>
            <a:ext cx="8076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event : handler {                                                   even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long typ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long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long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52388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kit : handler {                                                                        ki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source(in string fil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eval(in string comman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resul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 roo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479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8600" y="49528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tem : handler {                                                             item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ove( in long x, in long y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7200"/>
            <a:ext cx="9144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widget : handler {                                                       widge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pa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eval( in string cmd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configure( in string option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pack( in string option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s versus components -- defini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oper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for distrib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mple workgroup ap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ding hush with CORB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029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keywords and phra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COM, Java, CORBA, OLE, persistent objects, ODM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8600" y="380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iterator {                                                                   iterat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nex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2895480"/>
            <a:ext cx="883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container {                                                               contain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length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firs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nex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urre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or walk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0880" y="5335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factory {                                                                 facto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kit kit(in string 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event event(in long 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895480"/>
            <a:ext cx="861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dot {                                                                             do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kit kit(in string 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container container(in string 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iterator iterator(in string 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factory hush(in string 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idgets mo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193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ule widget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canvas : hush::widget {                                                canv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vas create( in hush::widget anc, in string path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item circle( in long x, in long y, in long radius, in string options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/ other item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4876920"/>
            <a:ext cx="883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message : hush::widget {                                           mess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create( in hush::widget anc, in string path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text(in string tx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80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2280" y="457200"/>
            <a:ext cx="87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factory : hush::factory {                                               facto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::canvas  canvas(in string name, in string option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::message message(in string name, in string option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289548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dot : hush::dot {                                                                do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::canvas  canvas(in string 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::message message(in string 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::factory widgets(in string na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mote interpreter k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914400"/>
            <a:ext cx="9144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dot*      hush;      // (distributed) object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::dot*   widgets;   // widgets contains h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kit* tk;             // remote ki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::message* bann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 = widgets = widgets::dot::_bind (SERVER, argv[1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 = hush-&gt;kit("tk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ner = widgets-&gt;message("hello"); // must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catch (...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r &lt;&lt; "Unexpected exception ..."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-1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8600" y="304920"/>
            <a:ext cx="868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1) {                                                                          client (ct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text = readtext(); // from st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ner-&gt;text( text );  // display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-&gt;eval(tex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429000"/>
            <a:ext cx="883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application : public session {                                               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(int argc, char* argv[]) : session(argc,argv,"hello"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corba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mai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1219320"/>
            <a:ext cx="83822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application::main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-&gt;tra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t::declare("tk",t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* m = new hello(".hello"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-&gt;pack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:declare("hello",m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(); // make yourself available as 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K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2280" y="376200"/>
            <a:ext cx="8991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application::corba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::dot* dw = new widgets_dot_srv(); // create dot for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::Orbix.registerIOCallback(it_orbix_fd_open, FD_OPEN_CALLBA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::Orbix.registerIOCallback(it_orbix_fd_close, FD_CLOSE_CALLBACK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::Orbix.impl_is_ready(SERVER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::Orbix.processEvents(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 (...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"apparently something went wrong"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ing logical que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371600"/>
            <a:ext cx="87631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{                                                                                        cl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 = hush-&gt;kit("bp");       // A kit for BinPro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-&gt;eval("consult(facts)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(...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"An exception ... "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* text = readtex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k-&gt;eval(tex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* q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( (q = tk-&gt;result()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t &lt;&lt; "Result: " &lt;&lt; q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s versus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32767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chnology matr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 my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mote canv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193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draw_clt : public canvas {                                                 draw_cl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plug(widgets::canvas* x) { draw = x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operator()(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event* e = hush-&gt;event(_event-&gt;type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r &lt;&lt; "Getting event " &lt;&lt; e-&gt;type() &lt;&lt; end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&gt;x(_event-&gt;x()+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-&gt;y(_event-&gt;y()+1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event::_duplicate(e);  // CORB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event* res = draw-&gt;dispatch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canvas::operator()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858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clt(const widget* w,  char* path ) : canvas(w,path)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e("-background whit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y(200,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()-&gt;bind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gging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clt(char* path ) : canvas(path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e("-background whit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y(200,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()-&gt;bind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gging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533520"/>
            <a:ext cx="914400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press( event&amp; ) { dragging = 1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otion( event&amp; 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dragging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()-&gt;circle(e.x(),e.y(),2,"-fill black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-&gt;circle(e.x(),e.y(),3,"-fill yellow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release( event&amp;  ) { dragging = 0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 dragg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::canvas* dra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draw_srv : public canvas {                                              draw_srv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_srv( const widget* w,  char* path ) : canvas(w,path) {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metry(200,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()-&gt;bind(thi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gging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press( event&amp; ) { dragging = 1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motion( event&amp; e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dragging) circle(e.x(),e.y(),10,"-fill black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id release( event&amp;  ) { dragging = 0;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ed:  int dragg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ing i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1295280"/>
            <a:ext cx="8153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&lt;hush::item&gt;* rlist =  new list&lt;hush::item&gt;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m* it = draw-&gt;circle(40,40,10,"-fill yellow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item* rit = new item_srv(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ist-&gt;insert(r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= draw-&gt;circle(30,30,10,"-fill red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 = new item_srv(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ist-&gt;insert(r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h::container* rx = new list_srv&lt;hush::item&gt;(rlis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&lt;hush::item&gt;::declare("items",rx); // stor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&lt;hush::item&gt;* riter = rlist-&gt;walk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&lt;hush::item&gt;::declare("riter",rit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s versus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s -- compon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chnology matri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myths -- (r)evolu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3924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interoper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crosoft C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G CORB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MG per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86960" y="19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Java Platfo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tter of perspectiv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8696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ernet-bas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group appl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ent, workgroup, agenda, appointm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server, Java apple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13924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37160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                                                          substitutabil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independent deploy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third party com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ersistent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                                                                             ident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of instanti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ersistent) st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 of state and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ush -- extending hus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th CORB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ies -- (distributed) object tab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wrappers -- remote objec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-side adaptors -- transparant ty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9152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6765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Give a definition of the notion of components. How is this related to a definition of objects? Explain the difference between these defini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actual component technologies can you think of? How would you compare them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Describe Microsoft (D)COM, OMG CORBA, ODMG Persistent Objects. Is there any relation between these standard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Discuss the Java platform. What perspectives can you think of? Discuss pros and cons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Describe the architecture of an Internet-based workgroup application. What technology would you us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at issues may arise in extending a given library or framework with CORBA? Can you think of any solution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rther rea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2895480"/>
            <a:ext cx="838188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recommend  [Szyperski97], both as an introduction to component-technology, and as a reference for more advanced readers. For an introduction to CORBA, you may read  [Siegel96]. A readable account of the ODMG standard is given in  [Cattell94]. For more information on Java, again, visit http://www.javasoft.com . For information on (D)COM, look at http://www.microsoft.com/com . Learning how to program CORBA applications is probably best learned from the manuals that come with your CORBA distribu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33720" y="1676520"/>
            <a:ext cx="4800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oftware component is a uni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 with contractu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ed interfaces and explic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xt dependencies only.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component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ed independently and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ject to composition by thi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09360" y="56800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zypers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chnology matri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1828800"/>
            <a:ext cx="8763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  mobility   language   platform    ref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                      -                 -               *                 -               +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COM                  +                 -               *                +/-             +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BA                +                  -               *                *               +/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/Beans            -              classes       Java              *   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/RMI              +             classes       Java              *    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yager                +             objects       Java              *           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1936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:                   Myths      and        Re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-ware allows for  combining compon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emantical issues can be res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-ware simplifies software distribution and mainten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 becomes more comple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-ware support mega  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affects performance significant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-ware is a rev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, it is an evolution from OO  and C/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known sour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nen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describe the interaction between componen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anage variety and flexibility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guarantee critical system-wide properti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8T13:30:39Z</dcterms:created>
  <dc:creator>Faculteit Wiskunde en Informatica</dc:creator>
  <dc:description/>
  <dc:language>en-US</dc:language>
  <cp:lastModifiedBy>Faculteit Wiskunde en Informatica</cp:lastModifiedBy>
  <dcterms:modified xsi:type="dcterms:W3CDTF">1999-09-14T12:55:32Z</dcterms:modified>
  <cp:revision>18</cp:revision>
  <dc:subject/>
  <dc:title>Principles of Object-Oriented Software Development</dc:title>
</cp:coreProperties>
</file>