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4687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717-5AF3-469E-A649-788528CB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496-EEA6-4578-8397-905E4F5E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7C8-5C96-4426-B716-4E67184C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4E4-6E16-4AE3-8D86-9C9FB845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DC33-898E-4FCB-9735-2BC1BB0D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BA6-14CA-45C2-A236-D79BADD8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152-67F6-48D3-A7F8-6D8DB424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6B7-3BAB-4119-BE15-D2FF3AF8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76A9-6FEE-47E6-93FF-C78DF49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C78D-499B-4CA7-88B8-4437107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8418-6BD8-47C8-BB1F-E1CB2B64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4B71-D901-43AE-87B2-723AC953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A17B-64D8-472E-8F82-1FEAA78E1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1523880"/>
            <a:ext cx="2133720" cy="152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523880"/>
            <a:ext cx="2133720" cy="152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1680" y="1523880"/>
            <a:ext cx="2133720" cy="1524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66680" y="2438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2438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514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219320" y="236196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51460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2362320"/>
            <a:ext cx="30456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676520" y="2590560"/>
            <a:ext cx="304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419720" y="24382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243828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733920" y="2514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2514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724280" y="2362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1480" y="2514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010280" y="2514600"/>
            <a:ext cx="763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2209680"/>
            <a:ext cx="7632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2057400"/>
            <a:ext cx="75960" cy="914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2362320"/>
            <a:ext cx="7632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2666880"/>
            <a:ext cx="7632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2860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2286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6280" y="2438280"/>
            <a:ext cx="1012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ceptu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2200" y="2438280"/>
            <a:ext cx="12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senta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001000" y="2286000"/>
            <a:ext cx="703440" cy="7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6T13:28:34Z</dcterms:created>
  <dc:creator>Bastiaan Schönhage</dc:creator>
  <dc:description/>
  <dc:language>en-US</dc:language>
  <cp:lastModifiedBy>Bastiaan Schönhage</cp:lastModifiedBy>
  <cp:lastPrinted>1998-02-10T12:40:32Z</cp:lastPrinted>
  <dcterms:modified xsi:type="dcterms:W3CDTF">1998-02-17T16:12:03Z</dcterms:modified>
  <cp:revision>4</cp:revision>
  <dc:subject/>
  <dc:title>No Slide Title</dc:title>
</cp:coreProperties>
</file>