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5544800" cy="7315200"/>
  <p:notesSz cx="674687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7960" y="409824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90200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7884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17972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796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47884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17972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47280" y="382320"/>
            <a:ext cx="1399068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90200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77960" y="409824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90200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7884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17972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7796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547884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1017972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7280" y="382320"/>
            <a:ext cx="1399068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90200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1" marL="789120" indent="-304920">
              <a:spcBef>
                <a:spcPts val="726"/>
              </a:spcBef>
              <a:buClr>
                <a:srgbClr val="3333cc"/>
              </a:buClr>
              <a:buFont typeface="Arial"/>
              <a:buChar char="–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2" marL="1212840" indent="-2430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3" marL="1698480" indent="-244440">
              <a:spcBef>
                <a:spcPts val="726"/>
              </a:spcBef>
              <a:buClr>
                <a:srgbClr val="3333cc"/>
              </a:buClr>
              <a:buFont typeface="Arial"/>
              <a:buChar char="–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4" marL="2182680" indent="-24264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5" marL="2182680" indent="-242640">
              <a:spcBef>
                <a:spcPts val="726"/>
              </a:spcBef>
              <a:buClr>
                <a:srgbClr val="000066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6" marL="2182680" indent="-242640">
              <a:spcBef>
                <a:spcPts val="726"/>
              </a:spcBef>
              <a:buClr>
                <a:srgbClr val="000066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844200" y="6929280"/>
            <a:ext cx="4275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i="1" lang="en-GB" sz="1300" spc="-1" strike="noStrike">
                <a:solidFill>
                  <a:srgbClr val="0000ff"/>
                </a:solidFill>
                <a:latin typeface="LucidaSans"/>
              </a:rPr>
              <a:t>vrije</a:t>
            </a:r>
            <a:r>
              <a:rPr b="0" lang="en-GB" sz="1300" spc="-1" strike="noStrike">
                <a:solidFill>
                  <a:srgbClr val="8791a5"/>
                </a:solidFill>
                <a:latin typeface="LucidaSans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LucidaSans"/>
              </a:rPr>
              <a:t>Universiteit</a:t>
            </a:r>
            <a:r>
              <a:rPr b="0" lang="en-GB" sz="1300" spc="-1" strike="noStrike">
                <a:solidFill>
                  <a:srgbClr val="8791a5"/>
                </a:solidFill>
                <a:latin typeface="LucidaSans"/>
              </a:rPr>
              <a:t>    </a:t>
            </a:r>
            <a:r>
              <a:rPr b="0" i="1" lang="en-GB" sz="1300" spc="-1" strike="noStrike">
                <a:solidFill>
                  <a:srgbClr val="0000ff"/>
                </a:solidFill>
                <a:latin typeface="LucidaSans"/>
              </a:rPr>
              <a:t>amsterdam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17480" y="6929280"/>
            <a:ext cx="8131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LucidaSans"/>
              </a:rPr>
              <a:t>Postacademische Cursus Informatie Technologie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" name="VU-kip" descr=""/>
          <p:cNvPicPr/>
          <p:nvPr/>
        </p:nvPicPr>
        <p:blipFill>
          <a:blip r:embed="rId2"/>
          <a:stretch/>
        </p:blipFill>
        <p:spPr>
          <a:xfrm>
            <a:off x="14076360" y="6372360"/>
            <a:ext cx="127944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3280" y="812520"/>
            <a:ext cx="11958480" cy="129996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VU-kip" descr=""/>
          <p:cNvPicPr/>
          <p:nvPr/>
        </p:nvPicPr>
        <p:blipFill>
          <a:blip r:embed="rId2"/>
          <a:stretch/>
        </p:blipFill>
        <p:spPr>
          <a:xfrm>
            <a:off x="14076360" y="6372360"/>
            <a:ext cx="1279440" cy="868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844200" y="6929280"/>
            <a:ext cx="4275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i="1" lang="en-GB" sz="1300" spc="-1" strike="noStrike">
                <a:solidFill>
                  <a:srgbClr val="0000ff"/>
                </a:solidFill>
                <a:latin typeface="LucidaSans"/>
              </a:rPr>
              <a:t>vrije</a:t>
            </a:r>
            <a:r>
              <a:rPr b="0" lang="en-GB" sz="1300" spc="-1" strike="noStrike">
                <a:solidFill>
                  <a:srgbClr val="8791a5"/>
                </a:solidFill>
                <a:latin typeface="LucidaSans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LucidaSans"/>
              </a:rPr>
              <a:t>Universiteit</a:t>
            </a:r>
            <a:r>
              <a:rPr b="0" lang="en-GB" sz="1300" spc="-1" strike="noStrike">
                <a:solidFill>
                  <a:srgbClr val="8791a5"/>
                </a:solidFill>
                <a:latin typeface="LucidaSans"/>
              </a:rPr>
              <a:t>    </a:t>
            </a:r>
            <a:r>
              <a:rPr b="0" i="1" lang="en-GB" sz="1300" spc="-1" strike="noStrike">
                <a:solidFill>
                  <a:srgbClr val="0000ff"/>
                </a:solidFill>
                <a:latin typeface="LucidaSans"/>
              </a:rPr>
              <a:t>amsterdam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17480" y="6929280"/>
            <a:ext cx="8131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LucidaSans"/>
              </a:rPr>
              <a:t>Postacademische Cursus Informatie Technologie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ccffff"/>
                </a:solidFill>
                <a:latin typeface="Arial"/>
              </a:rPr>
              <a:t>The Application Infrastructure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77960" y="1706400"/>
            <a:ext cx="14407920" cy="82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34200" bIns="342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GB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90920" y="2682720"/>
            <a:ext cx="9845640" cy="44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7440" rIns="127440" tIns="63720" bIns="6372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1274760"/>
                <a:tab algn="l" pos="2549520"/>
                <a:tab algn="l" pos="3824280"/>
                <a:tab algn="l" pos="5099040"/>
                <a:tab algn="l" pos="6373800"/>
                <a:tab algn="l" pos="7648560"/>
                <a:tab algn="l" pos="8923320"/>
                <a:tab algn="l" pos="10198080"/>
              </a:tabLst>
            </a:pPr>
            <a:r>
              <a:rPr b="0" lang="en-GB" sz="3300" spc="-1" strike="noStrike">
                <a:solidFill>
                  <a:srgbClr val="000066"/>
                </a:solidFill>
                <a:latin typeface="Arial"/>
              </a:rPr>
              <a:t>The</a:t>
            </a:r>
            <a:endParaRPr b="0" lang="en-US" sz="33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1274760"/>
                <a:tab algn="l" pos="2549520"/>
                <a:tab algn="l" pos="3824280"/>
                <a:tab algn="l" pos="5099040"/>
                <a:tab algn="l" pos="6373800"/>
                <a:tab algn="l" pos="7648560"/>
                <a:tab algn="l" pos="8923320"/>
                <a:tab algn="l" pos="10198080"/>
              </a:tabLst>
            </a:pPr>
            <a:r>
              <a:rPr b="0" lang="en-GB" sz="33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0" lang="en-GB" sz="3300" spc="-1" strike="noStrike">
                <a:solidFill>
                  <a:srgbClr val="000066"/>
                </a:solidFill>
                <a:latin typeface="Arial"/>
              </a:rPr>
              <a:t>world </a:t>
            </a:r>
            <a:endParaRPr b="0" lang="en-US" sz="33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1274760"/>
                <a:tab algn="l" pos="2549520"/>
                <a:tab algn="l" pos="3824280"/>
                <a:tab algn="l" pos="5099040"/>
                <a:tab algn="l" pos="6373800"/>
                <a:tab algn="l" pos="7648560"/>
                <a:tab algn="l" pos="8923320"/>
                <a:tab algn="l" pos="10198080"/>
              </a:tabLst>
            </a:pPr>
            <a:r>
              <a:rPr b="0" lang="en-GB" sz="33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en-GB" sz="3300" spc="-1" strike="noStrike">
                <a:solidFill>
                  <a:srgbClr val="000066"/>
                </a:solidFill>
                <a:latin typeface="Arial"/>
              </a:rPr>
              <a:t>around  </a:t>
            </a:r>
            <a:endParaRPr b="0" lang="en-US" sz="33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1274760"/>
                <a:tab algn="l" pos="2549520"/>
                <a:tab algn="l" pos="3824280"/>
                <a:tab algn="l" pos="5099040"/>
                <a:tab algn="l" pos="6373800"/>
                <a:tab algn="l" pos="7648560"/>
                <a:tab algn="l" pos="8923320"/>
                <a:tab algn="l" pos="10198080"/>
              </a:tabLst>
            </a:pPr>
            <a:r>
              <a:rPr b="0" lang="en-GB" sz="3300" spc="-1" strike="noStrike">
                <a:solidFill>
                  <a:srgbClr val="000066"/>
                </a:solidFill>
                <a:latin typeface="Arial"/>
              </a:rPr>
              <a:t>                               </a:t>
            </a:r>
            <a:r>
              <a:rPr b="0" lang="en-GB" sz="3300" spc="-1" strike="noStrike">
                <a:solidFill>
                  <a:srgbClr val="000066"/>
                </a:solidFill>
                <a:latin typeface="Arial"/>
              </a:rPr>
              <a:t>you </a:t>
            </a:r>
            <a:endParaRPr b="0" lang="en-US" sz="33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1274760"/>
                <a:tab algn="l" pos="2549520"/>
                <a:tab algn="l" pos="3824280"/>
                <a:tab algn="l" pos="5099040"/>
                <a:tab algn="l" pos="6373800"/>
                <a:tab algn="l" pos="7648560"/>
                <a:tab algn="l" pos="8923320"/>
                <a:tab algn="l" pos="10198080"/>
              </a:tabLst>
            </a:pPr>
            <a:r>
              <a:rPr b="0" lang="en-GB" sz="3300" spc="-1" strike="noStrike">
                <a:solidFill>
                  <a:srgbClr val="000066"/>
                </a:solidFill>
                <a:latin typeface="Arial"/>
              </a:rPr>
              <a:t>                                        </a:t>
            </a:r>
            <a:r>
              <a:rPr b="0" lang="en-GB" sz="3300" spc="-1" strike="noStrike">
                <a:solidFill>
                  <a:srgbClr val="000066"/>
                </a:solidFill>
                <a:latin typeface="Arial"/>
              </a:rPr>
              <a:t>is</a:t>
            </a:r>
            <a:endParaRPr b="0" lang="en-US" sz="33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1274760"/>
                <a:tab algn="l" pos="2549520"/>
                <a:tab algn="l" pos="3824280"/>
                <a:tab algn="l" pos="5099040"/>
                <a:tab algn="l" pos="6373800"/>
                <a:tab algn="l" pos="7648560"/>
                <a:tab algn="l" pos="8923320"/>
                <a:tab algn="l" pos="10198080"/>
              </a:tabLst>
            </a:pPr>
            <a:r>
              <a:rPr b="0" lang="en-GB" sz="3300" spc="-1" strike="noStrike">
                <a:solidFill>
                  <a:srgbClr val="000066"/>
                </a:solidFill>
                <a:latin typeface="Arial"/>
              </a:rPr>
              <a:t>                                               </a:t>
            </a:r>
            <a:r>
              <a:rPr b="0" lang="en-GB" sz="3300" spc="-1" strike="noStrike">
                <a:solidFill>
                  <a:srgbClr val="000066"/>
                </a:solidFill>
                <a:latin typeface="Arial"/>
              </a:rPr>
              <a:t>changing</a:t>
            </a:r>
            <a:endParaRPr b="0" lang="en-US" sz="33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Application Integration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appintegration" descr=""/>
          <p:cNvPicPr/>
          <p:nvPr/>
        </p:nvPicPr>
        <p:blipFill>
          <a:blip r:embed="rId1"/>
          <a:stretch/>
        </p:blipFill>
        <p:spPr>
          <a:xfrm>
            <a:off x="1165320" y="1573200"/>
            <a:ext cx="13473000" cy="51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screen-worlds" descr=""/>
          <p:cNvPicPr/>
          <p:nvPr/>
        </p:nvPicPr>
        <p:blipFill>
          <a:blip r:embed="rId1"/>
          <a:stretch/>
        </p:blipFill>
        <p:spPr>
          <a:xfrm>
            <a:off x="0" y="0"/>
            <a:ext cx="16062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ff3300"/>
          </a:solidFill>
          <a:ln w="190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00ffff"/>
                </a:solidFill>
                <a:latin typeface="Arial"/>
              </a:rPr>
              <a:t>Recurring questions - Web Application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8000"/>
                </a:solidFill>
                <a:latin typeface="Arial"/>
              </a:rPr>
              <a:t>What is the economic model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8000"/>
                </a:solidFill>
                <a:latin typeface="Arial"/>
              </a:rPr>
              <a:t>Does it scale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8000"/>
                </a:solidFill>
                <a:latin typeface="Arial"/>
              </a:rPr>
              <a:t>Can you maintain the stuff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900" spc="-1" strike="noStrike">
                <a:solidFill>
                  <a:srgbClr val="008000"/>
                </a:solidFill>
                <a:latin typeface="Arial"/>
              </a:rPr>
              <a:t>Is there an </a:t>
            </a:r>
            <a:r>
              <a:rPr b="0" i="1" lang="en-GB" sz="2900" spc="-1" strike="noStrike">
                <a:solidFill>
                  <a:srgbClr val="008000"/>
                </a:solidFill>
                <a:latin typeface="Arial"/>
              </a:rPr>
              <a:t>installed base</a:t>
            </a:r>
            <a:r>
              <a:rPr b="0" lang="en-GB" sz="29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ibm-architecture" descr=""/>
          <p:cNvPicPr/>
          <p:nvPr/>
        </p:nvPicPr>
        <p:blipFill>
          <a:blip r:embed="rId1"/>
          <a:stretch/>
        </p:blipFill>
        <p:spPr>
          <a:xfrm>
            <a:off x="0" y="0"/>
            <a:ext cx="16322760" cy="77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The Building Blocks of Web Application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webapptopology" descr=""/>
          <p:cNvPicPr/>
          <p:nvPr/>
        </p:nvPicPr>
        <p:blipFill>
          <a:blip r:embed="rId1"/>
          <a:stretch/>
        </p:blipFill>
        <p:spPr>
          <a:xfrm>
            <a:off x="1814400" y="1544760"/>
            <a:ext cx="1217628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The Ubiqitous Clien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clientmodels" descr=""/>
          <p:cNvPicPr/>
          <p:nvPr/>
        </p:nvPicPr>
        <p:blipFill>
          <a:blip r:embed="rId1"/>
          <a:stretch/>
        </p:blipFill>
        <p:spPr>
          <a:xfrm>
            <a:off x="1295280" y="1573200"/>
            <a:ext cx="1295424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Web Application Server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webappinteraction" descr=""/>
          <p:cNvPicPr/>
          <p:nvPr/>
        </p:nvPicPr>
        <p:blipFill>
          <a:blip r:embed="rId1"/>
          <a:stretch/>
        </p:blipFill>
        <p:spPr>
          <a:xfrm>
            <a:off x="1295280" y="1573200"/>
            <a:ext cx="1308420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Business Logic?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buslogic" descr=""/>
          <p:cNvPicPr/>
          <p:nvPr/>
        </p:nvPicPr>
        <p:blipFill>
          <a:blip r:embed="rId1"/>
          <a:stretch/>
        </p:blipFill>
        <p:spPr>
          <a:xfrm>
            <a:off x="1036800" y="1573200"/>
            <a:ext cx="1321272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Java as the platform?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javasvcs" descr=""/>
          <p:cNvPicPr/>
          <p:nvPr/>
        </p:nvPicPr>
        <p:blipFill>
          <a:blip r:embed="rId1"/>
          <a:stretch/>
        </p:blipFill>
        <p:spPr>
          <a:xfrm>
            <a:off x="777960" y="1573200"/>
            <a:ext cx="1386036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1T09:17:39Z</dcterms:created>
  <dc:creator>Anton Eliens</dc:creator>
  <dc:description/>
  <dc:language>en-US</dc:language>
  <cp:lastModifiedBy>eliens</cp:lastModifiedBy>
  <cp:lastPrinted>1998-05-11T11:07:01Z</cp:lastPrinted>
  <dcterms:modified xsi:type="dcterms:W3CDTF">1999-10-09T13:56:06Z</dcterms:modified>
  <cp:revision>31</cp:revision>
  <dc:subject>CMG Course</dc:subject>
  <dc:title>Web Ap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vu.nl/~eliens/online/courses/cmg</vt:lpwstr>
  </property>
  <property fmtid="{D5CDD505-2E9C-101B-9397-08002B2CF9AE}" pid="9" name="LinkColor">
    <vt:r8>16711782</vt:r8>
  </property>
  <property fmtid="{D5CDD505-2E9C-101B-9397-08002B2CF9AE}" pid="10" name="MailAddress">
    <vt:lpwstr>eliens@cs.vu.nl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www\cmg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