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5544800" cy="73152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7884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179720" y="138060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47884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10179720" y="4098240"/>
            <a:ext cx="44766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7280" y="382320"/>
            <a:ext cx="1399068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902000" y="409824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902000" y="1380600"/>
            <a:ext cx="678456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4098240"/>
            <a:ext cx="13903200" cy="2481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77960" y="1380600"/>
            <a:ext cx="13903200" cy="52023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1" marL="789120" indent="-30492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2" marL="1212840" indent="-24300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3" marL="1698480" indent="-244440">
              <a:spcBef>
                <a:spcPts val="726"/>
              </a:spcBef>
              <a:buClr>
                <a:srgbClr val="3333cc"/>
              </a:buClr>
              <a:buFont typeface="Arial"/>
              <a:buChar char="–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4" marL="2182680" indent="-242640">
              <a:spcBef>
                <a:spcPts val="726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5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  <a:p>
            <a:pPr lvl="6" marL="2182680" indent="-242640">
              <a:spcBef>
                <a:spcPts val="726"/>
              </a:spcBef>
              <a:buClr>
                <a:srgbClr val="000066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73188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3280" y="812520"/>
            <a:ext cx="11958480" cy="1299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VU-kip" descr=""/>
          <p:cNvPicPr/>
          <p:nvPr/>
        </p:nvPicPr>
        <p:blipFill>
          <a:blip r:embed="rId2"/>
          <a:stretch/>
        </p:blipFill>
        <p:spPr>
          <a:xfrm>
            <a:off x="14076360" y="6372360"/>
            <a:ext cx="1279440" cy="86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9844200" y="6929280"/>
            <a:ext cx="4275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vrije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</a:t>
            </a: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Universiteit</a:t>
            </a:r>
            <a:r>
              <a:rPr b="0" lang="en-GB" sz="1300" spc="-1" strike="noStrike">
                <a:solidFill>
                  <a:srgbClr val="8791a5"/>
                </a:solidFill>
                <a:latin typeface="LucidaSans"/>
              </a:rPr>
              <a:t>    </a:t>
            </a:r>
            <a:r>
              <a:rPr b="0" i="1" lang="en-GB" sz="1300" spc="-1" strike="noStrike">
                <a:solidFill>
                  <a:srgbClr val="0000ff"/>
                </a:solidFill>
                <a:latin typeface="LucidaSans"/>
              </a:rPr>
              <a:t>amsterdam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17480" y="6929280"/>
            <a:ext cx="81313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LucidaSans"/>
              </a:rPr>
              <a:t>Postacademische Cursus Informatie Technologie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7280" y="382320"/>
            <a:ext cx="13990680" cy="46332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10 lessons from the Network Economy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77960" y="1693800"/>
            <a:ext cx="13903200" cy="4726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rmAutofit/>
          </a:bodyPr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networked relationships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 Business-to-Business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specialisations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Services rather than Conten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cannot be about pric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exchange of valu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goes beyond the Web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equity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reliability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63600" indent="-363600">
              <a:spcBef>
                <a:spcPts val="624"/>
              </a:spcBef>
              <a:buClr>
                <a:srgbClr val="3333cc"/>
              </a:buClr>
              <a:buFont typeface="Arial"/>
              <a:buChar char="•"/>
              <a:tabLst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0" lang="en-GB" sz="2500" spc="-1" strike="noStrike">
                <a:solidFill>
                  <a:srgbClr val="000066"/>
                </a:solidFill>
                <a:latin typeface="Arial"/>
              </a:rPr>
              <a:t>It is about people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471480" y="1058760"/>
            <a:ext cx="25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Jonathan Brigg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250560" y="5962680"/>
            <a:ext cx="37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om EMMA Masterclas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5040" y="704520"/>
            <a:ext cx="13990680" cy="59259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7200" rIns="97200" tIns="48600" bIns="48600" anchor="b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br>
              <a:rPr sz="3300"/>
            </a:b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Designing a Web site</a:t>
            </a:r>
            <a:br>
              <a:rPr sz="3300"/>
            </a:br>
            <a:br>
              <a:rPr sz="3300"/>
            </a:b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does not solve a problem.</a:t>
            </a:r>
            <a:br>
              <a:rPr sz="3300"/>
            </a:br>
            <a:br>
              <a:rPr sz="3300"/>
            </a:br>
            <a:br>
              <a:rPr sz="3300"/>
            </a:br>
            <a:br>
              <a:rPr sz="3300"/>
            </a:br>
            <a:r>
              <a:rPr b="0" lang="en-GB" sz="3300" spc="-1" strike="noStrike">
                <a:solidFill>
                  <a:srgbClr val="ffffff"/>
                </a:solidFill>
                <a:latin typeface="Arial"/>
              </a:rPr>
              <a:t>It creates a problem!</a:t>
            </a:r>
            <a:br>
              <a:rPr sz="3300"/>
            </a:br>
            <a:br>
              <a:rPr sz="3300"/>
            </a:b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580080" y="1058760"/>
            <a:ext cx="244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ean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97760" y="5362560"/>
            <a:ext cx="353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66720" y="3033720"/>
            <a:ext cx="17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Arial"/>
              </a:rPr>
              <a:t>Medi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350040" y="2750760"/>
            <a:ext cx="3214800" cy="1622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5662440" y="2187720"/>
            <a:ext cx="4667400" cy="21160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584680" y="1990440"/>
            <a:ext cx="4745160" cy="2523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45120" y="2681280"/>
            <a:ext cx="4437000" cy="1833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91040" y="2751120"/>
            <a:ext cx="4591080" cy="17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36720" y="3598920"/>
            <a:ext cx="3289320" cy="2468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eliens</cp:lastModifiedBy>
  <cp:lastPrinted>1998-05-11T11:07:01Z</cp:lastPrinted>
  <dcterms:modified xsi:type="dcterms:W3CDTF">1999-10-09T13:58:06Z</dcterms:modified>
  <cp:revision>31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