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31520" y="1604520"/>
            <a:ext cx="13167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4640" y="761760"/>
            <a:ext cx="11257200" cy="1439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bject-Oriented Software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92200" y="3048120"/>
            <a:ext cx="96296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ton Elië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rije Universiteit, Amsterd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online/courses/o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f-xample" descr=""/>
          <p:cNvPicPr/>
          <p:nvPr/>
        </p:nvPicPr>
        <p:blipFill>
          <a:blip r:embed="rId1"/>
          <a:stretch/>
        </p:blipFill>
        <p:spPr>
          <a:xfrm>
            <a:off x="1706400" y="1204920"/>
            <a:ext cx="10972800" cy="4765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423680" y="496800"/>
            <a:ext cx="54702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-   San Francisco Frame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amework i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llection of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generic solution for a class of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frame of mind for solving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architectural constra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n Francisco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meant to develop business 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based on Java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solve 70% of your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aves 30% (minimum) to solve for yo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set a stand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 may fail to do so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project was started when several software vendors asked IBM to help modernizing their application produ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ever, there were several barriers preventing them from being able to update their 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modern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1) The problem of how to retrain their development staff to effectively use OO technolog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2) The risk involved in moving to a new technolog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3) moving -&gt; the cost of the chan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oftware developers realized they needed some basic  infrastructu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companies could not develop this infrastructure themselv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th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an Francisco project helps to solve these problems by offering developers Business Process Component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gned as frameworks that provides an object oriented infrastructur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nsistent application programming model, 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me default business log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frameworks make it easier to move to OO technology because developers use well-tested services instead of building their ow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joview" descr=""/>
          <p:cNvPicPr/>
          <p:nvPr/>
        </p:nvPicPr>
        <p:blipFill>
          <a:blip r:embed="rId1"/>
          <a:stretch/>
        </p:blipFill>
        <p:spPr>
          <a:xfrm>
            <a:off x="574560" y="358920"/>
            <a:ext cx="1104264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Framework -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re Business Process Layer - the high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on Business Objects Layer - mid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ation Layer - low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usiness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bjective for this layer is to create a sound architecture and highly extensible OO implementation for the basic structure and behavior which any application provider delivering a solution in the application doamin would requi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unts Receivable/Payable Led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neral Ledger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les Order Management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rchase Order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jocore2" descr=""/>
          <p:cNvPicPr/>
          <p:nvPr/>
        </p:nvPicPr>
        <p:blipFill>
          <a:blip r:embed="rId1"/>
          <a:stretch/>
        </p:blipFill>
        <p:spPr>
          <a:xfrm>
            <a:off x="574560" y="358920"/>
            <a:ext cx="1133028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p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sic OO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lication Framework(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iversal Modeling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ject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rrent developments and tre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Busin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Objects common to multiple dom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on Application level Servi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B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umber - decimal 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rency - how many euros in a dolla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ation Object Model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other words: it provides the infra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ent: reinventing the wheel is not a big problem, because the wheel is a terrific inven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ation Object Model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lection/Iter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c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need to study Design Patterns to appreciate thes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San Francisco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an Francisco Frameworks are designed to make many types of extensions easy for application developer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riding the default business logic in supplied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ing additional attributes to existing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ing additional methods to existing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om the report: Complete documentation will be provided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classes: Receipt and Purchase order Li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ault attributes,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ault business logic: inspect Quality on receip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on: enhance this log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bclass Receip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ride inspection meth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nge logic to include checks against supplier tables, and hazardous or high value produ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sfexmp2" descr=""/>
          <p:cNvPicPr/>
          <p:nvPr/>
        </p:nvPicPr>
        <p:blipFill>
          <a:blip r:embed="rId1"/>
          <a:stretch/>
        </p:blipFill>
        <p:spPr>
          <a:xfrm>
            <a:off x="574560" y="358920"/>
            <a:ext cx="11769840" cy="573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ndards: OMG/CORBA Business Iss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chnology Integr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ound Documents: Lotus Notes, JavaBeans, Active 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process Modeling and Control: workflow engines may be used as glue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/Intranet and Java: applications may be designed …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lusions: … a bit prematur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1371600"/>
            <a:ext cx="12436560" cy="9907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yond  Object-Orient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523880" y="685800"/>
            <a:ext cx="11506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rends -- model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tterns -- examples of desig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ML -- Unified Modeling Languag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chnologies -- compon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eb -- global infrastructur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RBA/DCOM - the software bu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 -- the platform?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lleng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s -&gt; Frameworks &lt;- Patter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6920" y="304920"/>
            <a:ext cx="12436560" cy="7617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s in O-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12344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tical framework development -- finance, medical care, insura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paration of 'logic' from  'control' -- business rul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tributed object technology -- heterogeneous syst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isualisation -- structure and process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nowledge intensive applications -- declarativ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terogeneous systems - fragmented applic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he Answer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Mode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y you need model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s are necessary to communicat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stabilize abstra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a reference for the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mainten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you need an agreement on the notation and formalisms in which you express your mode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82720" y="24382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 cas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raction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ckage and deployment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ate and activity diagram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scuss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82720" y="2057400"/>
            <a:ext cx="8167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Unified Modeling Langu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UML) resulted from a joint effort 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eading experts in object-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alysis and design, Grady Booch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im Rumbaugh and Ivar Jacobson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so known as the three amigos, al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urrently employees of Rational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8960" y="228600"/>
            <a:ext cx="12436200" cy="8380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fied Mode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720" y="2437920"/>
            <a:ext cx="10058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 diagrams -- conceptual structur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se cases -- functional requiremen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action diagrams -- operational characteristic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ckage and deployment diagrams -- implement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and activity diagrams -- dynamic behavi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436560" y="12193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65040" y="5943600"/>
            <a:ext cx="139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e http://www.rational.com/uml and UML Distilled,  [Fowler97]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13166640" cy="7016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class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13411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304920"/>
            <a:ext cx="12436560" cy="7617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use-case" descr=""/>
          <p:cNvPicPr/>
          <p:nvPr/>
        </p:nvPicPr>
        <p:blipFill>
          <a:blip r:embed="rId1"/>
          <a:stretch/>
        </p:blipFill>
        <p:spPr>
          <a:xfrm>
            <a:off x="853920" y="1905120"/>
            <a:ext cx="12679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380880"/>
            <a:ext cx="12436560" cy="6098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interact" descr=""/>
          <p:cNvPicPr/>
          <p:nvPr/>
        </p:nvPicPr>
        <p:blipFill>
          <a:blip r:embed="rId1"/>
          <a:stretch/>
        </p:blipFill>
        <p:spPr>
          <a:xfrm>
            <a:off x="853920" y="1447920"/>
            <a:ext cx="129225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380520"/>
            <a:ext cx="1390032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ckage and component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ackage" descr=""/>
          <p:cNvPicPr/>
          <p:nvPr/>
        </p:nvPicPr>
        <p:blipFill>
          <a:blip r:embed="rId1"/>
          <a:stretch/>
        </p:blipFill>
        <p:spPr>
          <a:xfrm>
            <a:off x="974880" y="1981080"/>
            <a:ext cx="126806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094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e and activity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state" descr=""/>
          <p:cNvPicPr/>
          <p:nvPr/>
        </p:nvPicPr>
        <p:blipFill>
          <a:blip r:embed="rId1"/>
          <a:stretch/>
        </p:blipFill>
        <p:spPr>
          <a:xfrm>
            <a:off x="974880" y="1523880"/>
            <a:ext cx="12801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99840" y="457200"/>
            <a:ext cx="11256840" cy="91440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 annota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nt(arguments)[conditions]/a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words and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OO lifecycle -- model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capsulation, inheritance, delegation,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cification and implementation 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by contra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faces, components and 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dioms, patterns, software archite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170160" y="21337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UML toolbox is very rich. 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lows you to model eve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ceivable aspect of the system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evertheless, to my mind, graphi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dels are not always appropriat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ut, on the other hand, most peopl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like them and they often make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ood impression, suggesting clar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..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06400" y="1143000"/>
            <a:ext cx="11226960" cy="8380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682360" y="2971440"/>
            <a:ext cx="9509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interactive drawing to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the reactor pattern (even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business process mode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- the observer patter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rawing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hierarchy" descr=""/>
          <p:cNvPicPr/>
          <p:nvPr/>
        </p:nvPicPr>
        <p:blipFill>
          <a:blip r:embed="rId1"/>
          <a:stretch/>
        </p:blipFill>
        <p:spPr>
          <a:xfrm>
            <a:off x="1584360" y="1371600"/>
            <a:ext cx="11094840" cy="1378080"/>
          </a:xfrm>
          <a:prstGeom prst="rect">
            <a:avLst/>
          </a:prstGeom>
          <a:ln w="0">
            <a:noFill/>
          </a:ln>
        </p:spPr>
      </p:pic>
      <p:pic>
        <p:nvPicPr>
          <p:cNvPr id="163" name="draw-figure" descr=""/>
          <p:cNvPicPr/>
          <p:nvPr/>
        </p:nvPicPr>
        <p:blipFill>
          <a:blip r:embed="rId2"/>
          <a:stretch/>
        </p:blipFill>
        <p:spPr>
          <a:xfrm>
            <a:off x="1463760" y="3352680"/>
            <a:ext cx="11093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or (event-handling)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f-reactor" descr=""/>
          <p:cNvPicPr/>
          <p:nvPr/>
        </p:nvPicPr>
        <p:blipFill>
          <a:blip r:embed="rId1"/>
          <a:stretch/>
        </p:blipFill>
        <p:spPr>
          <a:xfrm>
            <a:off x="853920" y="1447920"/>
            <a:ext cx="12679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ctor - Interaction diagram (ev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reactor-interact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123141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siness process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combi2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5851800" cy="4114800"/>
          </a:xfrm>
          <a:prstGeom prst="rect">
            <a:avLst/>
          </a:prstGeom>
          <a:ln w="0">
            <a:noFill/>
          </a:ln>
        </p:spPr>
      </p:pic>
      <p:pic>
        <p:nvPicPr>
          <p:cNvPr id="170" name="request" descr=""/>
          <p:cNvPicPr/>
          <p:nvPr/>
        </p:nvPicPr>
        <p:blipFill>
          <a:blip r:embed="rId2"/>
          <a:stretch/>
        </p:blipFill>
        <p:spPr>
          <a:xfrm>
            <a:off x="7070760" y="1600200"/>
            <a:ext cx="67057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simulation) event state transition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event" descr=""/>
          <p:cNvPicPr/>
          <p:nvPr/>
        </p:nvPicPr>
        <p:blipFill>
          <a:blip r:embed="rId1"/>
          <a:stretch/>
        </p:blipFill>
        <p:spPr>
          <a:xfrm>
            <a:off x="853920" y="1676520"/>
            <a:ext cx="126795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observer" descr=""/>
          <p:cNvPicPr/>
          <p:nvPr/>
        </p:nvPicPr>
        <p:blipFill>
          <a:blip r:embed="rId1"/>
          <a:stretch/>
        </p:blipFill>
        <p:spPr>
          <a:xfrm>
            <a:off x="2193840" y="1523880"/>
            <a:ext cx="103633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OO Techn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chnology determines the effectiveness of the approac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mes and Var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13258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straction -- the object    metaph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ing -- understanding   structure and behavi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ftware architecture --    mastering complex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ameworks -- patterns for    problem solving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onents -- scalable    softwar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apsul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hi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 contains data and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t provides a boundar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the world outsi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its ‘children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h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uces complex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ws you to defer implement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member: Ignorance is bli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lps in decoupling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echanism for code-sha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ports incremental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by class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ws for abstract interfa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 may have multiple typ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abstract type:   when it is u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ncrete type: when it is crea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’s type is determined by its behavi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’s type is determined by the messages it allo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608800" y="762120"/>
            <a:ext cx="3170160" cy="7617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70160" y="2438280"/>
            <a:ext cx="341316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315200" y="2438280"/>
            <a:ext cx="317016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340320" y="914400"/>
            <a:ext cx="179244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ha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35200" y="2590920"/>
            <a:ext cx="2938680" cy="51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ectang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924680" y="2590920"/>
            <a:ext cx="1803600" cy="51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irc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972800" y="2666880"/>
            <a:ext cx="325584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mpou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947680" y="3429000"/>
            <a:ext cx="122040" cy="76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850400" y="2438280"/>
            <a:ext cx="353556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6827760" y="1447920"/>
            <a:ext cx="48744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315200" y="1463760"/>
            <a:ext cx="122400" cy="365040"/>
          </a:xfrm>
          <a:custGeom>
            <a:avLst/>
            <a:gdLst/>
            <a:ahLst/>
            <a:rect l="l" t="t" r="r" b="b"/>
            <a:pathLst>
              <a:path w="8" h="23">
                <a:moveTo>
                  <a:pt x="0" y="23"/>
                </a:moveTo>
                <a:cubicBezTo>
                  <a:pt x="3" y="15"/>
                  <a:pt x="8" y="0"/>
                  <a:pt x="8" y="0"/>
                </a:cubicBezTo>
                <a:cubicBezTo>
                  <a:pt x="8" y="0"/>
                  <a:pt x="3" y="15"/>
                  <a:pt x="0" y="23"/>
                </a:cubicBezTo>
                <a:close/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241600" y="2362320"/>
            <a:ext cx="122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70760" y="1523880"/>
            <a:ext cx="122040" cy="76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192800" y="1981080"/>
            <a:ext cx="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8899560" y="2438280"/>
            <a:ext cx="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4876560" y="1523880"/>
            <a:ext cx="231588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92800" y="1523880"/>
            <a:ext cx="195120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192800" y="1523880"/>
            <a:ext cx="560880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87440" y="914400"/>
            <a:ext cx="341460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bstract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2590920"/>
            <a:ext cx="290052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6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rete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mal basis -- pre and post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finement -- by inheritance or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untime checks -- division of responsi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Ch. 3, Contra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073240" y="2133720"/>
            <a:ext cx="950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tract Data Typ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T = state + behavi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-Oriented  Model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ata orien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316160" y="498600"/>
            <a:ext cx="12217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Responsibilities                                      what rather than how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specify behavior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ent                                                         client/server mo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akes request to perform a   servi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vides service upon reques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38200" y="574560"/>
            <a:ext cx="10509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= information  +  responsibilit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ra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set of 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havioral refinemen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mproving contra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6920" y="15192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 Termi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447920"/>
            <a:ext cx="108964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jects -- packet containing  data and procedur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thods -- deliver serv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ssage -- request to execute a  metho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ass -- template for creating objec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tance -- an object that belongs to a clas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apsulation -- information  hiding by objec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heritance -- allowing the reuse of class spec.s cla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ierarchy -- tree structure inheritance  rel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ymorphism -- to hide  different implement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778120" y="1870200"/>
            <a:ext cx="9169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formance --      behavioral refin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B refines A then B may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sed wherever A is allowe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974880" y="914400"/>
            <a:ext cx="12436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ttributes                                                                 refine          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re inform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tter 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rac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re and better servi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better servi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ewer restrictions for the cli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ore obligations for the 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463760" y="1031760"/>
            <a:ext cx="11702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-Oriented   Model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totyping, specification, refinement, interac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OP = Contracts + Refinem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ioms and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80720" y="2361960"/>
            <a:ext cx="118364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ymorphism -- inheritance and deleg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ioms -- realizing concrete typ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tterns -- a catalogue of design patter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vents -- the reactor patter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5105520"/>
            <a:ext cx="1237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ditional keywords and phra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generic types, assertions, canonica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es, event-driven compu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talogue of design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3840" y="2819520"/>
            <a:ext cx="9388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ubsection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reational Patter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uctural Patter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ehavioral Patter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atalogue of Design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81080" y="2695680"/>
            <a:ext cx="1104912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mmon design vocabula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ocumentation and learning ai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adjunct to existing method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target for redesig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87440" y="304920"/>
            <a:ext cx="1365552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Pattern Schema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ame - handl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creases design vocabular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blem - when to app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plains the problem and the confli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lution - general  arrang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ign, responsibilities, collabor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equences - tradeoff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 understand the costs and  benefi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96560" y="228240"/>
            <a:ext cx="792468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 for Re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124365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eating an object by specifying  a class explicitly -- Abstract Factory, Factory Method, Prototyp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ce on specific operations -- Chain of Responsibilty, Command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ce on hardware &amp;  software platforms -- Abstract Factory, Bridg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ce on object implementation or representation --Abstract Factory, Bridge, Memento, Prox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1164320" y="34596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sign for chan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9000"/>
            <a:ext cx="12436560" cy="600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9360" rIns="99360" tIns="56160" bIns="56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914040"/>
            <a:ext cx="12436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gorithm dependence -- Iterator, Strategy, Template Method, Visit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ding functionality by  subclassing -- Bridge, Composite, Decorator, Observ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ight coupling -- Abstract Factory, Bridge, Chain of Responsibilities,  Command, Facade, Mediator,  Observ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ability to alter classes conveniently -- Adaptor,  Decorator,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6920" y="380520"/>
            <a:ext cx="12436560" cy="8384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atures of 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4880" y="2361960"/>
            <a:ext cx="13655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ormation hiding:  state, autonomous behavio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abstraction:     emphasis on what rather than  how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ynamic binding:   binding at runtime,          polymorphism , virtual    fun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heritance:     incremental changes    (specialization), reus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ation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520" y="1947600"/>
            <a:ext cx="1308564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ctory -- hide concrete class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ctory Method -- virtual constructo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totype -- dynamic creation by cloning 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ton -- one instance onl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094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2209680"/>
            <a:ext cx="11811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ttern                                   Alias                           Remar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site                             part/whole          collections of   component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lyweight                              part/whole*       extrinsic state, many objects   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aptor                                    wrapper                resolves  inconsiste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ridge                                   handle/body   abstraction to  implemen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corator                                wrapper               to introduce function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acade                                     wrapper*           provides  unified interfa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xy                                      surrogate             to defer ... remote, virtual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t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287000" y="1295280"/>
            <a:ext cx="39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and class compos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5331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havioral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371600"/>
            <a:ext cx="14630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oper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lgorithms and the assignment of  responsibilities between objec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emplate Method -- the skeleton of an algorithm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rpreter -- to evaluate  express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                                                                                       composi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diator -- provides indirec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hain of Responsibility -- connect objects to interac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server -- to handle dependenci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094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ng behav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and -- action + undo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rategy -- choice of algorith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isitor -- decouple traversal and   oper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terator -- access and traversal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-- object state -&gt; behavioral  chang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704680" y="1219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ify!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bserver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4440" y="1676520"/>
            <a:ext cx="14020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ne-to-many dependencies 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tific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equenc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bstract coupling between subjec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nd observer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straint propaga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als with unexpected updat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observer" descr=""/>
          <p:cNvPicPr/>
          <p:nvPr/>
        </p:nvPicPr>
        <p:blipFill>
          <a:blip r:embed="rId1"/>
          <a:stretch/>
        </p:blipFill>
        <p:spPr>
          <a:xfrm>
            <a:off x="1463760" y="838080"/>
            <a:ext cx="12191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6920" y="228600"/>
            <a:ext cx="12436560" cy="8380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243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jects versus components -- defini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operabil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quirements for distrib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imple workgroup applic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ding hush with CORB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74880" y="5029200"/>
            <a:ext cx="12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ditional keywords and phra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D)COM, Java, CORBA, OLE, persistent objects, ODMG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orkgroup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versus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06400" y="3276720"/>
            <a:ext cx="1060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ubsection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fini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technology matrix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 myth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96920" y="228600"/>
            <a:ext cx="12436560" cy="5335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4880" y="1371600"/>
            <a:ext cx="1280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                                                          substitutabilit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it of independent deploymen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it of third party composi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 persistent stat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                                                                             identit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it of instantia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persistent) stat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capsulation of state and behavi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413160" y="1676520"/>
            <a:ext cx="768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software component is a unit 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sition with contractual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ecified interfaces and explic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ext dependencies only.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ftware component can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ployed independently and 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ubject to composition by thir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i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509840" y="5680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zypersk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efits of O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129542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O = encapsulation  +   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ularity -- autonomous entities, cooperation through exchanges of messag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erred commitment -- the internal workings of an object can be redefined without  changing other parts of the syste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usability -- refining classes through inheritan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turalness -- object-oriented analysis/design, modeling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chnology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5040" y="1828800"/>
            <a:ext cx="1402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stribution   mobility   language   platform    ref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                      -                 -               *                 -               +/-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COM                  +                 -               *                +/-             +/-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RBA                +                  -               *                *               +/-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/Beans            -              classes       Java              *                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/RMI              +             classes       Java              *                 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oyager                +             objects       Java              *                 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193680"/>
            <a:ext cx="14630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s:                   Myths      and        Re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allows for  combining componen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semantical issues can be resolve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simplifies software distribution and maintenan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velopment becomes more complex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support mega  applica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t affects performance significantl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is a revolu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rong, it is an evolution from OO  and C/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known sour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1520" y="2228400"/>
            <a:ext cx="130856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to describe the interaction between component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to manage variety and flexibility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to guarantee critical system-wide properti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ftware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14995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chitecture -- components and boundari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se study -- a framework for multimedia feature detec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ative objects -- the language bounda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bedded logic -- the paradigm boundar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rchitectural styles -- distributed object technolog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ross-platform development -- Unix versus Windo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5562720"/>
            <a:ext cx="146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ditional keywords and phra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s, information architecture, multimedia information retrieval, feature detection, portabilit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96920" y="4568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ents of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5040" y="3580920"/>
            <a:ext cx="139003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cessing elements -- transformation on dat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elements -- contain inform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nections -- glue that holds elements togeth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26720" y="190512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Wolf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ls and Vie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95280" y="1980720"/>
            <a:ext cx="115826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ogical -- functional requirement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cess -- performance, availability, distrib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hysical -- scalability, configur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ment -- organization of software modul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cenarios -- instances of use cas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257800"/>
            <a:ext cx="1426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fini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http://www.sei.cmu.edu/architecture/definitions.htm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460240" y="1143000"/>
            <a:ext cx="31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Kruchten95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292560" y="1828800"/>
            <a:ext cx="7802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software architecture of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rogram or computing system is th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tructure of the system, which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rises software components, th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xternally visible properties of thos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s, and thei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errelationship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131200" y="537516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Bass et a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6920" y="30456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ological 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1222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ent-platform -- hardware, O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sentation services -- windows, multimedi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 software -- code, business logic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twork -- communication suppor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ddleware -- distribution, (object) broke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rver platform -- hardware, O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base -- data management system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947680" y="129528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CS2001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ed Object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1905120"/>
            <a:ext cx="14020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ramework                                                     (class hierarchi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pplications                                                                (wrapper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ystem                                          (horizontal, vertical, metadata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terprise                  (reference models, infrastructure, policie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ntra/Internet                                                                (standard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972800" y="121140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[CorbaPatterns]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 off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valid metaphor for 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ful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uring design methods and not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rich set of patter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74280" y="609480"/>
            <a:ext cx="11255400" cy="137160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n Francisco Fra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292560" y="3047760"/>
            <a:ext cx="95090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useful is an OO frame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et beware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arning cur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plified h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tting edge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over) ambitious proj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ign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paper about one of the following topics. The paper may discuss concepts or focus on a case stu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Unified Modelling Language -- UM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works -- for example San Francisc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comparative study of object-oriented analysis and design methods, focussing on aspects of project manageme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cribe a case study concerning the deployment of design patter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31520" y="1294920"/>
            <a:ext cx="13085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ditional materi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3: Design by Contra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11: Methods and Too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bject Tutori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 -- Rational Rose, U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 -- IBM Java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pers and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/uml/html/summary -- UML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/prd_summary.html --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Technical Summar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1:14:01Z</dcterms:modified>
  <cp:revision>57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