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.png" ContentType="image/png"/>
  <Override PartName="/ppt/media/image2.png" ContentType="image/png"/>
  <Override PartName="/ppt/media/image8.png" ContentType="image/png"/>
  <Override PartName="/ppt/media/image14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</p:sldIdLst>
  <p:sldSz cx="15544800" cy="7315200"/>
  <p:notesSz cx="674687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7884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7972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47884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7972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47280" y="382320"/>
            <a:ext cx="139906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7884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17972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7796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47884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1017972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382320"/>
            <a:ext cx="139906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-304920">
              <a:spcBef>
                <a:spcPts val="726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2" marL="1212840" indent="-2430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3" marL="1698480" indent="-244440">
              <a:spcBef>
                <a:spcPts val="726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4" marL="2182680" indent="-24264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5" marL="2182680" indent="-242640"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6" marL="2182680" indent="-242640"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844200" y="6929280"/>
            <a:ext cx="4275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7480" y="6929280"/>
            <a:ext cx="813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14076360" y="6372360"/>
            <a:ext cx="127944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3280" y="812520"/>
            <a:ext cx="11958480" cy="1299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VU-kip" descr=""/>
          <p:cNvPicPr/>
          <p:nvPr/>
        </p:nvPicPr>
        <p:blipFill>
          <a:blip r:embed="rId2"/>
          <a:stretch/>
        </p:blipFill>
        <p:spPr>
          <a:xfrm>
            <a:off x="14076360" y="6372360"/>
            <a:ext cx="1279440" cy="868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844200" y="6929280"/>
            <a:ext cx="4275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7480" y="6929280"/>
            <a:ext cx="813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240" y="1711440"/>
            <a:ext cx="13989960" cy="42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1" marL="484200" indent="0" algn="ctr">
              <a:spcBef>
                <a:spcPts val="62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969840" algn="ctr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1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lvl="3" marL="1454040" algn="ctr"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940040" algn="ctr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94004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94004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3c.org/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3280" y="812520"/>
            <a:ext cx="11958480" cy="1299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4200" spc="-1" strike="noStrike">
                <a:solidFill>
                  <a:srgbClr val="ccffff"/>
                </a:solidFill>
                <a:latin typeface="Arial"/>
              </a:rPr>
              <a:t>Web Applica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60600" y="3251160"/>
            <a:ext cx="11530080" cy="3006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nton Eliën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Vrije Universiteit, Amsterdam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19 October 1999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100" spc="-1" strike="noStrike">
                <a:solidFill>
                  <a:srgbClr val="000066"/>
                </a:solidFill>
                <a:latin typeface="Arial"/>
              </a:rPr>
              <a:t>Http://www.cs.vu.nl/~eliens/online/courses/web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Web Application Server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webappinteraction" descr=""/>
          <p:cNvPicPr/>
          <p:nvPr/>
        </p:nvPicPr>
        <p:blipFill>
          <a:blip r:embed="rId1"/>
          <a:stretch/>
        </p:blipFill>
        <p:spPr>
          <a:xfrm>
            <a:off x="1295280" y="1573200"/>
            <a:ext cx="1308420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Business Logic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buslogic" descr=""/>
          <p:cNvPicPr/>
          <p:nvPr/>
        </p:nvPicPr>
        <p:blipFill>
          <a:blip r:embed="rId1"/>
          <a:stretch/>
        </p:blipFill>
        <p:spPr>
          <a:xfrm>
            <a:off x="1036800" y="1573200"/>
            <a:ext cx="1321272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Java as the platform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javasvcs" descr=""/>
          <p:cNvPicPr/>
          <p:nvPr/>
        </p:nvPicPr>
        <p:blipFill>
          <a:blip r:embed="rId1"/>
          <a:stretch/>
        </p:blipFill>
        <p:spPr>
          <a:xfrm>
            <a:off x="777960" y="1573200"/>
            <a:ext cx="1386036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Application Integr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appintegration" descr=""/>
          <p:cNvPicPr/>
          <p:nvPr/>
        </p:nvPicPr>
        <p:blipFill>
          <a:blip r:embed="rId1"/>
          <a:stretch/>
        </p:blipFill>
        <p:spPr>
          <a:xfrm>
            <a:off x="1165320" y="1573200"/>
            <a:ext cx="1347300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4633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10 lessons from the Network Economy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77960" y="1693800"/>
            <a:ext cx="13903200" cy="4726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t is about networked relationships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t is about  Business-to-Business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t is about specialisations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t is about Services rather than Conten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t cannot be about price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t is about exchange of value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t goes beyond the Web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t is about equity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t is about reliability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t is about people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471480" y="105876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Jonathan Brigg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250560" y="5962680"/>
            <a:ext cx="37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rom EMMA Masterclas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5040" y="704520"/>
            <a:ext cx="13990680" cy="592596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br>
              <a:rPr sz="3300"/>
            </a:b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Designing a Web site</a:t>
            </a:r>
            <a:br>
              <a:rPr sz="3300"/>
            </a:br>
            <a:br>
              <a:rPr sz="3300"/>
            </a:b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does not solve a problem.</a:t>
            </a: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It creates a problem!</a:t>
            </a:r>
            <a:br>
              <a:rPr sz="3300"/>
            </a:br>
            <a:br>
              <a:rPr sz="3300"/>
            </a:b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580080" y="10587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eaning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97760" y="5362560"/>
            <a:ext cx="353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966720" y="3033720"/>
            <a:ext cx="17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edia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350040" y="2750760"/>
            <a:ext cx="3214800" cy="1622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662440" y="2187720"/>
            <a:ext cx="4667400" cy="21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84680" y="1990440"/>
            <a:ext cx="4745160" cy="252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45120" y="2681280"/>
            <a:ext cx="4437000" cy="1833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91040" y="2751120"/>
            <a:ext cx="459108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6720" y="3598920"/>
            <a:ext cx="3289320" cy="246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ccffff"/>
                </a:solidFill>
                <a:latin typeface="Arial"/>
              </a:rPr>
              <a:t>Web Applications – The Object Web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ombining servers and client-application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multiple component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multiple technologi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(in construction) the ObjectWeb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‘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the rest of us’  vs Microsof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ommunication via IIOP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air" descr=""/>
          <p:cNvPicPr/>
          <p:nvPr/>
        </p:nvPicPr>
        <p:blipFill>
          <a:blip r:embed="rId1"/>
          <a:stretch/>
        </p:blipFill>
        <p:spPr>
          <a:xfrm>
            <a:off x="2868480" y="2438280"/>
            <a:ext cx="9209160" cy="34149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Basic Client/Server Pair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cgi" descr=""/>
          <p:cNvPicPr/>
          <p:nvPr/>
        </p:nvPicPr>
        <p:blipFill>
          <a:blip r:embed="rId1"/>
          <a:stretch/>
        </p:blipFill>
        <p:spPr>
          <a:xfrm>
            <a:off x="1554120" y="2682720"/>
            <a:ext cx="12436560" cy="1706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305240" y="5407200"/>
            <a:ext cx="6815160" cy="93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ommon Gateway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Interface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erver-side extended with CGI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0000"/>
          </a:solidFill>
          <a:ln w="19080">
            <a:solidFill>
              <a:srgbClr val="cc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0000ff"/>
                </a:solidFill>
                <a:latin typeface="Arial"/>
              </a:rPr>
              <a:t>Topic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ccffff"/>
                </a:solidFill>
                <a:latin typeface="Arial"/>
              </a:rPr>
              <a:t>    </a:t>
            </a:r>
            <a:r>
              <a:rPr b="0" lang="en-US" sz="2900" spc="-1" strike="noStrike">
                <a:solidFill>
                  <a:srgbClr val="ccffff"/>
                </a:solidFill>
                <a:latin typeface="Arial"/>
              </a:rPr>
              <a:t>Preliminari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ccffff"/>
                </a:solidFill>
                <a:latin typeface="Arial"/>
              </a:rPr>
              <a:t>Web Application Infrastructur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ccffff"/>
                </a:solidFill>
                <a:latin typeface="Arial"/>
              </a:rPr>
              <a:t>The Network Econom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ccffff"/>
                </a:solidFill>
                <a:latin typeface="Arial"/>
              </a:rPr>
              <a:t>The Object Web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ccffff"/>
                </a:solidFill>
                <a:latin typeface="Arial"/>
              </a:rPr>
              <a:t>Web-based Education Systems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ccffff"/>
                </a:solidFill>
                <a:latin typeface="Arial"/>
              </a:rPr>
              <a:t>Site Development Step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ccffff"/>
                </a:solidFill>
                <a:latin typeface="Arial"/>
              </a:rPr>
              <a:t>Virtual Organizations - meta data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ccffff"/>
                </a:solidFill>
                <a:latin typeface="Arial"/>
              </a:rPr>
              <a:t>Case Studies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ccffff"/>
                </a:solidFill>
                <a:latin typeface="Arial"/>
              </a:rPr>
              <a:t>Basic Technolog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ccffff"/>
                </a:solidFill>
                <a:latin typeface="Arial"/>
              </a:rPr>
              <a:t>Conclusions - current development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e ObjectWeb (1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The rest of us -- Netscape ON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Managing Conten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oftware architectur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content" descr=""/>
          <p:cNvPicPr/>
          <p:nvPr/>
        </p:nvPicPr>
        <p:blipFill>
          <a:blip r:embed="rId1"/>
          <a:stretch/>
        </p:blipFill>
        <p:spPr>
          <a:xfrm>
            <a:off x="2155680" y="2193840"/>
            <a:ext cx="11646000" cy="3167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anaging Content (in the ObjectWeb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netscape" descr=""/>
          <p:cNvPicPr/>
          <p:nvPr/>
        </p:nvPicPr>
        <p:blipFill>
          <a:blip r:embed="rId1"/>
          <a:stretch/>
        </p:blipFill>
        <p:spPr>
          <a:xfrm>
            <a:off x="2155680" y="1706400"/>
            <a:ext cx="12312720" cy="39830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Netscape Enterprise Server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e ObjectWeb (2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Microsoft  DNS/DNA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DNS = Digital Nervous System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DNA = Dynamic Network Architectur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ms" descr=""/>
          <p:cNvPicPr/>
          <p:nvPr/>
        </p:nvPicPr>
        <p:blipFill>
          <a:blip r:embed="rId1"/>
          <a:stretch/>
        </p:blipFill>
        <p:spPr>
          <a:xfrm>
            <a:off x="1913040" y="3394080"/>
            <a:ext cx="11837880" cy="19699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icrosoft Digital Nervous Syste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dna" descr=""/>
          <p:cNvPicPr/>
          <p:nvPr/>
        </p:nvPicPr>
        <p:blipFill>
          <a:blip r:embed="rId1"/>
          <a:stretch/>
        </p:blipFill>
        <p:spPr>
          <a:xfrm>
            <a:off x="2390760" y="3071880"/>
            <a:ext cx="11241000" cy="286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Microsoft  Dynamic Network Architectur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6040" y="32508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The ObjectWeb (3) - Java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extensible browser - with Java applet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platform independen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dynamic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ode is uploaded from the server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and (3 tier) client/server application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(not to forget) Servlet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and  CORBA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rb" descr=""/>
          <p:cNvPicPr/>
          <p:nvPr/>
        </p:nvPicPr>
        <p:blipFill>
          <a:blip r:embed="rId1"/>
          <a:stretch/>
        </p:blipFill>
        <p:spPr>
          <a:xfrm>
            <a:off x="2155680" y="1870200"/>
            <a:ext cx="10998360" cy="3655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Java applet  with  ORB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steps" descr=""/>
          <p:cNvPicPr/>
          <p:nvPr/>
        </p:nvPicPr>
        <p:blipFill>
          <a:blip r:embed="rId1"/>
          <a:stretch/>
        </p:blipFill>
        <p:spPr>
          <a:xfrm>
            <a:off x="2155680" y="1138320"/>
            <a:ext cx="10998360" cy="2519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410640" y="4351320"/>
            <a:ext cx="293652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1  get HTML  page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2  get applet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3  start applet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53960" y="4351320"/>
            <a:ext cx="2954880" cy="18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4 connect to ORB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5 get objects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6 access database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7 display results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Advanced -- browser plugin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extend browser with arbitrary functionalit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tatic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platform specific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 and C++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If the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Web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is the Answer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What is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the </a:t>
            </a:r>
            <a:r>
              <a:rPr b="0" lang="en-US" sz="2900" spc="-1" strike="noStrike" u="sng">
                <a:solidFill>
                  <a:srgbClr val="ff00ff"/>
                </a:solidFill>
                <a:uFillTx/>
                <a:latin typeface="Arial"/>
                <a:hlinkClick r:id="rId1"/>
              </a:rPr>
              <a:t>Question</a:t>
            </a: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sf-xample" descr=""/>
          <p:cNvPicPr/>
          <p:nvPr/>
        </p:nvPicPr>
        <p:blipFill>
          <a:blip r:embed="rId1"/>
          <a:stretch/>
        </p:blipFill>
        <p:spPr>
          <a:xfrm>
            <a:off x="1814400" y="1284120"/>
            <a:ext cx="11658600" cy="5085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592440" y="530280"/>
            <a:ext cx="5700960" cy="478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200" rIns="97200" tIns="48600" bIns="486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Example -   San Francisco Framework</a:t>
            </a:r>
            <a:endParaRPr b="0" lang="en-US" sz="2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ccffff"/>
                </a:solidFill>
                <a:latin typeface="Arial"/>
              </a:rPr>
              <a:t>Education on the Web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Virtual Universiti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Tele-learning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Education is changing …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62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see 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Building a Web-based Education System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47640" y="382320"/>
            <a:ext cx="14636880" cy="75564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Learning and Technology - learning paradig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17120" y="1380600"/>
            <a:ext cx="1390644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lnSpc>
                <a:spcPct val="8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cale -- number of participant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ymmetry -- focus on participant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erception -- quality of audio/video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nteractivity -- time-dela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-location -- distance between participant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st -- price per participan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time -- time to achieve learning objectiv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tools -- the range of choice </a:t>
            </a:r>
            <a:br>
              <a:rPr sz="2900"/>
            </a:br>
            <a:br>
              <a:rPr sz="2900"/>
            </a:b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 ... traditional, distance learning, Web-based ..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Learning Suppor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llaboration Tools - XTV, NetMeeting, WEB-4M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Videoconferencing Tools - MBONE (Vic/Vat)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eb Tools - QuestWriter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ross-Platform Tools - Unix/X and 95/N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Environments - CUSeeMe: conferencing, whiteboard, email, document sharing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62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see 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Use of Web technology for Remote Instruction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Benefits of a Web-based Classroo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7600" y="1544400"/>
            <a:ext cx="14766840" cy="467172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mputer mediation - store, index, search, convert, distribut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Geographic independence - lifestyle, quality of learning experienc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Temporal independence - asynchronous particip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latform independence - </a:t>
            </a: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CDROM, shockwave and plugins?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Unified User Interface - popularity of the Web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ncreased communication, increased learner contro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Problems with a Web-based classroo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ccess and resources - …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st - LAN, ISD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training - ... the Web can be intimidating …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dopting new methods - pedagogy matches technology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nfrastructure - support and administr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no uniform quality - (non) robust technology!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pyright, privacy, security, authentic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cceptance - ..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Institutional factor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ission statement, direc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nfrastructure and funding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romotion and reward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hanging (teaching) method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dmission procedur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eb publishing polici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8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nternet access and training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50000"/>
              </a:lnSpc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5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... and what do your collegues say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Client software and hardware - Q/A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client operating system is being used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is the minimum hardware available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client software is available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peripherals are available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access is there to the client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ow competent are the participants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ill the staff or students require training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Server software and hardware - Q/A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operating system does the server have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are the characteristics of the server's hardware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software is available on the server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are the capabilities of the software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else is the server being used for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ow reliable is the server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access do you have to the server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hat support is available for the server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Technical suppor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erver software and hardwar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network infra structur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training in the use of technolog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roblems and questions - helpdesk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ccffff"/>
                </a:solidFill>
                <a:latin typeface="Arial"/>
              </a:rPr>
              <a:t>The Application Infrastructur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77960" y="1706400"/>
            <a:ext cx="14407920" cy="82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34200" bIns="34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GB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90920" y="2682720"/>
            <a:ext cx="9845640" cy="44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440" rIns="127440" tIns="63720" bIns="637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1274760"/>
                <a:tab algn="l" pos="2549520"/>
                <a:tab algn="l" pos="3824280"/>
                <a:tab algn="l" pos="5099040"/>
                <a:tab algn="l" pos="6373800"/>
                <a:tab algn="l" pos="7648560"/>
                <a:tab algn="l" pos="8923320"/>
                <a:tab algn="l" pos="1019808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The</a:t>
            </a:r>
            <a:endParaRPr b="0" lang="en-US" sz="33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1274760"/>
                <a:tab algn="l" pos="2549520"/>
                <a:tab algn="l" pos="3824280"/>
                <a:tab algn="l" pos="5099040"/>
                <a:tab algn="l" pos="6373800"/>
                <a:tab algn="l" pos="7648560"/>
                <a:tab algn="l" pos="8923320"/>
                <a:tab algn="l" pos="1019808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world </a:t>
            </a:r>
            <a:endParaRPr b="0" lang="en-US" sz="33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1274760"/>
                <a:tab algn="l" pos="2549520"/>
                <a:tab algn="l" pos="3824280"/>
                <a:tab algn="l" pos="5099040"/>
                <a:tab algn="l" pos="6373800"/>
                <a:tab algn="l" pos="7648560"/>
                <a:tab algn="l" pos="8923320"/>
                <a:tab algn="l" pos="1019808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around  </a:t>
            </a:r>
            <a:endParaRPr b="0" lang="en-US" sz="33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1274760"/>
                <a:tab algn="l" pos="2549520"/>
                <a:tab algn="l" pos="3824280"/>
                <a:tab algn="l" pos="5099040"/>
                <a:tab algn="l" pos="6373800"/>
                <a:tab algn="l" pos="7648560"/>
                <a:tab algn="l" pos="8923320"/>
                <a:tab algn="l" pos="1019808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                               </a:t>
            </a: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you </a:t>
            </a:r>
            <a:endParaRPr b="0" lang="en-US" sz="33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1274760"/>
                <a:tab algn="l" pos="2549520"/>
                <a:tab algn="l" pos="3824280"/>
                <a:tab algn="l" pos="5099040"/>
                <a:tab algn="l" pos="6373800"/>
                <a:tab algn="l" pos="7648560"/>
                <a:tab algn="l" pos="8923320"/>
                <a:tab algn="l" pos="1019808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                                        </a:t>
            </a: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is</a:t>
            </a:r>
            <a:endParaRPr b="0" lang="en-US" sz="33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1274760"/>
                <a:tab algn="l" pos="2549520"/>
                <a:tab algn="l" pos="3824280"/>
                <a:tab algn="l" pos="5099040"/>
                <a:tab algn="l" pos="6373800"/>
                <a:tab algn="l" pos="7648560"/>
                <a:tab algn="l" pos="8923320"/>
                <a:tab algn="l" pos="1019808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                                               </a:t>
            </a: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changing</a:t>
            </a:r>
            <a:endParaRPr b="0" lang="en-US" sz="33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66ff99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Planning and Desig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tep 1: Develop a list of educational goals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tep 2: Identify implementation methods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tep 3: Prioritize approaches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tep 4: Design the structure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tep 5: Design a page layout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Navigation structur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ierarchical - like a book, ..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equential - as a guided tour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ypermedia - structural and associative link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Guidelin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ncentrate on conten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good design is simpl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legibility is the ke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ntext must be clear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nsistency means predictabilit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be accurate!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be unique ..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ppearance must match purpos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upport a variety of visitor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Page typ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ome pag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ndex pag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ntent pag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tudy guide pag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lectures - presentation pag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825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Technological limitations</a:t>
            </a:r>
            <a:endParaRPr b="0" lang="en-US" sz="33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peed, resolution, colors, multimedia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ccffff"/>
                </a:solidFill>
                <a:latin typeface="Arial"/>
              </a:rPr>
              <a:t>Web Development Tool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7120" y="1380600"/>
            <a:ext cx="1390644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Visual (HTML) Editor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ite Manager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ypermedia Tools -- rejuvenated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TML-Database Integration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ublication Wizard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odel-driven Web Generator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0">
              <a:spcBef>
                <a:spcPts val="624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0">
              <a:spcBef>
                <a:spcPts val="62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based on paper from 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Piero Fraternali (WWW7)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Visual Editors and Site Manager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YSIWYG, page upload, link repair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dobe Site/Page Mill, NetObject Fusion, SoftQuad HotMetal, MS Frontpag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Hypermedia Tool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symetrix Toolbook, Macromedia Director and Authorwar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uthoring, multimedia and synchronisation, navig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latform-dependent - plugin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HTML-DBPL Integr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erge of Web and databas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ntegrate HTML with database programming languag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ld Fusion, MS Active Server Pag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form editors, report writer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atabase publishing wizard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S Visual InterDev, Oracle Developer 2000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Model-driven Web Generator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verage of all developers activiti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from analysis to implement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tate-of-the art software engineering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Oracle Web Developer Suit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utoWeb, OOHDM, ... - research prototyp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Web Application Development Suppor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tructur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behavior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navig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resent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... orthogonal features, with peer dignit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creen-worlds" descr=""/>
          <p:cNvPicPr/>
          <p:nvPr/>
        </p:nvPicPr>
        <p:blipFill>
          <a:blip r:embed="rId1"/>
          <a:stretch/>
        </p:blipFill>
        <p:spPr>
          <a:xfrm>
            <a:off x="0" y="0"/>
            <a:ext cx="16062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ccffff"/>
                </a:solidFill>
                <a:latin typeface="Arial"/>
              </a:rPr>
              <a:t>Enabling communication - educ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ecreasing sense of isol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ncreasing flexibilit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ncreasing variet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ncreasing communication experienc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enabling variety of pedagog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Forms of communic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synchronous -  email, news, ftp, http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ynchronous - IRC, MUD/MOO, cha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face-to-face - audio/video conferencing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Communication Approach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one-to-one - peer assessment and email buddi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one-to-many - lectures, presentation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any-to-one - feedback and evalu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any-to-many - virtual class, panel discussion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Communication Tools (1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email - threading, filters, MIME, ..., search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ailing list - </a:t>
            </a:r>
            <a:r>
              <a:rPr b="0" i="1" lang="en-GB" sz="2900" spc="-1" strike="noStrike">
                <a:solidFill>
                  <a:srgbClr val="000066"/>
                </a:solidFill>
                <a:latin typeface="Arial"/>
              </a:rPr>
              <a:t>majordomo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eb/email-news Gateway - MHonArc  (</a:t>
            </a:r>
            <a:r>
              <a:rPr b="0" i="1" lang="en-GB" sz="2900" spc="-1" strike="noStrike">
                <a:solidFill>
                  <a:srgbClr val="000066"/>
                </a:solidFill>
                <a:latin typeface="Arial"/>
              </a:rPr>
              <a:t>archives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news readers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nferencing - …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Communication Tools (2)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UD/MOO/MUSH - multi-user shared hallucin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hat - CGI, IRC, Java, avatar-based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groupware - Lotus Not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udio communication - Cooltalk, Netmeeting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video communication - CuSeeMe, MBON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ccffff"/>
                </a:solidFill>
                <a:latin typeface="Arial"/>
              </a:rPr>
              <a:t>Concept Planning and Developmen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Questions to ask yourself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ssues in concept developmen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evelopment step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ite metaphor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62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taken from Creating Internet Entertainmen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Questions to ask yourself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Should you build a site?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Do you know how to use the Internet effectively?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s your industry/business online?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Low cost or high cost?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s the concept practical?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Who will create the site?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Who will develop/maintain the content?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Who is the audience?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Does your site fit within a community?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11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s access unlimited or </a:t>
            </a:r>
            <a:r>
              <a:rPr b="0" i="1" lang="en-GB" sz="2500" spc="-1" strike="noStrike">
                <a:solidFill>
                  <a:srgbClr val="000066"/>
                </a:solidFill>
                <a:latin typeface="Arial"/>
              </a:rPr>
              <a:t>members-only</a:t>
            </a: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Issues in Concept Developmen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hoose a name!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hoose a </a:t>
            </a:r>
            <a:r>
              <a:rPr b="0" i="1" lang="en-GB" sz="2900" spc="-1" strike="noStrike">
                <a:solidFill>
                  <a:srgbClr val="000066"/>
                </a:solidFill>
                <a:latin typeface="Arial"/>
              </a:rPr>
              <a:t>class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 - micro or macro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hoose a metaphor - literal is possible!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evelop a flowchart - navig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User-centric - adaptive (cookie)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nteractivity - email, form, bulletin, polls, chat, ..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User evaluation - is it effective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Development Step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roposal - short summar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escription of purpose - economic mod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ncept - type, site, metaphor, multimedia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Implementation facilities - CGI, Java, Shockwav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5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st - hardware, software, suppor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6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Time-table - research, production, development, </a:t>
            </a:r>
            <a:r>
              <a:rPr b="0" i="1" lang="en-GB" sz="2900" spc="-1" strike="noStrike">
                <a:solidFill>
                  <a:srgbClr val="000066"/>
                </a:solidFill>
                <a:latin typeface="Arial"/>
              </a:rPr>
              <a:t>launch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7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aintenance and upgrades - personn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8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Expansion options - programming and administr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9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ppendix - flowchart and demographic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10. Business plan - funding and marketing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Metaphors for Sit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patial - cities, solar system, room, backyard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representational - train, ship, radio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erson or entity - home, tax-wizard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time or event - camera, mechanical arm, fishcam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literal - functional control (tables and lists)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3300"/>
          </a:solidFill>
          <a:ln w="190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00ffff"/>
                </a:solidFill>
                <a:latin typeface="Arial"/>
              </a:rPr>
              <a:t>Recurring questions - Web Application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8000"/>
                </a:solidFill>
                <a:latin typeface="Arial"/>
              </a:rPr>
              <a:t>What is the economic model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8000"/>
                </a:solidFill>
                <a:latin typeface="Arial"/>
              </a:rPr>
              <a:t>Does it scale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8000"/>
                </a:solidFill>
                <a:latin typeface="Arial"/>
              </a:rPr>
              <a:t>Can you maintain the stuff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8000"/>
                </a:solidFill>
                <a:latin typeface="Arial"/>
              </a:rPr>
              <a:t>Is there an </a:t>
            </a:r>
            <a:r>
              <a:rPr b="0" i="1" lang="en-GB" sz="2900" spc="-1" strike="noStrike">
                <a:solidFill>
                  <a:srgbClr val="008000"/>
                </a:solidFill>
                <a:latin typeface="Arial"/>
              </a:rPr>
              <a:t>installed base</a:t>
            </a:r>
            <a:r>
              <a:rPr b="0" lang="en-GB" sz="29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Ontologies - metadata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Technology - clients, server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pplications - ... more than chat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Research issues - agents above and beyond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ccffff"/>
                </a:solidFill>
                <a:latin typeface="Arial"/>
              </a:rPr>
              <a:t>Virtual Organisation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Gateway to (Educational) Metadata - GE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lnSpc>
                <a:spcPct val="12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eta-data for networked information discovery and retrieva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Objectives</a:t>
            </a:r>
            <a:endParaRPr b="0" lang="en-US" sz="33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omain-specific vocabular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ncrete syntax (using HTML)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tools for retrieving meta-data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12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esign prototype interfaces to GEM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33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ublin Core Element Se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XML, RDF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Educational Metadata - GE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udienc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ataloguing Agenc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ur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Essential Resourc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5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Educational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6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edagog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7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Quality Assessment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8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cademic Standard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Navigation Structures in Tutorial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ypermedia Support for Software Engineering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advTm="0">
    <p:checker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ccffff"/>
                </a:solidFill>
                <a:latin typeface="Arial"/>
              </a:rPr>
              <a:t>Basic Technology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77960" y="1789200"/>
            <a:ext cx="14407920" cy="4672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TML, HTTP, MIM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lient / server architectur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lient-side extension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erver-side extension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62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see 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Glossary Web Terminology</a:t>
            </a: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 and  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Web Consortium (W3C)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Markup - HTM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TML 2.0 - the basic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TML 3.2 - browser specific featur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TML 4.0 - the standard, with CS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SS - Cascading Style Sheet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62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see 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MarkUp (W3C)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Protocols - HTTP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TTP 1.0 - slow and state-les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TTP 1.1 - virtual connection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TTP NG  - fast, interaction (state), …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62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see </a:t>
            </a:r>
            <a:r>
              <a:rPr b="0" lang="en-GB" sz="2500" spc="-1" strike="noStrike">
                <a:solidFill>
                  <a:srgbClr val="ff0000"/>
                </a:solidFill>
                <a:latin typeface="Arial"/>
              </a:rPr>
              <a:t>Protocols (W3C)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Client-side Technology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tyle sheets (CSS)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ocument Object Mod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ath, Graphics - XM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pplets - Java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elper Applications -- audio, …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lug-ins - audio, video, animation, virtual realit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ynamic HTML - Javascrip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ctiveX - from Visual basic to ... Java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Server-side Technology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HTTP Server - like </a:t>
            </a:r>
            <a:r>
              <a:rPr b="0" lang="en-GB" sz="2900" spc="-1" strike="noStrike">
                <a:solidFill>
                  <a:srgbClr val="ff0000"/>
                </a:solidFill>
                <a:latin typeface="Arial"/>
              </a:rPr>
              <a:t>Apach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erver side includes - </a:t>
            </a:r>
            <a:r>
              <a:rPr b="0" i="1" lang="en-GB" sz="2900" spc="-1" strike="noStrike">
                <a:solidFill>
                  <a:srgbClr val="000066"/>
                </a:solidFill>
                <a:latin typeface="Arial"/>
              </a:rPr>
              <a:t>shtm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GI - Perl, Python, Tc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ervlets - Java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gateways - CORBA, DCOM, agent-middlewar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Web Architecture and Technology - issu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rotocols - HTTP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tructured documents - SGML and XM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synchronized multimedia - SMI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etadata - PICS (rating)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resource description - RDF (enabling search)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rivacy - P3P (platform for privacy preferences)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e-commerce - see </a:t>
            </a:r>
            <a:r>
              <a:rPr b="0" lang="en-GB" sz="2900" spc="-1" strike="noStrike">
                <a:solidFill>
                  <a:srgbClr val="ff0000"/>
                </a:solidFill>
                <a:latin typeface="Arial"/>
              </a:rPr>
              <a:t>Ecommerce (W3C)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eb accessibility - ..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ibm-architecture" descr=""/>
          <p:cNvPicPr/>
          <p:nvPr/>
        </p:nvPicPr>
        <p:blipFill>
          <a:blip r:embed="rId1"/>
          <a:stretch/>
        </p:blipFill>
        <p:spPr>
          <a:xfrm>
            <a:off x="0" y="0"/>
            <a:ext cx="16322760" cy="77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3300"/>
          </a:solidFill>
          <a:ln w="190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00ffff"/>
                </a:solidFill>
                <a:latin typeface="Arial"/>
              </a:rPr>
              <a:t>Recurring questions - Web Application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8000"/>
                </a:solidFill>
                <a:latin typeface="Arial"/>
              </a:rPr>
              <a:t>What is the economic model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8000"/>
                </a:solidFill>
                <a:latin typeface="Arial"/>
              </a:rPr>
              <a:t>Does it scale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8000"/>
                </a:solidFill>
                <a:latin typeface="Arial"/>
              </a:rPr>
              <a:t>Can you maintain the stuff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8000"/>
                </a:solidFill>
                <a:latin typeface="Arial"/>
              </a:rPr>
              <a:t>Is there an </a:t>
            </a:r>
            <a:r>
              <a:rPr b="0" i="1" lang="en-GB" sz="2900" spc="-1" strike="noStrike">
                <a:solidFill>
                  <a:srgbClr val="008000"/>
                </a:solidFill>
                <a:latin typeface="Arial"/>
              </a:rPr>
              <a:t>installed base</a:t>
            </a:r>
            <a:r>
              <a:rPr b="0" lang="en-GB" sz="29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Assignmen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esign a web-site for your department, or another subject of your choice - </a:t>
            </a:r>
            <a:r>
              <a:rPr b="0" i="1" lang="en-GB" sz="2100" spc="-1" strike="noStrike">
                <a:solidFill>
                  <a:srgbClr val="000066"/>
                </a:solidFill>
                <a:latin typeface="AvantGarde"/>
              </a:rPr>
              <a:t>Include a description of the concept, a flowgraph, and a discussion of technical and support requirements.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evelop a Javascript glossary, quiz or assessment for a subject of your choice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rite a 3-page paper on:   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-304920">
              <a:spcBef>
                <a:spcPts val="624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The application of meta-data for a particular domain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-304920">
              <a:spcBef>
                <a:spcPts val="624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The development of three tier business applications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-304920">
              <a:spcBef>
                <a:spcPts val="624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Site development for a particular kind of business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ourse Materia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lnSpc>
                <a:spcPct val="13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P. Fraternali, </a:t>
            </a:r>
            <a:r>
              <a:rPr b="0" i="1" lang="en-US" sz="2500" spc="-1" strike="noStrike">
                <a:solidFill>
                  <a:srgbClr val="000066"/>
                </a:solidFill>
                <a:latin typeface="Arial"/>
              </a:rPr>
              <a:t>Web Development Tools: a survey,</a:t>
            </a: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 Proceedings WWW7, pp. 631-633, Elsevier 1998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K. Maly, C.M. Overstreet, A. Gonzalez, M. Denbar, R. Cutaran, N. Karunaratne and C.J. Srinivas, </a:t>
            </a:r>
            <a:r>
              <a:rPr b="0" i="1" lang="en-US" sz="2500" spc="-1" strike="noStrike">
                <a:solidFill>
                  <a:srgbClr val="000066"/>
                </a:solidFill>
                <a:latin typeface="Arial"/>
              </a:rPr>
              <a:t>Use of Web Technology for Interactive Remote Instruction,</a:t>
            </a: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 Proceedings WWW7, pp. 660-662, Elsevier 1998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440792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Glossary Web Terminolog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ummary HTML (3.2, 4.0)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Javascript examples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Lightbulb tutorials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Browser compatibility test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WWW5 Workshop - A search for APIs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WWW6 Workshop - Logic programming and the Web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0">
              <a:spcBef>
                <a:spcPts val="624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The Building Blocks of Web Application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webapptopology" descr=""/>
          <p:cNvPicPr/>
          <p:nvPr/>
        </p:nvPicPr>
        <p:blipFill>
          <a:blip r:embed="rId1"/>
          <a:stretch/>
        </p:blipFill>
        <p:spPr>
          <a:xfrm>
            <a:off x="1814400" y="1544760"/>
            <a:ext cx="121762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The Ubiqitous Clien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clientmodels" descr=""/>
          <p:cNvPicPr/>
          <p:nvPr/>
        </p:nvPicPr>
        <p:blipFill>
          <a:blip r:embed="rId1"/>
          <a:stretch/>
        </p:blipFill>
        <p:spPr>
          <a:xfrm>
            <a:off x="1295280" y="1573200"/>
            <a:ext cx="1295424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1T09:17:39Z</dcterms:created>
  <dc:creator>Anton Eliens</dc:creator>
  <dc:description/>
  <dc:language>en-US</dc:language>
  <cp:lastModifiedBy>eliens</cp:lastModifiedBy>
  <cp:lastPrinted>1998-05-11T11:07:01Z</cp:lastPrinted>
  <dcterms:modified xsi:type="dcterms:W3CDTF">1999-10-09T13:28:20Z</dcterms:modified>
  <cp:revision>29</cp:revision>
  <dc:subject>CMG Course</dc:subject>
  <dc:title>Web Ap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online/course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