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off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valid metaphor for 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ful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uring design methods and not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rich set of 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et bewar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arning cu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h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tting 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over) ambitious proj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ig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paper about one of the following topics. The paper may discuss concepts or focus on a case stu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Unified Modelling Language -- UM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works -- for example San Francis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comparative study of object-oriented analysis and design methods, focussing on aspects of project manageme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cribe a case study concerning the deployment of design patter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itional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3: Design by Contra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11: Methods and Too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bject Tutori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 -- Rational Rose, U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 -- IBM Java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pers and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/uml/html/summary -- UML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/prd_summary.html --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Technical Summar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52:16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