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7912-C300-46DA-9788-2FA963D9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4788-F8E5-4DBC-AA6A-4FE62D42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6044-5E4F-4674-9202-09D91E9AA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22A8-6C86-4909-B7E6-52348966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228-ACCD-4A7A-B27D-12EF744C5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F3DA-0938-49F9-B05A-87B1D38B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24F6-569D-4FA4-8ABC-E53D95CD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DF86-22CF-4270-BDA5-A4D04452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6E8-D984-4990-A359-80D06A71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885-7656-457E-B1A4-5B0D0FD3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2EA-4691-4A85-8A4B-93510D0E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DD5-C8A3-48A6-A34A-93D35163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8D74-AC0D-4E4A-BF2B-C140F46F0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Feature Detec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on Eli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3040" y="297180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(work in progr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keyboard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111480" cy="1828800"/>
          </a:xfrm>
          <a:prstGeom prst="rect">
            <a:avLst/>
          </a:prstGeom>
          <a:ln w="0">
            <a:noFill/>
          </a:ln>
        </p:spPr>
      </p:pic>
      <p:pic>
        <p:nvPicPr>
          <p:cNvPr id="69" name="query" descr=""/>
          <p:cNvPicPr/>
          <p:nvPr/>
        </p:nvPicPr>
        <p:blipFill>
          <a:blip r:embed="rId2"/>
          <a:stretch/>
        </p:blipFill>
        <p:spPr>
          <a:xfrm>
            <a:off x="304920" y="1523880"/>
            <a:ext cx="8229600" cy="4343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40680" y="53352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Qu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kortjakje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848360" cy="5562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553800" y="5587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ase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320" y="5257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rtjak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@lily-kortjakje" descr=""/>
          <p:cNvPicPr/>
          <p:nvPr/>
        </p:nvPicPr>
        <p:blipFill>
          <a:blip r:embed="rId1"/>
          <a:stretch/>
        </p:blipFill>
        <p:spPr>
          <a:xfrm>
            <a:off x="3809880" y="4952880"/>
            <a:ext cx="401976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91280" y="541008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88400" y="3809880"/>
            <a:ext cx="50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ody:  c c  g g  a a  g g  f f  e e  d d 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589480" y="198108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g:  kortjak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89480" y="2895480"/>
            <a:ext cx="29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er: Who c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mvar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915400" cy="5639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155280" y="2936880"/>
            <a:ext cx="138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rtjak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oz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1480" y="487692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II 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2019240"/>
          <a:ext cx="7772400" cy="403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19240"/>
                    <a:ext cx="7772400" cy="40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sical Feature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ery fac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tion: cas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music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4800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934320" y="5029200"/>
            <a:ext cx="133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h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80400" y="556272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18148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5562720"/>
            <a:ext cx="134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5181480"/>
            <a:ext cx="153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8360" y="1936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coi" descr=""/>
          <p:cNvPicPr/>
          <p:nvPr/>
        </p:nvPicPr>
        <p:blipFill>
          <a:blip r:embed="rId1"/>
          <a:stretch/>
        </p:blipFill>
        <p:spPr>
          <a:xfrm>
            <a:off x="1752480" y="490680"/>
            <a:ext cx="5410440" cy="5087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231240" y="49179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grammar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772400" cy="4191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13600" y="345960"/>
            <a:ext cx="49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tra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-  the anatomy of a midi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93640" y="498600"/>
            <a:ext cx="56548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tecto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ong;      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 get the filen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tec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lyrics;     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tracts lyr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detect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 melody;                  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extracts melo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t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t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 t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cc00"/>
                </a:solidFill>
                <a:latin typeface="Times New Roman"/>
              </a:rPr>
              <a:t>at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tr note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i: son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: file lyrics melod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: 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: text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: note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65120" y="2022480"/>
            <a:ext cx="128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83320" y="345960"/>
            <a:ext cx="545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elodyDet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ree *pt, list *tks 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buf[1024]; char* _resu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* q = _quer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idq 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dq = query_eval(q,"X:melody(X)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(_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sult = query_result(q,idq)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f("note: \%s\n",_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Atom(tks,"note",_resul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SUCCE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12840" y="2327400"/>
            <a:ext cx="116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el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637240" y="510552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mbedded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5040" y="669960"/>
            <a:ext cx="352116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1 := newoi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i_song.insert(oid(V0),oid(V1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2 := newoid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_file.insert(oid(V1),oid(V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le_name.insert(oid(V2),"kortjakj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_lyrics.insert(oid(V1),oid(V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per-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sonn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Moi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j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di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que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le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bon-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bons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Val-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yrics_text.insert(oid(V2),"ent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7320" y="762120"/>
            <a:ext cx="34664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ng_melody.insert(oid(V1),oid(V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a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a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g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g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f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f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e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e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d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d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e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lody_note.insert(oid(V2),"c-2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90040" y="4994280"/>
            <a:ext cx="11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Mo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764400" y="507060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Kortjakje.m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rocess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6934320" cy="3657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553440" y="990720"/>
            <a:ext cx="16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x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usical Feature Detection in ACOI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BRG - CWI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9T13:50:23Z</dcterms:created>
  <dc:creator>Faculteit Wiskunde en Informatica</dc:creator>
  <dc:description/>
  <dc:language>en-US</dc:language>
  <cp:lastModifiedBy>Faculteit Wiskunde en Informatica</cp:lastModifiedBy>
  <cp:lastPrinted>1999-04-13T08:31:03Z</cp:lastPrinted>
  <dcterms:modified xsi:type="dcterms:W3CDTF">1999-04-13T08:39:04Z</dcterms:modified>
  <cp:revision>10</cp:revision>
  <dc:subject/>
  <dc:title>Musical Feature Detect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online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P:\www\present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