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1604520"/>
            <a:ext cx="13167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4280" y="609480"/>
            <a:ext cx="11255400" cy="137160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Francisco Fra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useful is an OO frame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usiness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bjective for this layer is to create a sound architecture and highly extensible OO implementation for the basic structure and behavior which any application provider delivering a solution in the application doamin would requi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unts Receivable/Payable Led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neral Ledger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les Order Management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rchase Order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jocore2" descr=""/>
          <p:cNvPicPr/>
          <p:nvPr/>
        </p:nvPicPr>
        <p:blipFill>
          <a:blip r:embed="rId1"/>
          <a:stretch/>
        </p:blipFill>
        <p:spPr>
          <a:xfrm>
            <a:off x="574560" y="358920"/>
            <a:ext cx="1133028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Busin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Objects common to multiple dom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Application level Servi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B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umber - decimal 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cy - how many euros in a dolla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ation Object Model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other words: it provides the infra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ent: reinventing the wheel is not a big problem, because the wheel is a terrific inv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 Object Model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lection/Iter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need to study Design Patterns to appreciate thes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San Francisco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an Francisco Frameworks are designed to make many types of extensions easy for application develope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riding the default business logic in supplied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ing additional attributes to existing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ing additional methods to existing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om the report: Complete documentation will be provided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classes: Receipt and Purchase order L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ault attributes,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ault business logic: inspect Quality on receip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on: enhance this log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bclass Receip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ride inspection meth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nge logic to include checks against supplier tables, and hazardous or high value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sfexmp2" descr=""/>
          <p:cNvPicPr/>
          <p:nvPr/>
        </p:nvPicPr>
        <p:blipFill>
          <a:blip r:embed="rId1"/>
          <a:stretch/>
        </p:blipFill>
        <p:spPr>
          <a:xfrm>
            <a:off x="574560" y="358920"/>
            <a:ext cx="11769840" cy="573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ndards: OMG/CORBA Business Iss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ology Integ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ound Documents: Lotus Notes, JavaBeans, Active 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process Modeling and Control: workflow engines may be used as glue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/Intranet and Java: applications may be designed …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lusions: … a bit prematur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f-xample" descr=""/>
          <p:cNvPicPr/>
          <p:nvPr/>
        </p:nvPicPr>
        <p:blipFill>
          <a:blip r:embed="rId1"/>
          <a:stretch/>
        </p:blipFill>
        <p:spPr>
          <a:xfrm>
            <a:off x="1706400" y="1204920"/>
            <a:ext cx="10972800" cy="4765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423680" y="496800"/>
            <a:ext cx="54702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-   San Francisco Frame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amework i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llection of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generic solution for a class of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frame of mind for solving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architectural constra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n Francisco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meant to develop business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based on Java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solve 70% of your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ves 30% (minimum) to solve for yo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set a stand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 may fail to do so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project was started when several software vendors asked IBM to help modernizing their application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ever, there were several barriers preventing them from being able to update their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modern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1) The problem of how to retrain their development staff to effectively use OO technolog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2) The risk involved in moving to a new technolog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3) moving -&gt; the cost of the chan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oftware developers realized they needed some basic  infrastructu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companies could not develop this infrastructure themsel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an Francisco project helps to solve these problems by offering developers Business Process Componen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gned as frameworks that provides an object oriented infrastructu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nsistent application programming model, 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me default business log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frameworks make it easier to move to OO technology because developers use well-tested services instead of building their ow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joview" descr=""/>
          <p:cNvPicPr/>
          <p:nvPr/>
        </p:nvPicPr>
        <p:blipFill>
          <a:blip r:embed="rId1"/>
          <a:stretch/>
        </p:blipFill>
        <p:spPr>
          <a:xfrm>
            <a:off x="574560" y="358920"/>
            <a:ext cx="11042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Framework -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re Business Process Layer - the high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Business Objects Layer - mid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ation Layer - low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17:16Z</dcterms:modified>
  <cp:revision>58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