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1604520"/>
            <a:ext cx="13167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you need model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s are necessary to communicat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stabilize ab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a reference for the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mainten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you need an agreement on the notation and formalisms in which you express your mod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11256840" cy="914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 annota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nt(arguments)[conditions]/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17016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UML toolbox is very rich. 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ows you to model eve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ceivable aspect of the syst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vertheless, to my mind, graphi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dels are not always appropri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ut, on the other hand, most peo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ike them and they often make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ood impression, suggesting cla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06400" y="1143000"/>
            <a:ext cx="11226960" cy="8380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682360" y="2971440"/>
            <a:ext cx="950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interactive drawing to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the reactor pattern (ev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business process mode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the observer patter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raw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hierarchy" descr=""/>
          <p:cNvPicPr/>
          <p:nvPr/>
        </p:nvPicPr>
        <p:blipFill>
          <a:blip r:embed="rId1"/>
          <a:stretch/>
        </p:blipFill>
        <p:spPr>
          <a:xfrm>
            <a:off x="1584360" y="1371600"/>
            <a:ext cx="11094840" cy="1378080"/>
          </a:xfrm>
          <a:prstGeom prst="rect">
            <a:avLst/>
          </a:prstGeom>
          <a:ln w="0">
            <a:noFill/>
          </a:ln>
        </p:spPr>
      </p:pic>
      <p:pic>
        <p:nvPicPr>
          <p:cNvPr id="110" name="draw-figure" descr=""/>
          <p:cNvPicPr/>
          <p:nvPr/>
        </p:nvPicPr>
        <p:blipFill>
          <a:blip r:embed="rId2"/>
          <a:stretch/>
        </p:blipFill>
        <p:spPr>
          <a:xfrm>
            <a:off x="1463760" y="3352680"/>
            <a:ext cx="11093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or (event-handling)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f-reactor" descr=""/>
          <p:cNvPicPr/>
          <p:nvPr/>
        </p:nvPicPr>
        <p:blipFill>
          <a:blip r:embed="rId1"/>
          <a:stretch/>
        </p:blipFill>
        <p:spPr>
          <a:xfrm>
            <a:off x="853920" y="1447920"/>
            <a:ext cx="12679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or - Interaction diagram (ev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reactor-interact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12314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process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combi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58518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request" descr=""/>
          <p:cNvPicPr/>
          <p:nvPr/>
        </p:nvPicPr>
        <p:blipFill>
          <a:blip r:embed="rId2"/>
          <a:stretch/>
        </p:blipFill>
        <p:spPr>
          <a:xfrm>
            <a:off x="7070760" y="160020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mulation) event state transition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event" descr=""/>
          <p:cNvPicPr/>
          <p:nvPr/>
        </p:nvPicPr>
        <p:blipFill>
          <a:blip r:embed="rId1"/>
          <a:stretch/>
        </p:blipFill>
        <p:spPr>
          <a:xfrm>
            <a:off x="853920" y="1676520"/>
            <a:ext cx="1267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observer" descr=""/>
          <p:cNvPicPr/>
          <p:nvPr/>
        </p:nvPicPr>
        <p:blipFill>
          <a:blip r:embed="rId1"/>
          <a:stretch/>
        </p:blipFill>
        <p:spPr>
          <a:xfrm>
            <a:off x="2193840" y="1523880"/>
            <a:ext cx="10363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82720" y="24382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cas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action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ckage and deployment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and activity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scuss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82720" y="205740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Unified Modeling Langu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UML) resulted from a joint effort 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ading experts in 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ysis and design, Grady Booch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im Rumbaugh and Ivar Jacobson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so known as the three amigos, 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rrently employees of Rational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12436200" cy="838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10058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diagrams -- conceptual structur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cases -- functional requirem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action diagrams -- operational characteristic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age and deployment diagrams -- implement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and activity diagrams -- dynamic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436560" y="1219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5943600"/>
            <a:ext cx="139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e http://www.rational.com/uml and UML Distilled,  [Fowler97]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13166640" cy="7016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class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13411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96920" y="304920"/>
            <a:ext cx="12436560" cy="7617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use-case" descr=""/>
          <p:cNvPicPr/>
          <p:nvPr/>
        </p:nvPicPr>
        <p:blipFill>
          <a:blip r:embed="rId1"/>
          <a:stretch/>
        </p:blipFill>
        <p:spPr>
          <a:xfrm>
            <a:off x="853920" y="1905120"/>
            <a:ext cx="1267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6920" y="380880"/>
            <a:ext cx="12436560" cy="6098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interact" descr=""/>
          <p:cNvPicPr/>
          <p:nvPr/>
        </p:nvPicPr>
        <p:blipFill>
          <a:blip r:embed="rId1"/>
          <a:stretch/>
        </p:blipFill>
        <p:spPr>
          <a:xfrm>
            <a:off x="853920" y="1447920"/>
            <a:ext cx="12922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5040" y="380520"/>
            <a:ext cx="1390032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and component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ackage" descr=""/>
          <p:cNvPicPr/>
          <p:nvPr/>
        </p:nvPicPr>
        <p:blipFill>
          <a:blip r:embed="rId1"/>
          <a:stretch/>
        </p:blipFill>
        <p:spPr>
          <a:xfrm>
            <a:off x="974880" y="1981080"/>
            <a:ext cx="1268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and activity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state" descr=""/>
          <p:cNvPicPr/>
          <p:nvPr/>
        </p:nvPicPr>
        <p:blipFill>
          <a:blip r:embed="rId1"/>
          <a:stretch/>
        </p:blipFill>
        <p:spPr>
          <a:xfrm>
            <a:off x="974880" y="1523880"/>
            <a:ext cx="12801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1:06:50Z</dcterms:modified>
  <cp:revision>58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