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4687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74EA-5F89-4B6F-A630-434A410D3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572C-9B2E-444C-80CB-23DF1E8A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7B85-2010-45A1-A1A7-19CCD7F7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C63D-9008-425C-A2E0-61935C5E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C2F0-244D-44AC-97D6-C7DFA944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2D45-D187-4AFF-97D4-D2073F31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A228-8AFF-4B9A-9B0B-AA29CC70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8448-2CA0-4AD4-AFC3-14E32502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AFC5-5239-4B53-83FB-53A576F6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C2D-102C-4E21-96D5-0AD5FD6E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4D56-70D0-4DFD-B885-8187B23C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F190-F514-45B1-8746-607974D85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327EFD9-AA67-4E62-BC12-FF78E52CC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44960" y="2444760"/>
            <a:ext cx="3270240" cy="17398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041720" y="1069920"/>
            <a:ext cx="2657520" cy="752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1840" y="2746440"/>
            <a:ext cx="1285920" cy="981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033800" y="1066680"/>
            <a:ext cx="27147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aborative Session Manag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S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3600" y="1069920"/>
            <a:ext cx="2200320" cy="7524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1066680"/>
            <a:ext cx="2090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A Services Direc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S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914400" y="1904760"/>
            <a:ext cx="609480" cy="68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3276720" y="1905120"/>
            <a:ext cx="91440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144792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97240" y="2739960"/>
            <a:ext cx="1359000" cy="1063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3124080"/>
            <a:ext cx="533520" cy="216000"/>
          </a:xfrm>
          <a:prstGeom prst="rightArrow">
            <a:avLst>
              <a:gd name="adj1" fmla="val 50000"/>
              <a:gd name="adj2" fmla="val 7981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88600" y="2743200"/>
            <a:ext cx="11880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69600" y="2895480"/>
            <a:ext cx="48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07920" y="2895480"/>
            <a:ext cx="4838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97440" y="2739960"/>
            <a:ext cx="1282680" cy="1063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89880" y="2743200"/>
            <a:ext cx="1235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37040" y="3886200"/>
            <a:ext cx="928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nd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2743200"/>
            <a:ext cx="1447560" cy="9907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3124080"/>
            <a:ext cx="533520" cy="216000"/>
          </a:xfrm>
          <a:prstGeom prst="rightArrow">
            <a:avLst>
              <a:gd name="adj1" fmla="val 50000"/>
              <a:gd name="adj2" fmla="val 79818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1560" y="2743200"/>
            <a:ext cx="146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hared Con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ce (SC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7160" y="2743200"/>
            <a:ext cx="98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819520" y="19047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477120" y="190476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6T14:53:32Z</dcterms:created>
  <dc:creator>ASZ R&amp;D</dc:creator>
  <dc:description/>
  <dc:language>en-US</dc:language>
  <cp:lastModifiedBy>Bastiaan Schönhage</cp:lastModifiedBy>
  <cp:lastPrinted>1998-02-17T16:09:24Z</cp:lastPrinted>
  <dcterms:modified xsi:type="dcterms:W3CDTF">1998-02-17T16:09:54Z</dcterms:modified>
  <cp:revision>10</cp:revision>
  <dc:subject/>
  <dc:title>Geen diatitel</dc:title>
</cp:coreProperties>
</file>