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144000" cy="6858000"/>
  <p:notesSz cx="6973888" cy="10098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58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29492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3926880"/>
            <a:ext cx="2633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58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392688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294920"/>
            <a:ext cx="399096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26880"/>
            <a:ext cx="817884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767560" y="6497640"/>
            <a:ext cx="253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2280" y="6497640"/>
            <a:ext cx="478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" name="VU-kip" descr=""/>
          <p:cNvPicPr/>
          <p:nvPr/>
        </p:nvPicPr>
        <p:blipFill>
          <a:blip r:embed="rId2"/>
          <a:stretch/>
        </p:blipFill>
        <p:spPr>
          <a:xfrm>
            <a:off x="8277120" y="5973840"/>
            <a:ext cx="75096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84240" y="762120"/>
            <a:ext cx="7034400" cy="121896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67560" y="6497640"/>
            <a:ext cx="2538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vrije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Universiteit</a:t>
            </a:r>
            <a:r>
              <a:rPr b="0" lang="en-GB" sz="1200" spc="-1" strike="noStrike">
                <a:solidFill>
                  <a:srgbClr val="8791a5"/>
                </a:solidFill>
                <a:latin typeface="Lucida Sans Unicode"/>
              </a:rPr>
              <a:t>    </a:t>
            </a:r>
            <a:r>
              <a:rPr b="0" i="1" lang="en-GB" sz="1200" spc="-1" strike="noStrike">
                <a:solidFill>
                  <a:srgbClr val="0000ff"/>
                </a:solidFill>
                <a:latin typeface="Lucida Sans Unicode"/>
              </a:rPr>
              <a:t>amsterdam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2280" y="6497640"/>
            <a:ext cx="4782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Lucida Sans Unicode"/>
              </a:rPr>
              <a:t>Postacademische Cursus Informatie Technologi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4" name="VU-kip" descr=""/>
          <p:cNvPicPr/>
          <p:nvPr/>
        </p:nvPicPr>
        <p:blipFill>
          <a:blip r:embed="rId2"/>
          <a:stretch/>
        </p:blipFill>
        <p:spPr>
          <a:xfrm>
            <a:off x="8277120" y="5973840"/>
            <a:ext cx="750960" cy="814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4240" y="761760"/>
            <a:ext cx="7034400" cy="14396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Object-Oriented Software Engineer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057400" y="3048120"/>
            <a:ext cx="6019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ton Elië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Vrije Universiteit, Amsterd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28 october 1998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cmg/html/o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http://www.cs.vu.nl/~eliens/online/courses/cmg/o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ymorph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 may have multiple typ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abstract type:   when it is u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ncrete type: when it is crea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’s type is determined by its behavi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’s type is determined by the messages it allow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505320" y="762120"/>
            <a:ext cx="1981080" cy="7617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438280"/>
            <a:ext cx="213372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2438280"/>
            <a:ext cx="198108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962520" y="914400"/>
            <a:ext cx="112068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hap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209680" y="2590920"/>
            <a:ext cx="183672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ctang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952880" y="2590920"/>
            <a:ext cx="1127160" cy="517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irc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0" y="2666880"/>
            <a:ext cx="2035080" cy="5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Compoun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67480" y="3429000"/>
            <a:ext cx="76320" cy="763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2438280"/>
            <a:ext cx="2210040" cy="99072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4266720" y="1447920"/>
            <a:ext cx="30492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572000" y="1463760"/>
            <a:ext cx="76320" cy="365040"/>
          </a:xfrm>
          <a:custGeom>
            <a:avLst/>
            <a:gdLst/>
            <a:ahLst/>
            <a:rect l="l" t="t" r="r" b="b"/>
            <a:pathLst>
              <a:path w="8" h="23">
                <a:moveTo>
                  <a:pt x="0" y="23"/>
                </a:moveTo>
                <a:cubicBezTo>
                  <a:pt x="3" y="15"/>
                  <a:pt x="8" y="0"/>
                  <a:pt x="8" y="0"/>
                </a:cubicBezTo>
                <a:cubicBezTo>
                  <a:pt x="8" y="0"/>
                  <a:pt x="3" y="15"/>
                  <a:pt x="0" y="23"/>
                </a:cubicBezTo>
                <a:close/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276360" y="2362320"/>
            <a:ext cx="759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1523880"/>
            <a:ext cx="75960" cy="763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1981080"/>
            <a:ext cx="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2720" y="2438280"/>
            <a:ext cx="0" cy="763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047760" y="1523880"/>
            <a:ext cx="144756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95680" y="1523880"/>
            <a:ext cx="121932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5680" y="1523880"/>
            <a:ext cx="3505320" cy="914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914400"/>
            <a:ext cx="213336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84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bstract: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0" y="2590920"/>
            <a:ext cx="1812960" cy="571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36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ncrete: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esign by Contr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ormal basis -- pre and post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finement -- by inheritance or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untime checks -- division of responsi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Ch. 3, Contrac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84240" y="762120"/>
            <a:ext cx="7034400" cy="12189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an Francisco Frame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057400" y="3047760"/>
            <a:ext cx="5943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 useful is an OO framework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framework is 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llection of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generic solution for a class of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frame of mind for solving probl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et of architectural constra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n Francisco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meant to develop business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s based on Java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solve 70% of your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aves 30% (minimum) to solve for yo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set a stand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 may fail to do so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motiv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project was started when several software vendors asked IBM to help modernizing their application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owever, there were several barriers preventing them from being able to update their appl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riers to moderniz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1) The problem of how to retrain their development staff to effectively use OO technolog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2) The risk involved in moving to a new technolog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3) moving -&gt; the cost of the chan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oftware developers realized they needed some basic  infrastructure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y companies could not develop this infrastructure themselve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the p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an Francisco project helps to solve these problems by offering developers Business Process Components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gned as frameworks that provides an object oriented infrastructu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consistent application programming model, 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me default business log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frameworks make it easier to move to OO technology because developers use well-tested services instead of building their ow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joview" descr=""/>
          <p:cNvPicPr/>
          <p:nvPr/>
        </p:nvPicPr>
        <p:blipFill>
          <a:blip r:embed="rId1"/>
          <a:stretch/>
        </p:blipFill>
        <p:spPr>
          <a:xfrm>
            <a:off x="358920" y="358920"/>
            <a:ext cx="690228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pic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asic OO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pplication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iversal Modeling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rrent developments and tren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Framework - 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re Business Process Layer - the high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Business Objects Layer - mid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ation Layer - lowe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usiness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objective for this layer is to create a sound architecture and highly extensible OO implementation for the basic structure and behavior which any application provider delivering a solution in the application doamin would require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unts Receivable/Payable Led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neral Ledger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les Order Management Framewor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rchase Order Mana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jocore2" descr=""/>
          <p:cNvPicPr/>
          <p:nvPr/>
        </p:nvPicPr>
        <p:blipFill>
          <a:blip r:embed="rId1"/>
          <a:stretch/>
        </p:blipFill>
        <p:spPr>
          <a:xfrm>
            <a:off x="358920" y="358920"/>
            <a:ext cx="7081560" cy="55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Business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Objects common to multiple dom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on Application level Servi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BO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Partn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umber - decimal 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rrency - how many euros in a dollar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undation Object Model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tiliti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 other words: it provides the infrastru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ent: reinventing the wheel is not a big problem, because the wheel is a terrific inven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ndation Object Model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man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t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pend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lection/Itera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cto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need to study Design Patterns to appreciate thes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ing the San Francisco Frame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San Francisco Frameworks are designed to make many types of extensions easy for application dvelopers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riding the default business logic in supplied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ing additional attributes to existing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ding additional methods to existing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rom the report: Complete documentation will be provided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wo classes: Receipt and Purchase order Lin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ault attributes,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ault business logic: inspect Quality on receip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tension: enhance this logi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bclass Receipt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verride inspection metho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ange logic to include checks against supplier tables, and hazardous or high value produ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sfexmp2" descr=""/>
          <p:cNvPicPr/>
          <p:nvPr/>
        </p:nvPicPr>
        <p:blipFill>
          <a:blip r:embed="rId1"/>
          <a:stretch/>
        </p:blipFill>
        <p:spPr>
          <a:xfrm>
            <a:off x="358920" y="358920"/>
            <a:ext cx="7356240" cy="5738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n Francisco -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ndards: OMG/CORBA Business Issu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ology Integration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ound Documents: Lotus Notes, JavaBeans, Active X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process Modelling and Control: workflow engines may be used as glue …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net/Intranet and Java: applications may be designed …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lusions: … a bit prematur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 Answe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33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al Mode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hy you need model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s are necessary to communicat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stabilize ab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 a reference for the implement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mainten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you need an agreement on the notation and formalisms in which you express your model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Unified Modelling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se case diagr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lass diagr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haviour diagram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tate-chart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ctivity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interaction diagram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equence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ollaboration diagr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mplementation diagram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omponent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deployment diagra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some background see: Ch. 11: Methods and Tool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ML - Quick Reference and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apted from the Rational Rose Quick Reference at http://www.rational.com/uml/q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cribe properties of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d their (inter) rel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uml_class1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on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gain an operational intui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check calling ch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uml_inter1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4678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fine the boundary between the system and its u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ight be a good subject for a paper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uml_genrl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15328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on  diagr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further analyze the relations between class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gments: class diagram and interaction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words and phr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OO lifecycle -- modell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ncapsulation, inheritance, delegation, 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pecification and implementation 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by contra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nterfaces, components and 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dioms, patterns, software architectu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uml_inter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sibility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implementation orient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t remember: ignorance is bliss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uml_class3" descr=""/>
          <p:cNvPicPr/>
          <p:nvPr/>
        </p:nvPicPr>
        <p:blipFill>
          <a:blip r:embed="rId1"/>
          <a:stretch/>
        </p:blipFill>
        <p:spPr>
          <a:xfrm>
            <a:off x="2868480" y="380880"/>
            <a:ext cx="33228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 and Deployment diagr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imarily for the system archit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uml_compon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94360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ociations, roles, aggreg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You may augment the model to any ext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sonally, I believe in constrai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e for example: Fowler - Analysis 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uml_class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15328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uml_class4" descr=""/>
          <p:cNvPicPr/>
          <p:nvPr/>
        </p:nvPicPr>
        <p:blipFill>
          <a:blip r:embed="rId1"/>
          <a:stretch/>
        </p:blipFill>
        <p:spPr>
          <a:xfrm>
            <a:off x="380880" y="2225520"/>
            <a:ext cx="83059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ynamic object behavior - state transi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tate transition diagrams are rarely us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cept in applications that require scheduling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flow, simulation, concurrenc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uml_state1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05920" cy="38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84240" y="762120"/>
            <a:ext cx="7034400" cy="1218960"/>
          </a:xfrm>
          <a:prstGeom prst="rect">
            <a:avLst/>
          </a:prstGeom>
          <a:solidFill>
            <a:srgbClr val="ff3300"/>
          </a:solidFill>
          <a:ln w="2556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ic OO Technololo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057400" y="3047760"/>
            <a:ext cx="5943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echnology determines the effectiveness of the approac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uml_state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aging O-O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v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n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                                             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ject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ical Success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incremental scheduling and stag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ind and fix failing idea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 a habit of delive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et: sponsor, project manager, technical lea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Failure Indic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bsence of incremental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of C++ in commercial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Surviving Object-Oriented Projects: A Managers Gu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O - Success and Fail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= technology + mind-s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t might be new technology to your organi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velopers love it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quires and enables communication between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dopting OO may succeed or fail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benefits - responsive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ponsiveness - variations on a the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sponsiveness to chang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ime-to-mark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munication - developers, users, executiv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tenance, reuse, produ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GUI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orale -- cutting-edge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re YOU underestimating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ductivity takes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hazards of C++ (and Java, ...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use is difficul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stablishing a software proce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usiness-modelling or software desig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ASE helps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You will pay for: training, experience, tools, consultants,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azards of C++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++ won the language war over Eiffel, Objective-C, SOM, C@+, and Java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-- relative simplicity and portabil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naging (the complexity of) 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isconception: C++ is like 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ider using another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y does C++ exist? - engineering and systems program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eate a subset of the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ign and coding standar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e people with knowledg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-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ok carefully all around the projec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tect the risks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ist the risks in ord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ork on the risks in order of dang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Risk Avoidance Patter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psul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hid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herita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ymorphis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echnology and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M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is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work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tra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RB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ame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Frameworks = Components + Patter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lph Johnson, CACM Nov. 1997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elf-documentation Princip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ertrand Meyer, OO Software Construction 2nd 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designer of a module should strive to make all information about the module part of the module itself ..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benef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benefits of frameworks stem from the inversion of control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Framework defines an Architecture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ftware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ftware Architecture = a set of rules, guidelines, interfaces, and conventions used to define how components and applications communicate and interoperate with each other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patter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R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issue is standardis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y means of interfa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looking for consensu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is differs from a de-facto standar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mposed by market share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Ch 11: Application integration -- standards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framework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Catalogue of Design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common design vocabular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ocumentation and learning ai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n adjunct to existing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a target for redesign</a:t>
            </a:r>
            <a:br>
              <a:rPr sz="2800"/>
            </a:br>
            <a:br>
              <a:rPr sz="28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the GOF Design Patterns and the Patterns Homepage</a:t>
            </a:r>
            <a:br>
              <a:rPr sz="2000"/>
            </a:b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attern Schema: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Name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hand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creases design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blem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when to appl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lains th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problem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th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olution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general arrange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ign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responsibiliti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collabor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nsequences -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de-off'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o understand the costs and benefi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s for Redesign (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1. creating an object by specifying a class explicitly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Factory Method, Prototyp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2. dependence on specific operatio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in of Responsibility, Comman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3. dependence on hardware &amp; software platform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Bridg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4. dependence on object implementation or representation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Bridge, Memento, Prox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uses for Redesign (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5. algorithm dependence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uilder, Iterator, Strategy, Template Method, Visi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6. extending functionality by subclassing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ridge, Chain, Composite, Decorator, Ob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7. tight coupling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bstract Factory, Bridge, Chain of Responsibilities, Command, Facade, Mediator, Observ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8. inability to alter classes conveniently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aptor, Decorator, Visit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inds of Patt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reational patter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actory, Singleton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tructural patter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aptor, Composite, Bridge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ehavioral patterns --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diator, Observer, Command,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ee U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apsul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 object contains data and method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 provides a boundary: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the world outsid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 its ‘children’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33cc33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f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is the Answer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hat 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Question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see Ted Lewis, IEEE Computer, March 1997, p. 136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dream: UNC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is pervas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member, most of Java is just warmed-up C/C++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NCOL = Universal Common Langua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(1963) Algol -&gt; PL/I -&gt; Pascal -&gt; Ada -&gt; C++ -&gt; 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as UNCOL: the dial-tone of the Intern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if today's languages are inadequate for Software then Java must be inadequate too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stages of legacy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ur responsibility is that future applications (built with Java) are well-behaved legacy system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US DOD: $ 30 billion in year 2000 probl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maintaining legacy COBOL from the 70's is a major industry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by 2010, Java will be the maintenance tail wagging the software dog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 Java doomed to repeat histo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elegant minimalism is one of the goals of Java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remember Pascal, a toy language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lacks IO, OS support ..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Java = watered-down C++, retrofitting Pasca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yntax: int i = ++i--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unruly scope rules: C++ plus f i n a l, n a t i v e, s y n c h r o n i z e d, 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reads: potential deadloc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: a better mousetra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requirements: no support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assert)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facts: syntax,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non-standard API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onents: Beans </a:t>
            </a:r>
            <a:r>
              <a:rPr b="0" lang="en-GB" sz="2800" spc="-1" strike="noStrike">
                <a:solidFill>
                  <a:srgbClr val="000066"/>
                </a:solidFill>
                <a:latin typeface="Symbol"/>
                <a:ea typeface="Symbol"/>
              </a:rPr>
              <a:t></a:t>
            </a: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 ActiveX, CORBA, OpenDo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ycle time: Java does little to accommodate Internet time, like script languages d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omplexity: </a:t>
            </a:r>
            <a:r>
              <a:rPr b="0" i="1" lang="en-GB" sz="2800" spc="-1" strike="noStrike">
                <a:solidFill>
                  <a:srgbClr val="000066"/>
                </a:solidFill>
                <a:latin typeface="Arial"/>
              </a:rPr>
              <a:t>Java does not advance the intellectual frontier!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cc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Dimensions of Ri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du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wnershi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on't discuss risks, unless you know how to do Project Manageme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 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lear the fog -- get to the real issu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arly and regular delivery -- discover what you don't know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ototype! -- discover how it really work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reate microcosm -- do something real, but with c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 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eam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olistic diversity -- co-ordinate specialists!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Productiv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gold rush -- start immediately, adjust slowl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wnership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unction / component owners -- create responsibil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sk Reduction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istrac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omeone always makes progress -- no total interruptio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eam per task -- a subteam deals with divers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acrifice one person -- and preserve the team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rain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ay care -- hire an expert to take care of novi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h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ces complexit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you to defer implement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member: Ignorance is blis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elps in decoupling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OO offer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valid metaphor for 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ful technolog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aturing design methods and not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 rich set of patter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et beware o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the learning cur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simplified h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cutting edge technolog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(over) ambitious projec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ign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paper about one of the following topics. The paper may discuss concepts or focus on a case study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Unified Modelling Language -- UM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Frameworks -- for example San Francisc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Write a comparative study of object-oriented analysis and design methods, focussing on aspects of project manageme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</a:rPr>
              <a:t>Describe a case study concerning the deployment of design pattern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urse mater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pter 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dditional materi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3: Design by Contrac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Ch 11: Methods and Too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Object Tutorial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 -- Rational Rose, UM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 -- IBM Java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apers and Repor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rational.com/uml/html/summary -- UML Summar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ttp://www.ibm.com/Java/Sanfrancisco/prd_summary.html -- San Francisco </a:t>
            </a:r>
            <a:r>
              <a:rPr b="0" lang="en-GB" sz="1600" spc="-1" strike="noStrike">
                <a:solidFill>
                  <a:srgbClr val="000066"/>
                </a:solidFill>
                <a:latin typeface="Arial"/>
              </a:rPr>
              <a:t>Technical Summary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58560"/>
            <a:ext cx="8229600" cy="6858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66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eri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1788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mechanism for code-shar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ports incremental developmen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by classificat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llows for abstract interfac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09:33:18Z</dcterms:created>
  <dc:creator>Anton Eliens</dc:creator>
  <dc:description/>
  <dc:language>en-US</dc:language>
  <cp:lastModifiedBy>User</cp:lastModifiedBy>
  <cp:lastPrinted>1998-06-05T13:16:25Z</cp:lastPrinted>
  <dcterms:modified xsi:type="dcterms:W3CDTF">1998-10-06T11:59:26Z</dcterms:modified>
  <cp:revision>49</cp:revision>
  <dc:subject>CMG Course</dc:subject>
  <dc:title>Object-Oriented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2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cs.vu.nl/~eliens/cmg</vt:lpwstr>
  </property>
  <property fmtid="{D5CDD505-2E9C-101B-9397-08002B2CF9AE}" pid="9" name="LinkColor">
    <vt:r8>16711782</vt:r8>
  </property>
  <property fmtid="{D5CDD505-2E9C-101B-9397-08002B2CF9AE}" pid="10" name="MailAddress">
    <vt:lpwstr>eliens@cs.vu.nl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www\cmg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