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4630400" cy="6858000"/>
  <p:notesSz cx="6973888" cy="10098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4640" y="762120"/>
            <a:ext cx="11257200" cy="1218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371600"/>
            <a:ext cx="12436560" cy="9907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yond  Object-Orien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3880" y="685800"/>
            <a:ext cx="11506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rends -- model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tterns -- examples of desig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ML -- Unified Modeling Languag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chnologies -- compon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eb -- global infrastructur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RBA/DCOM - the software bu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ava -- the platform?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lleng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pplications -&gt; Frameworks &lt;- Patter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6920" y="304920"/>
            <a:ext cx="12436560" cy="76176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s in O-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12344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ertical framework development -- finance, medical care, insuranc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paration of 'logic' from  'control' -- business rul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tributed object technology -- heterogeneous system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isualisation -- structure and process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nowledge intensive applications -- declarativ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terogeneous systems - fragmented application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5T09:33:18Z</dcterms:created>
  <dc:creator>Anton Eliens</dc:creator>
  <dc:description/>
  <dc:language>en-US</dc:language>
  <cp:lastModifiedBy>Eliens</cp:lastModifiedBy>
  <cp:lastPrinted>1998-06-05T13:16:25Z</cp:lastPrinted>
  <dcterms:modified xsi:type="dcterms:W3CDTF">1999-10-22T10:22:36Z</dcterms:modified>
  <cp:revision>57</cp:revision>
  <dc:subject>CMG Course</dc:subject>
  <dc:title>Object-Oriented 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