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1604520"/>
            <a:ext cx="13167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4640" y="761760"/>
            <a:ext cx="11257200" cy="1439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bject-Oriented Software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92200" y="3048120"/>
            <a:ext cx="9629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ton Elië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rije Universiteit, Amsterd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www.cs.vu.nl/~eliens/online/courses/o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p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sic OO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pplication Framework(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niversal Modeling Langu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Patter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ject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urrent developments and tre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he Answer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Ques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words and phr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OO lifecycle -- model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capsulation, inheritance, delegation, 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pecification and implementation 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by contra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faces, components and frame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dioms, patterns, software archite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0:58:40Z</dcterms:modified>
  <cp:revision>58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