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ffff"/>
                </a:solidFill>
                <a:latin typeface="Arial"/>
              </a:rPr>
              <a:t>Recurring questions - Web Applic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What is the economic model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Does it sca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Can you maintain the stuff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Is there an </a:t>
            </a:r>
            <a:r>
              <a:rPr b="0" i="1" lang="en-GB" sz="2900" spc="-1" strike="noStrike">
                <a:solidFill>
                  <a:srgbClr val="008000"/>
                </a:solidFill>
                <a:latin typeface="Arial"/>
              </a:rPr>
              <a:t>installed base</a:t>
            </a: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sign a web-site for your department, or another subject of your choice - </a:t>
            </a:r>
            <a:r>
              <a:rPr b="0" i="1" lang="en-GB" sz="2100" spc="-1" strike="noStrike">
                <a:solidFill>
                  <a:srgbClr val="000066"/>
                </a:solidFill>
                <a:latin typeface="AvantGarde"/>
              </a:rPr>
              <a:t>Include a description of the concept, a flowgraph, and a discussion of technical and support requirements.</a:t>
            </a:r>
            <a:endParaRPr b="0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Develop a Javascript glossary, quiz or assessment for a subject of your choice.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0066"/>
                </a:solidFill>
                <a:latin typeface="Arial"/>
              </a:rPr>
              <a:t>Write a 3-page paper on:   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624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The application of meta-data for a particular domain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624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The development of three tier business application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624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Site development for a particular kind of busines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440792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Glossary Web Terminology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ummary HTML (3.2, 4.0)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Javascript example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Lightbulb tutorial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Browser compatibility test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WWW5 Workshop - A search for APIs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WWW6 Workshop - Logic programming and the Web 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0">
              <a:spcBef>
                <a:spcPts val="624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ourse Material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lnSpc>
                <a:spcPct val="13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P. Fraternali, </a:t>
            </a:r>
            <a:r>
              <a:rPr b="0" i="1" lang="en-US" sz="2500" spc="-1" strike="noStrike">
                <a:solidFill>
                  <a:srgbClr val="000066"/>
                </a:solidFill>
                <a:latin typeface="Arial"/>
              </a:rPr>
              <a:t>Web Development Tools: a survey,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Proceedings WWW7, pp. 631-633, Elsevier 1998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lnSpc>
                <a:spcPct val="130000"/>
              </a:lnSpc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K. Maly, C.M. Overstreet, A. Gonzalez, M. Denbar, R. Cutaran, N. Karunaratne and C.J. Srinivas, </a:t>
            </a:r>
            <a:r>
              <a:rPr b="0" i="1" lang="en-US" sz="2500" spc="-1" strike="noStrike">
                <a:solidFill>
                  <a:srgbClr val="000066"/>
                </a:solidFill>
                <a:latin typeface="Arial"/>
              </a:rPr>
              <a:t>Use of Web Technology for Interactive Remote Instruction,</a:t>
            </a: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 Proceedings WWW7, pp. 660-662, Elsevier 1998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14:07:00Z</dcterms:modified>
  <cp:revision>32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