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4687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B723-915C-419D-BA53-788342FE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B2F4-D1BF-4AC0-97E9-1435CA10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BC09-46D0-46B0-87DC-4B1E6BB0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81CD-686D-4DC3-BAA1-4C86A65E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A9A3-E484-425C-8AC1-98FCD2F9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EE89-80BF-47EB-987C-BA24F999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B8F7-D18D-47C1-BDA2-DBADF5B1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7E78-EC34-424E-BB74-76F9A7D71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6CA7-FE4E-4534-A463-BEA533CD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AA63-1B32-410F-AF13-E922CD24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33B3-3E3F-44F5-A2DC-B2536A61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DBAD-62B3-439B-8E8A-C347C704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D90D-BC5D-4D12-88A4-0AEF8C12A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92680" y="3740040"/>
            <a:ext cx="1815840" cy="8254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ared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3733920"/>
            <a:ext cx="1295280" cy="8380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762120"/>
            <a:ext cx="4102200" cy="1587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01840" y="2516040"/>
            <a:ext cx="530280" cy="4543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48000" y="2617920"/>
            <a:ext cx="2383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11680" y="2744640"/>
            <a:ext cx="530280" cy="45432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6080" y="2592360"/>
            <a:ext cx="530280" cy="45396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5880" y="2440080"/>
            <a:ext cx="2506680" cy="834840"/>
          </a:xfrm>
          <a:prstGeom prst="roundRect">
            <a:avLst>
              <a:gd name="adj" fmla="val 16657"/>
            </a:avLst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914400"/>
            <a:ext cx="1520640" cy="12873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838080"/>
            <a:ext cx="911160" cy="682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3505320" y="1981080"/>
            <a:ext cx="1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657600" y="3047760"/>
            <a:ext cx="38088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800600" y="3124080"/>
            <a:ext cx="152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4267080" y="3276720"/>
            <a:ext cx="15264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733920" y="1371600"/>
            <a:ext cx="30456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4495680" y="1752120"/>
            <a:ext cx="45720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80400" y="914400"/>
            <a:ext cx="677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1600200"/>
            <a:ext cx="932040" cy="6001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89600" y="2556000"/>
            <a:ext cx="5994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76440" y="3124080"/>
            <a:ext cx="0" cy="5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00400" y="4038480"/>
            <a:ext cx="685800" cy="144720"/>
          </a:xfrm>
          <a:prstGeom prst="rightArrow">
            <a:avLst>
              <a:gd name="adj1" fmla="val 50000"/>
              <a:gd name="adj2" fmla="val 118514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2880" y="534960"/>
            <a:ext cx="5406840" cy="281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16160" y="1149480"/>
            <a:ext cx="749160" cy="10587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11120" y="1143000"/>
            <a:ext cx="732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34120" y="3110040"/>
            <a:ext cx="11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User Enviro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67720" y="914400"/>
            <a:ext cx="1581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Compon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40120" y="754200"/>
            <a:ext cx="90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User Displ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30960" y="920880"/>
            <a:ext cx="825480" cy="12826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96760" y="907920"/>
            <a:ext cx="927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1219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019920" y="19051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1676520"/>
            <a:ext cx="292320" cy="291960"/>
          </a:xfrm>
          <a:prstGeom prst="cube">
            <a:avLst>
              <a:gd name="adj" fmla="val 24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7760" y="1225440"/>
            <a:ext cx="139680" cy="139680"/>
          </a:xfrm>
          <a:prstGeom prst="cube">
            <a:avLst>
              <a:gd name="adj" fmla="val 24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21280" y="1225440"/>
            <a:ext cx="596880" cy="520920"/>
          </a:xfrm>
          <a:prstGeom prst="cube">
            <a:avLst>
              <a:gd name="adj" fmla="val 24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56480" y="1409760"/>
            <a:ext cx="599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d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52800" y="2610000"/>
            <a:ext cx="660240" cy="50796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76440" y="230508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134440" y="2644920"/>
            <a:ext cx="704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9T17:05:14Z</dcterms:created>
  <dc:creator>Peter Paul Bakker</dc:creator>
  <dc:description/>
  <dc:language>en-US</dc:language>
  <cp:lastModifiedBy>Bastiaan Schönhage</cp:lastModifiedBy>
  <cp:lastPrinted>1998-02-17T16:30:30Z</cp:lastPrinted>
  <dcterms:modified xsi:type="dcterms:W3CDTF">1998-02-17T16:30:39Z</dcterms:modified>
  <cp:revision>11</cp:revision>
  <dc:subject/>
  <dc:title>No Slide Title</dc:title>
</cp:coreProperties>
</file>