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46304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28240"/>
            <a:ext cx="1243656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1499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chitecture -- components and boundari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se study -- a framework for multimedia feature detec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ative objects -- the language boundar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bedded logic -- the paradigm boundar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chitectural styles -- distributed object technolog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oss-platform development -- Unix versus Window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5562720"/>
            <a:ext cx="146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ditional keywords and phras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s, information architecture, multimedia information retrieval, feature detection, portabilit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920" y="456840"/>
            <a:ext cx="12436560" cy="762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of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65040" y="3580920"/>
            <a:ext cx="13900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cessing elements -- transformation on dat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elements -- contain inform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nections -- glue that holds elements togeth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826720" y="190512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[Wolf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1243656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s and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11582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gical -- functional requiremen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cess -- performance, availability, distribu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hysical -- scalability, configur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ment -- organization of software modul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cenarios -- instances of use cas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5257800"/>
            <a:ext cx="1426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finitio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ttp://www.sei.cmu.edu/architecture/definitions.htm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60240" y="1143000"/>
            <a:ext cx="31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[Kruchten95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2560" y="1828800"/>
            <a:ext cx="780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software architecture of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 or computing system is th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ucture of the system, whic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rises software components, th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ternally visible properties of tho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s, and thei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errelationshi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131200" y="537516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s et 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1243656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ical 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222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ent-platform -- hardware, O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sentation services -- windows, multimedi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lication software -- code, business logic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twork -- communication suppor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ddleware -- distribution, (object) broker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rver platform -- hardware, O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base -- data management system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947680" y="12952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[CS200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28240"/>
            <a:ext cx="1243656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Object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905120"/>
            <a:ext cx="1402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ramework                                                     (class hierarchi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pplications                                                                (wrapper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ystem                                          (horizontal, vertical, metadat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terprise                  (reference models, infrastructure, polici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ra/Internet                                                                (standard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972800" y="12114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[CorbaPatterns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Eliens</cp:lastModifiedBy>
  <cp:lastPrinted>1998-06-05T13:16:25Z</cp:lastPrinted>
  <dcterms:modified xsi:type="dcterms:W3CDTF">1999-10-22T10:49:06Z</dcterms:modified>
  <cp:revision>57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