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4630400" cy="6858000"/>
  <p:notesSz cx="6973888" cy="10098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13087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30080" y="3926880"/>
            <a:ext cx="13087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3616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30080" y="392688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436160" y="392688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54840" y="129492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579960" y="129492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30080" y="392688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154840" y="392688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579960" y="392688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30080" y="1294920"/>
            <a:ext cx="1308744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130874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63864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436160" y="1294920"/>
            <a:ext cx="63864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120" y="358560"/>
            <a:ext cx="13167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7436160" y="1294920"/>
            <a:ext cx="63864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30080" y="392688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30080" y="1294920"/>
            <a:ext cx="1308744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63864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743616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436160" y="392688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43616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30080" y="3926880"/>
            <a:ext cx="13087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13087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30080" y="3926880"/>
            <a:ext cx="13087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43616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30080" y="392688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7436160" y="392688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54840" y="129492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579960" y="129492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30080" y="392688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5154840" y="392688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9579960" y="392688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130874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63864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436160" y="1294920"/>
            <a:ext cx="63864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358560"/>
            <a:ext cx="13167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436160" y="1294920"/>
            <a:ext cx="63864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30080" y="392688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63864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43616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36160" y="392688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43616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0080" y="3926880"/>
            <a:ext cx="13087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30080" y="1294920"/>
            <a:ext cx="130874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9229680" y="6497640"/>
            <a:ext cx="4060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ff"/>
                </a:solidFill>
                <a:latin typeface="LucidaSans"/>
              </a:rPr>
              <a:t>vrije</a:t>
            </a:r>
            <a:r>
              <a:rPr b="0" lang="en-GB" sz="1200" spc="-1" strike="noStrike">
                <a:solidFill>
                  <a:srgbClr val="8791a5"/>
                </a:solidFill>
                <a:latin typeface="LucidaSans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LucidaSans"/>
              </a:rPr>
              <a:t>Universiteit</a:t>
            </a:r>
            <a:r>
              <a:rPr b="0" lang="en-GB" sz="1200" spc="-1" strike="noStrike">
                <a:solidFill>
                  <a:srgbClr val="8791a5"/>
                </a:solidFill>
                <a:latin typeface="LucidaSans"/>
              </a:rPr>
              <a:t>    </a:t>
            </a:r>
            <a:r>
              <a:rPr b="0" i="1" lang="en-GB" sz="1200" spc="-1" strike="noStrike">
                <a:solidFill>
                  <a:srgbClr val="0000ff"/>
                </a:solidFill>
                <a:latin typeface="LucidaSans"/>
              </a:rPr>
              <a:t>amsterdam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74640" y="6497640"/>
            <a:ext cx="7655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LucidaSans"/>
              </a:rPr>
              <a:t>Postacademische Cursus Informatie Technologie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" name="VU-kip" descr=""/>
          <p:cNvPicPr/>
          <p:nvPr/>
        </p:nvPicPr>
        <p:blipFill>
          <a:blip r:embed="rId2"/>
          <a:stretch/>
        </p:blipFill>
        <p:spPr>
          <a:xfrm>
            <a:off x="13244400" y="5973840"/>
            <a:ext cx="1200240" cy="814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74640" y="762120"/>
            <a:ext cx="11257200" cy="121896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229680" y="6497640"/>
            <a:ext cx="4060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ff"/>
                </a:solidFill>
                <a:latin typeface="LucidaSans"/>
              </a:rPr>
              <a:t>vrije</a:t>
            </a:r>
            <a:r>
              <a:rPr b="0" lang="en-GB" sz="1200" spc="-1" strike="noStrike">
                <a:solidFill>
                  <a:srgbClr val="8791a5"/>
                </a:solidFill>
                <a:latin typeface="LucidaSans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LucidaSans"/>
              </a:rPr>
              <a:t>Universiteit</a:t>
            </a:r>
            <a:r>
              <a:rPr b="0" lang="en-GB" sz="1200" spc="-1" strike="noStrike">
                <a:solidFill>
                  <a:srgbClr val="8791a5"/>
                </a:solidFill>
                <a:latin typeface="LucidaSans"/>
              </a:rPr>
              <a:t>    </a:t>
            </a:r>
            <a:r>
              <a:rPr b="0" i="1" lang="en-GB" sz="1200" spc="-1" strike="noStrike">
                <a:solidFill>
                  <a:srgbClr val="0000ff"/>
                </a:solidFill>
                <a:latin typeface="LucidaSans"/>
              </a:rPr>
              <a:t>amsterdam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74640" y="6497640"/>
            <a:ext cx="7655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LucidaSans"/>
              </a:rPr>
              <a:t>Postacademische Cursus Informatie Technologie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4" name="VU-kip" descr=""/>
          <p:cNvPicPr/>
          <p:nvPr/>
        </p:nvPicPr>
        <p:blipFill>
          <a:blip r:embed="rId2"/>
          <a:stretch/>
        </p:blipFill>
        <p:spPr>
          <a:xfrm>
            <a:off x="13244400" y="5973840"/>
            <a:ext cx="1200240" cy="814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31520" y="1604520"/>
            <a:ext cx="13167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74640" y="762120"/>
            <a:ext cx="11257200" cy="1218960"/>
          </a:xfrm>
          <a:prstGeom prst="rect">
            <a:avLst/>
          </a:prstGeom>
          <a:solidFill>
            <a:srgbClr val="ff3300"/>
          </a:solidFill>
          <a:ln w="2556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asic OO Technolog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292560" y="3047760"/>
            <a:ext cx="95090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echnology determines the effectiveness of the approach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316160" y="498600"/>
            <a:ext cx="12217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Responsibilities                                      what rather than how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o specify behavior                   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lient                                                         client/server model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makes request to perform a   service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ovides service upon request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438200" y="574560"/>
            <a:ext cx="105094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object = information  +  responsibiliti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ontract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                         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 set of servic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Behavioral refinement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                         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mproving contract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778120" y="1870200"/>
            <a:ext cx="91695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onformance --      behavioral refinemen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f B refines A then B may b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used wherever A is allowed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974880" y="914400"/>
            <a:ext cx="12436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ttributes                                                                 refine                                                              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more inform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ervic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better servic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ontract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more and better servic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 better servic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ewer restrictions for the clien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more obligations for the serve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463760" y="1031760"/>
            <a:ext cx="11702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Object-Oriented   Modelin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ototyping, specification, refinement, interactions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                     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OOP = Contracts + Refinement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ep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31520" y="1294920"/>
            <a:ext cx="130856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ncapsula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ata hiding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nheritanc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olymorphism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caps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31520" y="1294920"/>
            <a:ext cx="130856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n object contains data and method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t provides a boundary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o the world outsid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o its ‘children’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ation hi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31520" y="1294920"/>
            <a:ext cx="130856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educes complexit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llows you to defer implementatio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emember: Ignorance is blis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Helps in decoupling componen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heri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31520" y="1294920"/>
            <a:ext cx="130856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 mechanism for code-sharing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upports incremental developmen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rganize by classifica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llows for abstract interfac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ymorph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31520" y="1294920"/>
            <a:ext cx="130856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n object may have multiple typ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n abstract type:   when it is use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 concrete type: when it is create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n object’s type is determined by its behavio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n object’s type is determined by the messages it allow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608800" y="762120"/>
            <a:ext cx="3170160" cy="76176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70160" y="2438280"/>
            <a:ext cx="3413160" cy="99072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315200" y="2438280"/>
            <a:ext cx="3170160" cy="99072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340320" y="914400"/>
            <a:ext cx="1792440" cy="517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Shap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535200" y="2590920"/>
            <a:ext cx="2938680" cy="517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Rectangl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7924680" y="2590920"/>
            <a:ext cx="1803600" cy="517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Circl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0972800" y="2666880"/>
            <a:ext cx="3255840" cy="517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Compoun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947680" y="3429000"/>
            <a:ext cx="122040" cy="7632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850400" y="2438280"/>
            <a:ext cx="3535560" cy="99072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 flipV="1">
            <a:off x="6827760" y="1447920"/>
            <a:ext cx="487440" cy="3808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7315200" y="1463760"/>
            <a:ext cx="122400" cy="365040"/>
          </a:xfrm>
          <a:custGeom>
            <a:avLst/>
            <a:gdLst/>
            <a:ahLst/>
            <a:rect l="l" t="t" r="r" b="b"/>
            <a:pathLst>
              <a:path w="8" h="23">
                <a:moveTo>
                  <a:pt x="0" y="23"/>
                </a:moveTo>
                <a:cubicBezTo>
                  <a:pt x="3" y="15"/>
                  <a:pt x="8" y="0"/>
                  <a:pt x="8" y="0"/>
                </a:cubicBezTo>
                <a:cubicBezTo>
                  <a:pt x="8" y="0"/>
                  <a:pt x="3" y="15"/>
                  <a:pt x="0" y="23"/>
                </a:cubicBezTo>
                <a:close/>
              </a:path>
            </a:pathLst>
          </a:custGeom>
          <a:noFill/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241600" y="2362320"/>
            <a:ext cx="12204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070760" y="1523880"/>
            <a:ext cx="122040" cy="763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192800" y="1981080"/>
            <a:ext cx="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8899560" y="2438280"/>
            <a:ext cx="0" cy="7632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876560" y="1523880"/>
            <a:ext cx="2315880" cy="9144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192800" y="1523880"/>
            <a:ext cx="1951200" cy="9144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192800" y="1523880"/>
            <a:ext cx="5608800" cy="9144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87440" y="914400"/>
            <a:ext cx="3414600" cy="533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844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bstract: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0" y="2590920"/>
            <a:ext cx="2900520" cy="571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6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oncrete: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esign by Contr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31520" y="1294920"/>
            <a:ext cx="130856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formal basis -- pre and post conditio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refinement -- by inheritance or polymorphism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runtime checks -- division of responsibilit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see Ch. 3, Contract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 by Contr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073240" y="2133720"/>
            <a:ext cx="9509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bstract Data Types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DT = state + behavio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Object-Oriented  Modelin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data orient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5T09:33:18Z</dcterms:created>
  <dc:creator>Anton Eliens</dc:creator>
  <dc:description/>
  <dc:language>en-US</dc:language>
  <cp:lastModifiedBy>Eliens</cp:lastModifiedBy>
  <cp:lastPrinted>1998-06-05T13:16:25Z</cp:lastPrinted>
  <dcterms:modified xsi:type="dcterms:W3CDTF">1999-10-22T11:07:06Z</dcterms:modified>
  <cp:revision>58</cp:revision>
  <dc:subject>CMG Course</dc:subject>
  <dc:title>Object-Oriented Software Engineer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cs.vu.nl/~eliens/cmg</vt:lpwstr>
  </property>
  <property fmtid="{D5CDD505-2E9C-101B-9397-08002B2CF9AE}" pid="9" name="LinkColor">
    <vt:r8>16711782</vt:r8>
  </property>
  <property fmtid="{D5CDD505-2E9C-101B-9397-08002B2CF9AE}" pid="10" name="MailAddress">
    <vt:lpwstr>eliens@cs.vu.nl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www\cmg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