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Basic Technolog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7960" y="1789200"/>
            <a:ext cx="14407920" cy="4672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, HTTP, MIM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lient / server archite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lient-side extens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rver-side extens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ssary Web Terminology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 and 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Web Consortium (W3C)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Markup - HTM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 2.0 - the basic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 3.2 - browser specific featur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 4.0 - the standard, with CS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SS - Cascading Style Shee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MarkUp (W3C)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otocols - HTT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TP 1.0 - slow and state-les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TP 1.1 - virtual connect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TP NG  - fast, interaction (state),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Protocols (W3C)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lient-side Technolog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yle sheets (CSS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ocument Object Mod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th, Graphics - XM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pplets - Jav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elper Applications -- audio,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lug-ins - audio, video, animation, virtual real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ynamic HTML - Javascrip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ctiveX - from Visual basic to ... Jav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Server-side Technolog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TP Server - like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</a:rPr>
              <a:t>Apach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rver side includes - 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shtm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GI - Perl, Python, Tc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rvlets - Jav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gateways - CORBA, DCOM, agent-middlewa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Web Architecture and Technology - issu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otocols - HTTP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ructured documents - SGML and XM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ynchronized multimedia - SMI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etadata - PICS (rating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resource description - RDF (enabling search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ivacy - P3P (platform for privacy preferences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-commerce - see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</a:rPr>
              <a:t>Ecommerce (W3C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eb accessibility -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14:06:24Z</dcterms:modified>
  <cp:revision>31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