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5544800" cy="73152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2" marL="1212840" indent="-2430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3" marL="1698480" indent="-24444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4" marL="2182680" indent="-24264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5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6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3280" y="812520"/>
            <a:ext cx="11958480" cy="1299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ccffff"/>
                </a:solidFill>
                <a:latin typeface="Arial"/>
              </a:rPr>
              <a:t>Education on the Web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Virtual Universiti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ele-learn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Education is changing …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6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Building a Web-based Education System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66ff99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Planning and Desig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ep 1: Develop a list of educational goals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ep 2: Identify implementation methods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ep 3: Prioritize approaches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ep 4: Design the structure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ep 5: Design a page layout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Navigation structur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ierarchical - like a book, ..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equential - as a guided tour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ypermedia - structural and associative link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Guidelin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ncentrate on conten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good design is simpl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legibility is the ke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ntext must be clear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nsistency means predictabilit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be accurate!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be unique ..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ppearance must match purpos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upport a variety of visitor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Page typ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ome pag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dex pag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ntent pag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udy guide pag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lectures - presentation pag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82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Technological limitations</a:t>
            </a:r>
            <a:endParaRPr b="0" lang="en-US" sz="33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peed, resolution, colors, multimedi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640" y="382320"/>
            <a:ext cx="14636880" cy="75564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Learning and Technology - learning paradig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17120" y="1380600"/>
            <a:ext cx="1390644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cale -- number of participan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ymmetry -- focus on participan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erception -- quality of audio/video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teractivity -- time-dela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-location -- distance between participan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st -- price per participan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ime -- time to achieve learning objectiv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ools -- the range of choice </a:t>
            </a:r>
            <a:br>
              <a:rPr sz="2900"/>
            </a:br>
            <a:br>
              <a:rPr sz="2900"/>
            </a:b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... traditional, distance learning, Web-based ..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Learning Suppor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llaboration Tools - XTV, NetMeeting, WEB-4M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Videoconferencing Tools - MBONE (Vic/Vat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eb Tools - QuestWriter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ross-Platform Tools - Unix/X and 95/N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Environments - CUSeeMe: conferencing, whiteboard, email, document shar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6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Use of Web technology for Remote Instruction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Benefits of a Web-based Classroo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77600" y="1544400"/>
            <a:ext cx="14766840" cy="4671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mputer mediation - store, index, search, convert, distribut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Geographic independence - lifestyle, quality of learning experienc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emporal independence - asynchronous particip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latform independence - 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CDROM, shockwave and plugins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Unified User Interface - popularity of the Web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creased communication, increased learner contro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Problems with a Web-based classroo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ccess and resources - …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st - LAN, ISD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raining - ... the Web can be intimidating …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dopting new methods - pedagogy matches technology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frastructure - support and administr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no uniform quality - (non) robust technology!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pyright, privacy, security, authentic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cceptance - ..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Institutional factor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ission statement, direc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frastructure and fund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romotion and reward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hanging (teaching) method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dmission procedur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eb publishing polici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ternet access and train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50000"/>
              </a:lnSpc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5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... and what do your collegues say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Client software and hardware - Q/A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client operating system is being used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is the minimum hardware availabl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client software is availabl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peripherals are availabl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access is there to the client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ow competent are the participants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ill the staff or students require training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Server software and hardware - Q/A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operating system does the server hav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are the characteristics of the server's hardwar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software is available on the server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are the capabilities of the softwar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else is the server being used for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ow reliable is the server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access do you have to the server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support is available for the server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Technical suppor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erver software and hardwa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network infra structu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raining in the use of technolog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roblems and questions - helpdesk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09:17:39Z</dcterms:created>
  <dc:creator>Anton Eliens</dc:creator>
  <dc:description/>
  <dc:language>en-US</dc:language>
  <cp:lastModifiedBy>eliens</cp:lastModifiedBy>
  <cp:lastPrinted>1998-05-11T11:07:01Z</cp:lastPrinted>
  <dcterms:modified xsi:type="dcterms:W3CDTF">1999-10-09T14:00:59Z</dcterms:modified>
  <cp:revision>31</cp:revision>
  <dc:subject>CMG Course</dc:subject>
  <dc:title>Web Ap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online/course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