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907588" cy="68580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360" y="3842280"/>
            <a:ext cx="885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5320" y="129492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360" y="384228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5320" y="384228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2852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0920" y="1294920"/>
            <a:ext cx="2852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86840" y="1294920"/>
            <a:ext cx="2852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360" y="3842280"/>
            <a:ext cx="2852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0920" y="3842280"/>
            <a:ext cx="2852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86840" y="3842280"/>
            <a:ext cx="2852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432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5320" y="1294920"/>
            <a:ext cx="432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2560" y="35856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5320" y="1294920"/>
            <a:ext cx="432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360" y="384228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432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5320" y="129492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5320" y="384228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5320" y="129492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360" y="3842280"/>
            <a:ext cx="885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360" y="3842280"/>
            <a:ext cx="885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5320" y="129492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84228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5320" y="384228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2852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90920" y="1294920"/>
            <a:ext cx="2852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86840" y="1294920"/>
            <a:ext cx="2852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360" y="3842280"/>
            <a:ext cx="2852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90920" y="3842280"/>
            <a:ext cx="2852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86840" y="3842280"/>
            <a:ext cx="28526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432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5320" y="1294920"/>
            <a:ext cx="432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2560" y="358560"/>
            <a:ext cx="8915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5320" y="1294920"/>
            <a:ext cx="432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360" y="384228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4323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5320" y="129492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5320" y="384228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5320" y="1294920"/>
            <a:ext cx="4323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360" y="3842280"/>
            <a:ext cx="885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477120" y="6497640"/>
            <a:ext cx="25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 Sans Unicode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 Sans Unicode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 Sans Unicode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 Sans Unicode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497640"/>
            <a:ext cx="5181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8970840" y="5973840"/>
            <a:ext cx="8146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62012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6497640"/>
            <a:ext cx="51814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00800" y="6497640"/>
            <a:ext cx="25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 Sans Unicode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 Sans Unicode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 Sans Unicode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 Sans Unicode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" name="VU-kip" descr=""/>
          <p:cNvPicPr/>
          <p:nvPr/>
        </p:nvPicPr>
        <p:blipFill>
          <a:blip r:embed="rId2"/>
          <a:stretch/>
        </p:blipFill>
        <p:spPr>
          <a:xfrm>
            <a:off x="8970840" y="5973840"/>
            <a:ext cx="814680" cy="814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762120"/>
            <a:ext cx="762012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ccffff"/>
                </a:solidFill>
                <a:latin typeface="Arial"/>
              </a:rPr>
              <a:t>Web Applic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28760" y="3047760"/>
            <a:ext cx="6438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ton Elië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rije Universiteit, Amsterd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30 september 1998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ttp://www.cs.vu.nl/~eliens/cmg/html/we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ttp://www.cs.vu.nl/~eliens/online/courses/cmg/we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Web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bining servers and client-applic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unication via IIO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 technolog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example: Netcape 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13" descr=""/>
          <p:cNvPicPr/>
          <p:nvPr/>
        </p:nvPicPr>
        <p:blipFill>
          <a:blip r:embed="rId1"/>
          <a:srcRect l="933" t="-6728" r="0" b="0"/>
          <a:stretch/>
        </p:blipFill>
        <p:spPr>
          <a:xfrm>
            <a:off x="1241280" y="1795320"/>
            <a:ext cx="7689960" cy="114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13" descr=""/>
          <p:cNvPicPr/>
          <p:nvPr/>
        </p:nvPicPr>
        <p:blipFill>
          <a:blip r:embed="rId1"/>
          <a:srcRect l="933" t="-6728" r="0" b="0"/>
          <a:stretch/>
        </p:blipFill>
        <p:spPr>
          <a:xfrm>
            <a:off x="1241280" y="-2550960"/>
            <a:ext cx="7689960" cy="1148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owser plug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tend browser with arbitrary function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t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atform specif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 and C++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1" descr=""/>
          <p:cNvPicPr/>
          <p:nvPr/>
        </p:nvPicPr>
        <p:blipFill>
          <a:blip r:embed="rId1"/>
          <a:stretch/>
        </p:blipFill>
        <p:spPr>
          <a:xfrm>
            <a:off x="1093680" y="-1574640"/>
            <a:ext cx="7718400" cy="1069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va and the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tensible browser - with Java appl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latform independ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ynam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de is uploaded from the serv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(3 tier) client/server applic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10" descr=""/>
          <p:cNvPicPr/>
          <p:nvPr/>
        </p:nvPicPr>
        <p:blipFill>
          <a:blip r:embed="rId1"/>
          <a:stretch/>
        </p:blipFill>
        <p:spPr>
          <a:xfrm>
            <a:off x="1093680" y="1644480"/>
            <a:ext cx="7718400" cy="10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10" descr=""/>
          <p:cNvPicPr/>
          <p:nvPr/>
        </p:nvPicPr>
        <p:blipFill>
          <a:blip r:embed="rId1"/>
          <a:stretch/>
        </p:blipFill>
        <p:spPr>
          <a:xfrm>
            <a:off x="1093680" y="-3741840"/>
            <a:ext cx="7718400" cy="1069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Education on the We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irtual Univers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le-learn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ducation is changing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Building a Web-based Education Syst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and Technology - learning paradi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859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cale -- number of participa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ymmetry -- focus on participa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rception -- quality of audio/vide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eractivity -- time-dela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-location -- distance between participa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st -- price per participa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ime -- time to achieve learning objecti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ools -- the range of choice 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... traditional, distance learning, Web-based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cc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Arial"/>
              </a:rPr>
              <a:t>Top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Basic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b Application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Web-based Education System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ite Development Step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Virtual Organisations - meta dat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ase Studi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Conclusions - current develop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earning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llaboration Tools - XTV, NetMeeting, WEB-4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ideoconferencing Tools - MBONE (Vic/Va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b Tools - QuestWrit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ross-Platform Tools - Unix/X and 95/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nvironments - CUSeeMe: conferencing, whiteboard, email, document shar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se of Web technology for Remote Instruc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nefits of a Web-based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76160"/>
            <a:ext cx="94107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puter mediation - store, index, search, convert, distribu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eographic independence - lifestyle, quality of learning experie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mporal independence - asynchronous particip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latform independence 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DROM, shockwave and plugins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nified User Interface - popularity of the Web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creased communication, increased learner contro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s with a Web-based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ccess and resources -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st - LAN, ISD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raining - ... the Web can be intimidating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dopting new methods - pedagogy matches technolog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frastructure - support and administr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o uniform quality - (non) robust technology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pyright, privacy, security, authentic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cceptance -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stitutional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ission statement, direc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frastructure and fund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motion and rewar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anging (teaching) metho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dmission procedur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b publishing polic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ernet access and train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... and what do your collegues say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ent software and hardware - Q/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client operating system is being used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is the minimum hardware availabl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client software is availabl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peripherals are availabl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access is there to the clien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w competent are the participant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ill the staff or students require training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rver software and hardware - Q/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operating system does the server hav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are the characteristics of the server's hardwar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software is available on the serve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are the capabilities of the softwar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else is the server being used fo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w reliable is the serve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access do you have to the serve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support is available for the serve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chnical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rver software and hardwa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etwork infra struc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raining in the use of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blems and questions - helpdes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66ff99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lanning and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ep 1: Develop a list of educational goal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ep 2: Identify implementation method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ep 3: Prioritize approach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ep 4: Design the structur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ep 5: Design a page layou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vigation struc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ierarchical - like a book,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quential - as a guided tou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ypermedia - structural and associative lin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uide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centrate on cont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ood design is simp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egibility is the ke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text must be clea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sistency means predicta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 accurate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 unique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ppearance must match purpo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upport a variety of visito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f th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b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s the Answer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at i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Questio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ge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ome p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dex pag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tent pag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udy guide pag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ectures - presentation pag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66"/>
                </a:solidFill>
                <a:latin typeface="Arial"/>
              </a:rPr>
              <a:t>Technological limitation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peed, resolution, colors, multimedi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Web Development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8599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isual (HTML) Edito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ite Manag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ypermedia Tools -- rejuvena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TML-Database Integration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ublication Wizar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del-driven Web Generato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ased on paper from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iero Fraternali (WWW7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isual Editors and Site Manag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YSIWYG, page upload, link repai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dobe Site/Page Mill, NetObject Fusion, SoftQuad HotMetal, MS Frontp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ypermedia 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symetrix Toolbook, Macromedia Director and Authorwa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uthoring, multimedia and synchronisation, navig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latform-dependent - plugi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TML-DBPL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rge of Web and databa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egrate HTML with database programming langu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ld Fusion, MS Active Server Pag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m editors, report writ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atabase publishing wizar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S Visual InterDev, Oracle Developer 2000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odel-driven Web Gen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verage of all developers activ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om analysis to implement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ate-of-the art software engineer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racle Web Developer Suit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utoWeb, OOHDM, ... - research prototyp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b Application Development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ruc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havi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avig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... orthogonal features, with peer dign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Enabling communication - edu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creasing sense of isol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creasing flexi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creasing varie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creasing communication experie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nabling variety of pedag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orms of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synchronous -  email, news, ftp, htt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ynchronous - IRC, MUD/MOO, ch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ace-to-face - audio/video conferenc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 Approach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ne-to-one - peer assessment and email budd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ne-to-many - lectures, present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ny-to-one - feedback and evalu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ny-to-many - virtual class, panel discuss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Basic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360" y="1676160"/>
            <a:ext cx="918216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TML, HTTP, M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lient / server architec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lient-side extens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rver-side extens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Glossary Web Terminolog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Web Consortium (W3C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 Tools 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mail - threading, filters, MIME, ..., searc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iling list -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majordom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b/email-news Gateway - MHonArc  (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archive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ews reader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ferencing -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 Tools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UD/MOO/MUSH - multi-user shared hallucin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at - CGI, IRC, Java, avatar-bas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roupware - Lotus Not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udio communication - Cooltalk, Netmeet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ideo communication - CuSeeMe, MBO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Concept Planning and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Questions to ask yoursel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sues in concept develop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velopment step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ite metapho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aken from Creating Internet Entertain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to ask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hould you build a sit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o you know how to use the Internet effectivel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s your industry/business onlin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 cost or high cos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s the concept practical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o will create the sit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o will develop/maintain the conten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Who is the audience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oes your site fit within a community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s access unlimited or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members-only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s in Concept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oose a name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oose a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class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- micro or macro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hoose a metaphor - literal is possible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velop a flowchart - navig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ser-centric - adaptive (cookie)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eractivity - email, form, bulletin, polls, chat,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ser evaluation - is it effectiv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velopment Ste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oposal - short summa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ption of purpose - economic mod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cept - type, site, metaphor, multimedi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mplementation facilities - CGI, Java, Shockwav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5.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st - hardware, software, suppor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6.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ime-table - research, production, development,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launch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7.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intenance and upgrades - personn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8.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ansion options - programming and administra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9.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ppendix - flowchart and demographic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10. Business plan - funding and marketi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etaphors f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patial - cities, solar system, room, backya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presentational - train, ship, radi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rson or entity - home, tax-wiza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ime or event - camera, mechanical arm, fishc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iteral - functional control (tables and list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ntologies - metadat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chnology - clients, serv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pplications - ... more than cha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search issues - agents above and beyo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Virtual Organis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ateway to (Educational) Metadata - G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ta-data for networked information discovery and retriev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omain-specific vocabula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oncrete syntax (using HTML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ools for retrieving meta-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ign prototype interfaces to GE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ublin Core Element Se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ML, RDF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ducational Metadata - G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udie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taloguing Agenc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ur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4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ssential Resour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5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ducational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6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edag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7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Quality Assessm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8.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cademic Standar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rkup - 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TML 2.0 - the bas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TML 3.2 - browser specific featur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TML 4.0 - the standard, with C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SS - Cascading Style Shee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MarkUp (W3C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e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avigation Structures in Tutoria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ypermedia Support for Software Engineer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advTm="0">
    <p:checker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ff3300"/>
          </a:solidFill>
          <a:ln w="190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ff"/>
                </a:solidFill>
                <a:latin typeface="Arial"/>
              </a:rPr>
              <a:t>Recurring questions - Web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What is the economic model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Does it scal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n you maintain the stuff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Is there an </a:t>
            </a:r>
            <a:r>
              <a:rPr b="0" i="1" lang="en-GB" sz="2800" spc="-1" strike="noStrike">
                <a:solidFill>
                  <a:srgbClr val="008000"/>
                </a:solidFill>
                <a:latin typeface="Arial"/>
              </a:rPr>
              <a:t>installed base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ign a web-site for your department, or another subject of your choice - </a:t>
            </a:r>
            <a:r>
              <a:rPr b="0" i="1" lang="en-GB" sz="2000" spc="-1" strike="noStrike">
                <a:solidFill>
                  <a:srgbClr val="000066"/>
                </a:solidFill>
                <a:latin typeface="AvantGarde"/>
              </a:rPr>
              <a:t>Include a description of the concept, a flowgraph, and a discussion of technical and support requirement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velop a Javascript glossary, quiz or assessment for a subject of your choic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rite a 3-page paper on:  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application of meta-data for a particular domai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development of three tier business application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ite development for a particular kind of busines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rse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. Fraternali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Web Development Tools: a survey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roceedings WWW7, pp. 631-633, Elsevier 1998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K. Maly, C.M. Overstreet, A. Gonzalez, M. Denbar, R. Cutaran, N. Karunaratne and C.J. Srinivas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Use of Web Technology for Interactive Remote Instruction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Proceedings WWW7, pp. 660-662, Elsevier 1998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9182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lossary Web Termi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mmary HTML (3.2, 4.0)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Javascript example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ightbulb tutorial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rowser compatibility tes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WW5 Workshop - A search for APIs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WW6 Workshop - Logic programming and the Web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tocols - HTT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TTP 1.0 - slow and state-l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TTP 1.1 - virtual conne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TTP NG  - fast, interaction (state),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ee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rotocols (W3C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lient-side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yle sheets (CS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cument Object Mod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th, Graphics - XM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pplets - Jav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elper Applications -- audio,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lug-ins - audio, video, animation, virtual rea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ynamic HTML - Javascrip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ctiveX - from Visual basic to ... Jav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rver-side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TTP Server - lik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pach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rver side includes -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shtm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GI - Perl, Python, Tc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rvlets - Jav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ateways - CORBA, DCOM, agent-middlewa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2560" y="358560"/>
            <a:ext cx="89154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eb Architecture and Technology -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294920"/>
            <a:ext cx="885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tocols - HTT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ructured documents - SGML and XM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ynchronized multimedia - SMI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etadata - PICS (rating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source description - RDF (enabling search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ivacy - P3P (platform for privacy preferences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-commerce - see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Ecommerce (W3C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eb accessibility -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1T09:17:39Z</dcterms:created>
  <dc:creator>Anton Eliens</dc:creator>
  <dc:description/>
  <dc:language>en-US</dc:language>
  <cp:lastModifiedBy>User</cp:lastModifiedBy>
  <cp:lastPrinted>1998-05-11T11:07:01Z</cp:lastPrinted>
  <dcterms:modified xsi:type="dcterms:W3CDTF">1998-09-08T13:09:50Z</dcterms:modified>
  <cp:revision>19</cp:revision>
  <dc:subject>CMG Course</dc:subject>
  <dc:title>Web Appl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online/course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