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4630400" cy="6858000"/>
  <p:notesSz cx="6973888" cy="10098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4640" y="762120"/>
            <a:ext cx="11257200" cy="1218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es and Vari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13258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bstraction -- the object    metapho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deling -- understanding   structure and behavio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ftware architecture --    mastering complexit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ameworks -- patterns for    problem solving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onents -- scalable    softwar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6920" y="151920"/>
            <a:ext cx="12436560" cy="7621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Termi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05120" y="1447920"/>
            <a:ext cx="10896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bjects -- packet containing  data and procedur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thods -- deliver servi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ssage -- request to execute a  method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ass -- template for creating object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stance -- an object that belongs to a clas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capsulation -- information  hiding by object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heritance -- allowing the reuse of class spec.s cla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ierarchy -- tree structure inheritance  relation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lymorphism -- to hide  different implement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6920" y="380520"/>
            <a:ext cx="12436560" cy="83844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ures of 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4880" y="2361960"/>
            <a:ext cx="13655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formation hiding:  state, autonomous behavio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 abstraction:     emphasis on what rather than  how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ynamic binding:   binding at runtime,          polymorphism , virtual    fun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heritance:     incremental changes    (specialization), reusa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6920" y="228240"/>
            <a:ext cx="12436560" cy="7621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of 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129542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O = encapsulation  +   inherita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dularity -- autonomous entities, cooperation through exchanges of messag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ferred commitment -- the internal workings of an object can be redefined without  changing other parts of the system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usability -- refining classes through inheritan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aturalness -- object-oriented analysis/design, modeling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09:33:18Z</dcterms:created>
  <dc:creator>Anton Eliens</dc:creator>
  <dc:description/>
  <dc:language>en-US</dc:language>
  <cp:lastModifiedBy>Eliens</cp:lastModifiedBy>
  <cp:lastPrinted>1998-06-05T13:16:25Z</cp:lastPrinted>
  <dcterms:modified xsi:type="dcterms:W3CDTF">1999-10-22T10:13:43Z</dcterms:modified>
  <cp:revision>57</cp:revision>
  <dc:subject>CMG Course</dc:subject>
  <dc:title>Object-Oriented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