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124365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ioms and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0720" y="2361960"/>
            <a:ext cx="11836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ymorphism -- inheritance and deleg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dioms -- realizing concrete typ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tterns -- a catalogue of design patter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nts -- the reactor patter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23880" y="5105520"/>
            <a:ext cx="1237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ditional keywords and phras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eneric types, assertions, canoni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es, event-driven compu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5331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1463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oper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gorithms and the assignment of  responsibilities between object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mplate Method -- the skeleton of an algorithm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erpreter -- to evaluate  express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                                                                                        composi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diator -- provides indirec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in of Responsibility -- connect objects to interac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server -- to handle dependenc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6094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apsulating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and -- action + undo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rategy -- choice of algorithm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isitor -- decouple traversal and   operatio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terator -- access and traversal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te -- object state -&gt; behavioral  chang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70468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ify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28240"/>
            <a:ext cx="1243656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bserver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4440" y="1676520"/>
            <a:ext cx="1402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ne-to-many dependencies 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ific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equen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tract coupling between subj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 observer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traint propaga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als with unexpected updat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observer" descr=""/>
          <p:cNvPicPr/>
          <p:nvPr/>
        </p:nvPicPr>
        <p:blipFill>
          <a:blip r:embed="rId1"/>
          <a:stretch/>
        </p:blipFill>
        <p:spPr>
          <a:xfrm>
            <a:off x="1463760" y="838080"/>
            <a:ext cx="12191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talogue of design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93840" y="2819520"/>
            <a:ext cx="9388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ubsection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reational Patter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uctural Patter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havioral Patter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talogue of Design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81080" y="2695680"/>
            <a:ext cx="110491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mmon design vocabular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cumentation and learning ai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adjunct to existing method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target for redesig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87440" y="304920"/>
            <a:ext cx="136555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Pattern Schem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ame - handl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creases design vocabu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blem - when to app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plains the problem and the confli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lution - general  arrang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sign, responsibilities, collabor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equences - tradeoff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understand the costs and  benef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96560" y="228240"/>
            <a:ext cx="792468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 for Re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124365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eating an object by specifying  a class explicitly -- Abstract Factory, Factory Method, Prototyp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pendence on specific operations -- Chain of Responsibilty, Comman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pendence on hardware &amp;  software platforms -- Abstract Factory, Bridg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pendence on object implementation or representation --Abstract Factory, Bridge, Memento, Prox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64320" y="34596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sign for chan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6920" y="9000"/>
            <a:ext cx="12436560" cy="600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9360" rIns="99360" tIns="56160" bIns="56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96920" y="914040"/>
            <a:ext cx="12436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gorithm dependence -- Iterator, Strategy, Template Method, Visit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ding functionality by  subclassing -- Bridge, Composite, Decorator, Observ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ight coupling -- Abstract Factory, Bridge, Chain of Responsibilities,  Command, Facade, Mediator,  Observ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ability to alter classes conveniently -- Adaptor,  Decorator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al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al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31520" y="1947600"/>
            <a:ext cx="1308564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ctory -- hide concrete class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ctory Method -- virtual constructor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totype -- dynamic creation by cloning 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gleton -- one instance onl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6094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2209680"/>
            <a:ext cx="11811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ttern                                   Alias                           Remar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site                             part/whole          collections of   compon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yweight                              part/whole*       extrinsic state, many objects                                                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aptor                                    wrapper                resolves  inconsistenc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idge                                   handle/body   abstraction to  implemen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corator                                wrapper               to introduce function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acade                                     wrapper*           provides  unified interfa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xy                                      surrogate             to defer ... remote, virtual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t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287000" y="1295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 and class composi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0:42:02Z</dcterms:modified>
  <cp:revision>57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