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46304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484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79960" y="129492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3008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15484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9579960" y="3926880"/>
            <a:ext cx="4213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120" y="358560"/>
            <a:ext cx="13167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36160" y="392688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008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436160" y="1294920"/>
            <a:ext cx="6386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0080" y="3926880"/>
            <a:ext cx="130874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30080" y="1294920"/>
            <a:ext cx="130874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4640" y="762120"/>
            <a:ext cx="112572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229680" y="6497640"/>
            <a:ext cx="4060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4640" y="6497640"/>
            <a:ext cx="7655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13244400" y="5973840"/>
            <a:ext cx="120024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28600"/>
            <a:ext cx="12436560" cy="8380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2436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jects versus components -- defini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operability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quirements for distribu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imple workgroup applic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ing hush with CORBA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74880" y="5029200"/>
            <a:ext cx="1280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D)COM, Java, CORBA, OLE, persistent objects, ODMG,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orkgroup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s versus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6400" y="3276720"/>
            <a:ext cx="1060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fini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e technology matrix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 myth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96920" y="228600"/>
            <a:ext cx="12436560" cy="5335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74880" y="1371600"/>
            <a:ext cx="1280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                                                          substitutabil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independent deploymen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third party composi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o persistent sta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Object                                                                              identit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it of instantia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persistent) stat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capsulation of state and behavio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413160" y="1676520"/>
            <a:ext cx="7682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 software component is a unit of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sition with contractuall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pecified interfaces and explic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ntext dependencies only. 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oftware component can b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ployed independently and 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ubject to composition by thir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parties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509840" y="5680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zypersk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96920" y="228240"/>
            <a:ext cx="12436560" cy="7621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echnology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1828800"/>
            <a:ext cx="14020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istribution   mobility   language   platform    reflec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                      -                 -               *                 -  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COM                  +                 -               *                +/-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RBA                +                  -               *                *               +/-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/Beans            -              classes       Java              *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ava/RMI              +             classes       Java              * 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oyager                +             objects       Java              *                 +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193680"/>
            <a:ext cx="14630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s:                   Myths      and        Realit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allows for  combining component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f semantical issues can be resolv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simplifies software distribution and maintenan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evelopment becomes more complex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support mega  application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it affects performance significantly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omponent-ware is a revolution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rong, it is an evolution from OO  and C/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unknown source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58560"/>
            <a:ext cx="131670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Ques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1520" y="2228400"/>
            <a:ext cx="13085640" cy="36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describe the interaction between component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manage variety and flexibility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to guarantee critical system-wide properties?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Eliens</cp:lastModifiedBy>
  <cp:lastPrinted>1998-06-05T13:16:25Z</cp:lastPrinted>
  <dcterms:modified xsi:type="dcterms:W3CDTF">1999-10-22T10:45:09Z</dcterms:modified>
  <cp:revision>57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