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15544800" cy="7315200"/>
  <p:notesSz cx="674687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7960" y="4098240"/>
            <a:ext cx="139032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7960" y="409824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902000" y="409824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478840" y="138060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179720" y="138060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7960" y="409824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478840" y="409824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179720" y="409824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47280" y="382320"/>
            <a:ext cx="1399068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77960" y="409824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902000" y="409824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77960" y="4098240"/>
            <a:ext cx="139032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77960" y="4098240"/>
            <a:ext cx="139032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77960" y="409824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7902000" y="409824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78840" y="138060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179720" y="138060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77960" y="409824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5478840" y="409824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10179720" y="409824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7280" y="382320"/>
            <a:ext cx="1399068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7960" y="409824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902000" y="409824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7960" y="4098240"/>
            <a:ext cx="139032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lvl="1" marL="789120" indent="-304920">
              <a:spcBef>
                <a:spcPts val="726"/>
              </a:spcBef>
              <a:buClr>
                <a:srgbClr val="3333cc"/>
              </a:buClr>
              <a:buFont typeface="Arial"/>
              <a:buChar char="–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lvl="2" marL="1212840" indent="-2430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lvl="3" marL="1698480" indent="-244440">
              <a:spcBef>
                <a:spcPts val="726"/>
              </a:spcBef>
              <a:buClr>
                <a:srgbClr val="3333cc"/>
              </a:buClr>
              <a:buFont typeface="Arial"/>
              <a:buChar char="–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lvl="4" marL="2182680" indent="-24264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lvl="5" marL="2182680" indent="-242640">
              <a:spcBef>
                <a:spcPts val="726"/>
              </a:spcBef>
              <a:buClr>
                <a:srgbClr val="000066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lvl="6" marL="2182680" indent="-242640">
              <a:spcBef>
                <a:spcPts val="726"/>
              </a:spcBef>
              <a:buClr>
                <a:srgbClr val="000066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9844200" y="6929280"/>
            <a:ext cx="4275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i="1" lang="en-GB" sz="1300" spc="-1" strike="noStrike">
                <a:solidFill>
                  <a:srgbClr val="0000ff"/>
                </a:solidFill>
                <a:latin typeface="LucidaSans"/>
              </a:rPr>
              <a:t>vrije</a:t>
            </a:r>
            <a:r>
              <a:rPr b="0" lang="en-GB" sz="1300" spc="-1" strike="noStrike">
                <a:solidFill>
                  <a:srgbClr val="8791a5"/>
                </a:solidFill>
                <a:latin typeface="LucidaSans"/>
              </a:rPr>
              <a:t> </a:t>
            </a:r>
            <a:r>
              <a:rPr b="0" lang="en-GB" sz="1300" spc="-1" strike="noStrike">
                <a:solidFill>
                  <a:srgbClr val="000000"/>
                </a:solidFill>
                <a:latin typeface="LucidaSans"/>
              </a:rPr>
              <a:t>Universiteit</a:t>
            </a:r>
            <a:r>
              <a:rPr b="0" lang="en-GB" sz="1300" spc="-1" strike="noStrike">
                <a:solidFill>
                  <a:srgbClr val="8791a5"/>
                </a:solidFill>
                <a:latin typeface="LucidaSans"/>
              </a:rPr>
              <a:t>    </a:t>
            </a:r>
            <a:r>
              <a:rPr b="0" i="1" lang="en-GB" sz="1300" spc="-1" strike="noStrike">
                <a:solidFill>
                  <a:srgbClr val="0000ff"/>
                </a:solidFill>
                <a:latin typeface="LucidaSans"/>
              </a:rPr>
              <a:t>amsterdam</a:t>
            </a:r>
            <a:endParaRPr b="0" lang="en-US" sz="13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17480" y="6929280"/>
            <a:ext cx="81313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LucidaSans"/>
              </a:rPr>
              <a:t>Postacademische Cursus Informatie Technologie</a:t>
            </a:r>
            <a:endParaRPr b="0" lang="en-US" sz="13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" name="VU-kip" descr=""/>
          <p:cNvPicPr/>
          <p:nvPr/>
        </p:nvPicPr>
        <p:blipFill>
          <a:blip r:embed="rId2"/>
          <a:stretch/>
        </p:blipFill>
        <p:spPr>
          <a:xfrm>
            <a:off x="14076360" y="6372360"/>
            <a:ext cx="1279440" cy="86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3280" y="812520"/>
            <a:ext cx="11958480" cy="129996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VU-kip" descr=""/>
          <p:cNvPicPr/>
          <p:nvPr/>
        </p:nvPicPr>
        <p:blipFill>
          <a:blip r:embed="rId2"/>
          <a:stretch/>
        </p:blipFill>
        <p:spPr>
          <a:xfrm>
            <a:off x="14076360" y="6372360"/>
            <a:ext cx="1279440" cy="868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9844200" y="6929280"/>
            <a:ext cx="4275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i="1" lang="en-GB" sz="1300" spc="-1" strike="noStrike">
                <a:solidFill>
                  <a:srgbClr val="0000ff"/>
                </a:solidFill>
                <a:latin typeface="LucidaSans"/>
              </a:rPr>
              <a:t>vrije</a:t>
            </a:r>
            <a:r>
              <a:rPr b="0" lang="en-GB" sz="1300" spc="-1" strike="noStrike">
                <a:solidFill>
                  <a:srgbClr val="8791a5"/>
                </a:solidFill>
                <a:latin typeface="LucidaSans"/>
              </a:rPr>
              <a:t> </a:t>
            </a:r>
            <a:r>
              <a:rPr b="0" lang="en-GB" sz="1300" spc="-1" strike="noStrike">
                <a:solidFill>
                  <a:srgbClr val="000000"/>
                </a:solidFill>
                <a:latin typeface="LucidaSans"/>
              </a:rPr>
              <a:t>Universiteit</a:t>
            </a:r>
            <a:r>
              <a:rPr b="0" lang="en-GB" sz="1300" spc="-1" strike="noStrike">
                <a:solidFill>
                  <a:srgbClr val="8791a5"/>
                </a:solidFill>
                <a:latin typeface="LucidaSans"/>
              </a:rPr>
              <a:t>    </a:t>
            </a:r>
            <a:r>
              <a:rPr b="0" i="1" lang="en-GB" sz="1300" spc="-1" strike="noStrike">
                <a:solidFill>
                  <a:srgbClr val="0000ff"/>
                </a:solidFill>
                <a:latin typeface="LucidaSans"/>
              </a:rPr>
              <a:t>amsterdam</a:t>
            </a:r>
            <a:endParaRPr b="0" lang="en-US" sz="13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17480" y="6929280"/>
            <a:ext cx="81313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LucidaSans"/>
              </a:rPr>
              <a:t>Postacademische Cursus Informatie Technologie</a:t>
            </a:r>
            <a:endParaRPr b="0" lang="en-US" sz="13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Ontologies - metadata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Technology - clients, server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Applications - ... more than chat?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Research issues - agents above and beyond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ff3300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3300" spc="-1" strike="noStrike">
                <a:solidFill>
                  <a:srgbClr val="ccffff"/>
                </a:solidFill>
                <a:latin typeface="Arial"/>
              </a:rPr>
              <a:t>Virtual Organisation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Gateway to (Educational) Metadata - GEM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lnSpc>
                <a:spcPct val="120000"/>
              </a:lnSpc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meta-data for networked information discovery and retrieval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lnSpc>
                <a:spcPct val="120000"/>
              </a:lnSpc>
              <a:spcBef>
                <a:spcPts val="825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000066"/>
                </a:solidFill>
                <a:latin typeface="Arial"/>
              </a:rPr>
              <a:t>Objectives</a:t>
            </a:r>
            <a:endParaRPr b="0" lang="en-US" sz="33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domain-specific vocabulary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concrete syntax (using HTML)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tools for retrieving meta-data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120000"/>
              </a:lnSpc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design prototype interfaces to GEM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lnSpc>
                <a:spcPct val="120000"/>
              </a:lnSpc>
              <a:spcBef>
                <a:spcPts val="825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000066"/>
                </a:solidFill>
                <a:latin typeface="Arial"/>
              </a:rPr>
              <a:t>Background</a:t>
            </a:r>
            <a:endParaRPr b="0" lang="en-US" sz="33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Dublin Core Element Set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90000"/>
              </a:lnSpc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XML, RDF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Educational Metadata - GEM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0">
              <a:spcBef>
                <a:spcPts val="726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1.</a:t>
            </a: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Audience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spcBef>
                <a:spcPts val="726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2.</a:t>
            </a: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Cataloguing Agency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spcBef>
                <a:spcPts val="726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3.</a:t>
            </a: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Duration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spcBef>
                <a:spcPts val="726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4.</a:t>
            </a: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Essential Resource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spcBef>
                <a:spcPts val="726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5.</a:t>
            </a: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Educational Level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spcBef>
                <a:spcPts val="726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6.</a:t>
            </a: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Pedagogy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spcBef>
                <a:spcPts val="726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7.</a:t>
            </a: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Quality Assessment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spcBef>
                <a:spcPts val="726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8.</a:t>
            </a: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Academic Standards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11T09:17:39Z</dcterms:created>
  <dc:creator>Anton Eliens</dc:creator>
  <dc:description/>
  <dc:language>en-US</dc:language>
  <cp:lastModifiedBy>eliens</cp:lastModifiedBy>
  <cp:lastPrinted>1998-05-11T11:07:01Z</cp:lastPrinted>
  <dcterms:modified xsi:type="dcterms:W3CDTF">1999-10-09T22:16:51Z</dcterms:modified>
  <cp:revision>30</cp:revision>
  <dc:subject>CMG Course</dc:subject>
  <dc:title>Web Appl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s.vu.nl/~eliens/online/courses/cmg</vt:lpwstr>
  </property>
  <property fmtid="{D5CDD505-2E9C-101B-9397-08002B2CF9AE}" pid="9" name="LinkColor">
    <vt:r8>16711782</vt:r8>
  </property>
  <property fmtid="{D5CDD505-2E9C-101B-9397-08002B2CF9AE}" pid="10" name="MailAddress">
    <vt:lpwstr>eliens@cs.vu.nl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www\cmg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