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973888" cy="10098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26880"/>
            <a:ext cx="8178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2688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392688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29492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29492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2688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392688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392688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09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294920"/>
            <a:ext cx="39909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585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294920"/>
            <a:ext cx="39909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2688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09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392688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26880"/>
            <a:ext cx="8178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26880"/>
            <a:ext cx="8178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2688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392688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29492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29492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2688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392688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392688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09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294920"/>
            <a:ext cx="39909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585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294920"/>
            <a:ext cx="39909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2688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09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392688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26880"/>
            <a:ext cx="8178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767560" y="6497640"/>
            <a:ext cx="253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 Sans Unicode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 Sans Unicode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 Sans Unicode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 Sans Unicode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2280" y="6497640"/>
            <a:ext cx="4782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8277120" y="5973840"/>
            <a:ext cx="75096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4240" y="762120"/>
            <a:ext cx="7034400" cy="1218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67560" y="6497640"/>
            <a:ext cx="253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 Sans Unicode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 Sans Unicode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 Sans Unicode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 Sans Unicode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2280" y="6497640"/>
            <a:ext cx="4782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4" name="VU-kip" descr=""/>
          <p:cNvPicPr/>
          <p:nvPr/>
        </p:nvPicPr>
        <p:blipFill>
          <a:blip r:embed="rId2"/>
          <a:stretch/>
        </p:blipFill>
        <p:spPr>
          <a:xfrm>
            <a:off x="8277120" y="5973840"/>
            <a:ext cx="750960" cy="814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84240" y="761760"/>
            <a:ext cx="7034400" cy="1439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bject-Oriented Software Enginee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048120"/>
            <a:ext cx="60199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ton Elië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Vrije Universiteit, Amsterda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28 october 1998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http://www.cs.vu.nl/~eliens/cmg/html/o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http://www.cs.vu.nl/~eliens/online/courses/cmg/o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benefits - respons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sponsiveness - variations on a the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sponsiveness to change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ime-to-marke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munication - developers, users, executiv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intenance, reuse, productiv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UI develop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rale -- cutting-edge techn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re YOU underestimating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ductivity takes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azards of C++ (and Java, ...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use is difficul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stablishing a software proce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usiness-modelling or software desig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ASE help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You will pay for: training, experience, tools, consultants,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hazards of C++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++ won the language war over Eiffel, Objective-C, SOM, C@+, and Java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ava -- relative simplicity and portab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naging (the complexity of) C+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isconception: C++ is like 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sider using another langu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y does C++ exist? - engineering and systems programm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reate a subset of the langu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sign and coding standar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se people with knowledge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-reduction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ook carefully all around the projec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tect the risks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ist the risks in or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ork on the risks in order of dang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e Risk Avoidance Patter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e studies: Application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hush Framewor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San Francisco Framewor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chnology and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M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isk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av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amework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trac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RB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atter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O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Unified Modelling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use case diagra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lass diagra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ehaviour diagram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tate-chart diagra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ctivity diagra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nteraction diagram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equence diagra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ollaboration diagra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mplementation diagram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omponent diagra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deployment diagra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some background see: Ch. 11: Methods and Tool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ML - Quick Reference and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dapted from the Rational Rose Quick Reference at http://www.rational.com/uml/q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uml_genrl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15328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pic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O techn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OO life cyc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ject Manage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pplication Framework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urrent developments and tren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uml_class1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1532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uml_class2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15328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uml_class3" descr=""/>
          <p:cNvPicPr/>
          <p:nvPr/>
        </p:nvPicPr>
        <p:blipFill>
          <a:blip r:embed="rId1"/>
          <a:stretch/>
        </p:blipFill>
        <p:spPr>
          <a:xfrm>
            <a:off x="2868480" y="380880"/>
            <a:ext cx="3322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uml_class4" descr=""/>
          <p:cNvPicPr/>
          <p:nvPr/>
        </p:nvPicPr>
        <p:blipFill>
          <a:blip r:embed="rId1"/>
          <a:stretch/>
        </p:blipFill>
        <p:spPr>
          <a:xfrm>
            <a:off x="380880" y="2225520"/>
            <a:ext cx="830592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uml_state1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0592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uml_state2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uml_inter1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uml_inter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uml_compon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94360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sign by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ormal basis -- pre and post condi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finement -- by inheritance or polymorphis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untime checks -- division of responsib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e Ch. 3, Contrac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f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the Answer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Questio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ame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ameworks = Components + Patter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lph Johnson, CACM Nov. 199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lf-documentation Princip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ertrand Meyer, OO Software Construction 2nd e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designer of a module should strive to make all information about the module part of the module itself ..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benefits of frameworks stem from the inversion of control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 Framework defines an Architectur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ftware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oftware Architecture = a set of rules, guidelines, interfaces, and conventions used to define how components and applications communicate and interoperate with each other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e patter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Catalogue of Design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 common design vocabula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ocumentation and learning ai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 adjunct to existing metho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 target for redesign</a:t>
            </a:r>
            <a:br>
              <a:rPr sz="2800"/>
            </a:br>
            <a:br>
              <a:rPr sz="28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e the GOF Design Patterns and the Patterns Homepage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Pattern Schema: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ame -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hand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creases design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vocabula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blem -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when to app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lains the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problem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nd the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conflic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olution -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general arrange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ign,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responsibiliti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collabor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sequences -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trade-off'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o understand the costs and benef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uses for Redesign (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. creating an object by specifying a class explicitly -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bstract Factory, Factory Method, Prototyp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2. dependence on specific operations -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in of Responsibility, Comma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3. dependence on hardware &amp; software platforms -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bstract Factory, Bri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4. dependence on object implementation or representation -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bstract Factory, Bridge, Memento, Prox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uses for Redesign 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5. algorithm dependence -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uilder, Iterator, Strategy, Template Method, Visit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6. extending functionality by subclassing -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ridge, Chain, Composite, Decorator, Obser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7. tight coupling -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bstract Factory, Bridge, Chain of Responsibilities, Command, Facade, Mediator, Obser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8. inability to alter classes conveniently -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daptor, Decorator, Visit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inds of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reational patterns -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actory, Singleton, 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ructural patterns -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daptor, Composite, Bridge, 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havioral patterns -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diator, Observer, Command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e al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e UM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f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av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the Answer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Questio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e Ted Lewis, IEEE Computer, March 1997, p. 13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dream: UN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ava is pervasiv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member, most of Java is just warmed-up C/C++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NCOL = Universal Common Langu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1963) Algol -&gt; PL/I -&gt; Pascal -&gt; Ada -&gt; C++ -&gt;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ava as UNCOL: the dial-tone of the Interne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if today's languages are inadequate for Software then Java must be inadequate too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words and phr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OO lifecycle -- modell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ncapsulation, inheritance, delegation, polymorphis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pecification and implementation inherita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sign by contrac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terfaces, components and framework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dioms, patterns, software architec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stages of legacy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ur responsibility is that future applications (built with Java) are well-behaved legacy syste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S DOD: $ 30 billion in year 2000 probl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intaining legacy COBOL from the 70's is a major industry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y 2010, Java will be the maintenance tail wagging the software dog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 Java doomed to repeat histo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legant minimalism is one of the goals of Java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remember Pascal, a toy language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ava lacks IO, OS support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ava = watered-down C++, retrofitting Pasc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yntax: int i = ++i--;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unruly scope rules: C++ plus f i n a l, n a t i v e, s y n c h r o n i z e d, 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reads: potential deadloc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ava: a better mousetra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quirements: no support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assert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facts: syntax,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non-standard AP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ponents: Beans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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ActiveX, CORBA, OpenDo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ycle time: Java does little to accommodate Internet time, like script languages d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plexity: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Java does not advance the intellectual frontier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R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issue is standardis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y means of interfa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ooking for consensu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is differs from a de-facto standar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mposed by market share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e Ch 11: Application integration -- standard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e framework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ensions of Ri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eam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ductiv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wnershi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istra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on't discuss risks, unless you know how to do Project Manage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 Reduction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lear the fog -- get to the real issu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arly and regular delivery -- discover what you don't kn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ototype! -- discover how it really wor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reate microcosm -- do something real, but with ca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 Reduction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eam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olistic diversity -- co-ordinate specialists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ductiv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old rush -- start immediately, adjust slow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wnershi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unction / component owners -- create responsibi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 Reduction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istra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omeone always makes progress -- no total interru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eam per task -- a subteam deals with divers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acrifice one person -- and preserve the tea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rain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ay care -- hire an expert to take care of novi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O off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valid metaphor for 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ful technolog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turing design methods and not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rich set of patter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haracterisations of O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. encapsulation + inherita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2. data abstraction + polymorphis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3. interfaces +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4. types + implement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5. CORBA + Application Framework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6. Java + nothing els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7. a metaphor + hyp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8. everything I can sell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Let's have a look at the </a:t>
            </a:r>
            <a:r>
              <a:rPr b="0" lang="en-GB" sz="2000" spc="-1" strike="noStrike" u="sng">
                <a:solidFill>
                  <a:srgbClr val="000066"/>
                </a:solidFill>
                <a:uFillTx/>
                <a:latin typeface="Arial"/>
              </a:rPr>
              <a:t>Introduction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from Principles of Object-Oriented Software Develop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et beware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learning curv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implified hyp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utting edge techn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(over) ambitious projec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sign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rite a paper about one of the following topics. The paper may discuss concepts or focus on a case stud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Unified Modelling Language -- UM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rameworks -- for example San Francisc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rite a comparative study of object-oriented analysis and design methods, focussing on aspects of project management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scribe a case study concerning the deployment of design pattern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urse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dditional materi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 3: Design by Contra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 11: Methods and Tool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Object Tutorial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ttp://www.rational.com -- Rational Rose, UM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ttp://www.ibm.com/java/sanfrancisco -- IBM Java San Francisco 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Framework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apers and Repor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ttp://www.rational.com/uml/html/summary -- UML Summa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ttp://www.ibm.com/Java/Sanfrancisco/prd_summary.html -- San Francisco 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Technical Summary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naging O-O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i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                           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n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                                      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                                          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jec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tical Success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se incremental scheduling and stag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ind and fix failing idea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velop a habit of deliver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et: sponsor, project manager, technical lea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Failure Indic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bsence of incremental develop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se of C++ in commercial 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e Surviving Object-Oriented Projects: A Managers Guid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O - Success and Fail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O = technology + mind-se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t might be new technology to your organis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velopers love it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quires and enables communication between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dopting OO may succeed or fail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5T09:33:18Z</dcterms:created>
  <dc:creator>Anton Eliens</dc:creator>
  <dc:description/>
  <dc:language>en-US</dc:language>
  <cp:lastModifiedBy>User</cp:lastModifiedBy>
  <cp:lastPrinted>1998-06-05T13:16:25Z</cp:lastPrinted>
  <dcterms:modified xsi:type="dcterms:W3CDTF">1998-08-04T11:32:50Z</dcterms:modified>
  <cp:revision>9</cp:revision>
  <dc:subject>CMG Course</dc:subject>
  <dc:title>Object-Oriented Software Engine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