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5544800" cy="73152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2" marL="1212840" indent="-2430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3" marL="1698480" indent="-24444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4" marL="2182680" indent="-24264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5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6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Navigation Structures in Tutorial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ypermedia Support for Software Engineer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advTm="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eliens</cp:lastModifiedBy>
  <cp:lastPrinted>1998-05-11T11:07:01Z</cp:lastPrinted>
  <dcterms:modified xsi:type="dcterms:W3CDTF">1999-10-09T22:16:35Z</dcterms:modified>
  <cp:revision>31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