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EBC-BDFC-4A14-A10C-B6930A4E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48E-7896-4635-ADD6-A6D2658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8D9-5D30-48ED-8B83-5BE3331E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1CB-E77E-4950-9D29-4D89EB78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6D0C-DBB7-40D7-8124-8D99F568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2EB-6440-4219-ACDF-667D94EA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1C3F-DEE1-4192-8105-27C3D49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8AE7-49EA-4C56-801C-3751F51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07DE-84FB-41A2-B8A2-5BD84653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1282-8C18-480E-BD70-C1F3FED9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439-DBD3-4245-A269-EFB9ABF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38B-19B1-44D4-AA92-7B79F985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1D63-C068-4E30-8BAB-2D160B3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CB0A-C3C3-4C16-96A1-F91FCC48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4EA3-AA28-4761-B206-FE2ECC6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D9E3-3D2A-4A64-8BD5-9B384424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B15-6E45-46DF-8798-CA3DA4B2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364-2599-4001-AEB1-C210D4E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B55-0D4B-450D-9ED6-CE6A707A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965-C8FD-4148-852C-61B7106C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9DE-A9BF-4B27-B753-A22EFEDF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439-CA7E-4A50-8132-9406D636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354-B3D6-4234-8491-FE3569E1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DA7-75D8-4A3B-B0A0-437368E9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20B5-5F54-40BC-930B-461CDC7743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E69B-41A6-464F-85B0-654E5A75B6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</a:rPr>
              <a:t>Modellere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ve Stom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V ma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nd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itrekenen van de resulterende afbee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aytr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can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adio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060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e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om structu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y fr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157560" cy="304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340000" y="3824280"/>
            <a:ext cx="28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idige mod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eiend aantal polyg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tion Cap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72000" y="2744640"/>
            <a:ext cx="5221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amma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ra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nd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idige mod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ve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D Graph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ri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D Graph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gevulde driehoeken met een tex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yg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rt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zijn vertices &amp; polygon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t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en punt met drie coordinaten: x, y en z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gon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ijn de vlakken van een object en bestaan uit N vertices (punt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ogrammatu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D Studio MA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en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inema 4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ghtwa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ay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oftimage XS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bru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500px-Gingerbreadman_zspheres_to_detailed_mesh" descr=""/>
          <p:cNvPicPr/>
          <p:nvPr/>
        </p:nvPicPr>
        <p:blipFill>
          <a:blip r:embed="rId1"/>
          <a:stretch/>
        </p:blipFill>
        <p:spPr>
          <a:xfrm>
            <a:off x="3581280" y="3654360"/>
            <a:ext cx="541044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vor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isvor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l, cylinder, kegel en kub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er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ru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div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Extrude &amp; Subdiv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3d-extrude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4114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V-mapp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jecte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ek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ylind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L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y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mb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irec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p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6-02-11T11:37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