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8D0-2480-496A-8F1B-443795DF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690-9B4D-4481-AB7F-2D7057FD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AF9-2BE5-4723-A4AD-5516D31B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529-30DA-4888-8453-95F1094C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EE4B-A995-4AB3-82FA-6CF524FB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A083-F255-4963-83C2-C6566CA5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3182-A78A-48AB-AB7D-4A22B71A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05E0-D6FC-4426-968A-5011A7E8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CCA9-61CB-4A05-AF10-71E126D4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9A0D-A0C6-4531-AA17-C5F86C33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307F-C21B-40C2-8461-4E016598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5CB-B759-48E7-86EB-86C7095E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60F9-C40E-472D-8771-DBC9001F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B1C4-BBD5-496E-845A-5101E35D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B0B4-61B4-4ACA-8A70-383C955B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2B61-7109-4D0D-83EC-737BE5EA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88EC-ECA1-459D-B4FA-F68DCC3C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D06-1F7E-411B-AA01-23A8E1B8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C31-A5C2-48E7-B3D3-6BBB00C7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874-A686-4367-8621-4642CB8B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438-17AB-422E-9257-36E1EAE6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EFED-9FB7-4C31-999F-0EEC7793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280-A245-4D18-88A3-57FD36C0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9BD5-F8B1-4DC5-B904-67C7CCD4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812000" y="5726160"/>
            <a:ext cx="13320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53B0-29F6-45E6-852B-69054B9DCAC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812000" y="5726160"/>
            <a:ext cx="13320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1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B83B-8913-4D42-9AC8-3FE05C81E33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Making of VU-Life</a:t>
            </a:r>
            <a:r>
              <a:rPr b="0" lang="en-US" sz="54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am VUga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t te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[Insert photo here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t beg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het voorjaar van 2005 begon het VUgame project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lf-Life 2 gekozen als platf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en ervaring met deze technolog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rschillende disciplines no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en game maken met de Half-Life 2 engin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t ontwikkelen van materiaal voor een Masterclas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deeën voor ga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ikkert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efb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scape the ro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vent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ormatiebroch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u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aalbaarheid van ideeë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euze voor informatiebrochure vanweg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Informatieve karak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riendelijke omgev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Eenvoudig van opz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ulling Mastercla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or beginn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mplat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xture manip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ndleid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jdslij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8 maart 2006: Eerste Masterclass Game Develop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ekomst 2012: Academische geloofwaardigheid Game Develop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ekomst 2014: VU heeft als enige een topstudie Game Develop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ekomst 2025: Uniforme toepasbaarheid van game technologie in het onderwij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4:25:08Z</dcterms:created>
  <dc:creator>Team VUgame</dc:creator>
  <dc:description/>
  <dc:language>en-US</dc:language>
  <cp:lastModifiedBy>student</cp:lastModifiedBy>
  <dcterms:modified xsi:type="dcterms:W3CDTF">2006-03-01T11:50:32Z</dcterms:modified>
  <cp:revision>28</cp:revision>
  <dc:subject/>
  <dc:title>The Making of VU-Life2</dc:title>
</cp:coreProperties>
</file>