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17F5-911D-4EC7-AC99-EC05F696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FBF-9BDC-4B09-8D09-CAA27A49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87D5-E686-42B8-A952-4EBF87EA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FC8-E584-4F3C-B48A-38A54AC2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1076-E191-4151-9CDC-86DF65A5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C475-2E58-4319-9114-A71E8D2B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5C4F-8732-4772-8EB5-B596B4F4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2C9C-2161-4667-8EAA-AE8E6B46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F57C-672D-4BFE-82A0-5555992B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6D02-7FA4-4654-9AA8-F95A106D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DBB0-E2FA-4035-9E83-D054BAD6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2C8-2D38-4B4F-A8E6-662BC658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5BDD-9C9A-4FF2-95D3-EFB5AC7F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FFFA-8158-4550-8CED-038A374A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4CCF-80E7-4E0A-BEC2-FB90CBF2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B258-3AA5-4B40-8B1B-AA5ECFA0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3153-8064-4B89-81A9-B8A53FE3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184B-F5CC-4BA1-ABFC-BBC0393E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3CE4-54A7-4781-844F-B7712F36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88AA-184F-44F3-9101-EAA14798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9DC-D9FF-48E5-A9E2-5CD3605A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04D-4FCB-4EF5-9849-DA081706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8501-583D-45BF-88AA-E979795F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4E94-0450-4BB0-AB5B-0B04E6E6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1318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812000" y="5726160"/>
            <a:ext cx="13320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28BF-ADFA-4A1E-85AE-D7994B689D5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131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812000" y="5726160"/>
            <a:ext cx="13320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3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7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12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8 maart 200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VU Masterclass Game Developm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maart 200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9A89-E6C1-4132-A33A-C33B8A5BB78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Verdana"/>
              </a:rPr>
              <a:t>Werken</a:t>
            </a:r>
            <a:r>
              <a:rPr b="0" lang="en-US" sz="5400" spc="-1" strike="noStrike">
                <a:solidFill>
                  <a:srgbClr val="ccecff"/>
                </a:solidFill>
                <a:latin typeface="Verdana"/>
              </a:rPr>
              <a:t> met de Hammer edito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noe Bhikhar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5943600"/>
            <a:ext cx="43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U Masterclass Game Developmen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art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verzic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 is Hammer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mmer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pstar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sis gereedscha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xtures en materia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il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amenvat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t is Hamm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mmer is de level editor van Half-Life 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Hammer kun je een omgeving maken, objecten en personages toevoegen, AI instellen enz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Hammer wordt er NIET geprogramme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mmer opstarten (1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documents_hammer_image1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5327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mmer opstarten (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documents_hammer_image2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487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sis gereedsch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lock to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lection to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tity to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xture to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xtures en materi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Texture = plaatje geschikt voor Hamm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Material = texture met speciale eigenschapp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Dimens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Belich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Interactie effect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pil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ompileren = Speelklaar maken van ma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documents_hammer_image13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2857680" cy="4003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038480" y="2514600"/>
            <a:ext cx="44960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Het compileren bestaat uit 3 del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SP: Wer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IS: Zichtbaar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RAD: Lic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amenvat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Hammer is de level editor van Half-Life 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Hammer opstarten gaat via selectie van Source SDK en “current gam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Basis gereedschap: Block, selection, entity en texture to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Materials zijn textures met speciale eigenschapp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ompileren is het speelklaar maken van de map en gebeurt in 3 stapp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noe Bhikharie</dc:creator>
  <dc:description/>
  <dc:language>en-US</dc:language>
  <cp:lastModifiedBy>student</cp:lastModifiedBy>
  <dcterms:modified xsi:type="dcterms:W3CDTF">2006-03-02T11:30:5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