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4517-335A-4A30-A3DC-1CFAB1FF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 staat op plek van filmpjes verde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automa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 karakter met merchandise 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Computers komen net kijken, sky is the limit, als Higinbotham patent had aangevraagd dna waren we nu allemaal Amerika aan het betalen voor sp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 komt voor het eerst v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disc komt op het verkeerde moment 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 spel dat met een omweg uit rusland kw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van een serie god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Markt stort in in 1984, veel kleine bedrijven gaan faill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orbraak van vechtsp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first person sh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er controversi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 besturen van me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Veel nieuwe mogelijkheden, meer geweld in sp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box, GameCube, Playstation 2, 128 bit, online g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uwe shooter met zeer goeie gameplay en graphics, online, VU-Lif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werelden, zeer grot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Online spelen, alles moet mooier en b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 maar op dan met die vrag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0D9-A79F-4C0A-BF66-7BC39A7D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B72-25FF-48FC-970E-BA6DC91E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46A-24FD-463D-AF05-B446F18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1A1-0CA9-4A9A-8FC4-79848D09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E2AF-A84E-41F9-AE0B-C56ADE3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0920-6320-4891-A621-71172B1F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3C56-D7ED-4890-9687-C926C179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8F98-A574-41C5-BAF8-077AFC22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C3B2-FC47-4933-8BF7-30F068C2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78C-B164-4678-A5A4-6BD38A9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849-FBA0-4345-9894-124BC505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3FE-0BE5-4FB2-9406-198944F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DCC2-21BB-441F-8793-B262404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4B76-D5B5-4008-AF92-74A0ECF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517-9A38-4967-A03C-E9ABB02E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193B-FE02-488F-9093-F339C3EF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E5BA-6777-4C83-B8DA-82B8FEFB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B76-7234-4169-8F03-F28FD4A8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7BD-3724-4EAA-BA66-E96A9B9C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CCB-2D9E-4DD2-9A97-DDBD966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738-0B60-4190-919D-B45C249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C7C-2F14-4FDB-AECA-95D0F8D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5D2-14D2-47A9-9506-DDA5F9C4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7B8D-EAA6-4AFB-BC44-921FBED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6FFF-7C37-4951-ACF4-353665EFDA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0F2-14B7-4956-9928-888EFF76AC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De geschiedenis van videogam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ls Rietk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z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 19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0 – 199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0 – 2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 2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rag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348000" y="4481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08360" y="4435560"/>
            <a:ext cx="3635280" cy="2422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 198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8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 for Tw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68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avox Odyss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0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-m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36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key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3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gon’s L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t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08360" y="4456080"/>
            <a:ext cx="3600360" cy="2401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80 - 19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5515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08360" y="4457880"/>
            <a:ext cx="3600360" cy="2400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eet Fighter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3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7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maged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0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90 - 20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1274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08360" y="4457880"/>
            <a:ext cx="3600360" cy="2400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 20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08360" y="4457880"/>
            <a:ext cx="3598920" cy="2400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1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±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generatie game con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4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lf-Li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4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 of Wa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789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89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208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00360" y="1700280"/>
            <a:ext cx="5472000" cy="3647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38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els Rietkerk</dc:creator>
  <dc:description/>
  <dc:language>en-US</dc:language>
  <cp:lastModifiedBy>student</cp:lastModifiedBy>
  <dcterms:modified xsi:type="dcterms:W3CDTF">2006-03-06T14:41:2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