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E88-C540-4B0B-9AD0-AF2F8003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2BC-3EF6-42D7-A7DC-25B41481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1F6-CD40-4A08-A467-53DE6072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732-4805-4898-B5DA-1E11E507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07F7-C1EF-40EB-BFAE-4C21398A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771F-C716-45C8-83F7-428AFD94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6C7A-811D-447D-B01B-E0B6ED13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14FD-6449-4AC6-B306-87734C9F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F857-87EE-4AB9-BD89-15043AC8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1100-FF12-4CB8-867A-29210EA5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98D5-F02C-4135-B860-98136D43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FAD-05E0-4F3C-93BA-92E605C7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3F9C-B7A1-4638-928E-F589EE5C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F03E-4131-43EE-9E86-5167E66C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9DA4-1380-4C60-AE35-C4DD9BF5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FB0B-B8DB-4A2C-A905-1DF9149C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D3B4-B2CE-4106-8018-01344F2B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889C-327A-4FFF-B2E2-CBCC8F1B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779-021F-464E-B31F-CAEAC16E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81D-E0FA-4B5C-B0CC-238FECF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826-ABB9-4A51-AD40-5A7F52C8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A06-BB70-4AF7-94CC-38CFDB0C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1114-4A19-466C-B4D7-9BD1481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6FF-7778-44DD-B6C0-B2C795C5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BFFD-ACD4-4272-90E7-81E17492F13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5A63-C973-4D3F-9527-00134377BF5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62320" y="59436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stercla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ame Develop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acticu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Kin Hung Che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e? (2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orbeelden van keywords die je kan gebruik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_vlo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_taf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_plafo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_buiten_stoe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zie hand-out voor mee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 hebben een winnaar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is een wedstijd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at je design zien aan het einde van masterclass lessen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 zelf zijn de jury (niet omkoopbaar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winnaars krijgen: Half-Li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akket met T-Shirt + eeuwige roem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ak er iets moois van, maar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Vrije Universiteit, docenten, medewerkers en studenten zijn NIET verantwoordelijk voor je cont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97288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el succes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nneer / Waa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 de tweede masterclass le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um: 15 maart 2006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atie: Zaal S353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pje van 2, aan 1 computer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gaan we (niet) doen? (1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et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ammer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ller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Dit zul je o.a. leren op de VU als je hier komt studere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gaan we (niet) doen? (2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ginnen bij de basi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uren (van een bestaand level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euwe objecten bouw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mwork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5943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Screenshot van het level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7302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opdrach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ak een zo origineel mogelijk level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eine opdrachten op hand-ou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anpassen van ninj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s er nog tijd over is: objecten bouw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orbereiding (1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 voorbereiding voor de volgende ke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m foto’s met digitale came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dat bij de volgende 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texture van maken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cificaties staan in handou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bruik ze in je level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orbereiding (2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ok ma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atjes van Internet afhal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ar: wel nog bewerke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deel: minder origineel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es creatief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e? (1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4051440" cy="1981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3504960" y="2438280"/>
            <a:ext cx="2514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572000" y="3428640"/>
            <a:ext cx="1905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523880" y="3733560"/>
            <a:ext cx="91440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00200" y="205740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standsnaam v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 plaatje /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4200" y="373392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oek plaatje 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or te blad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0640" y="57150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er vul je 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eyword”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428640" y="44953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6880" y="53658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uk hierop 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t in de level 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et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20:25:18Z</dcterms:created>
  <dc:creator>Kin Hung Cheng</dc:creator>
  <dc:description/>
  <dc:language>en-US</dc:language>
  <cp:lastModifiedBy>student</cp:lastModifiedBy>
  <dcterms:modified xsi:type="dcterms:W3CDTF">2006-03-06T12:30:45Z</dcterms:modified>
  <cp:revision>31</cp:revision>
  <dc:subject/>
  <dc:title>Masterclass Game Design</dc:title>
</cp:coreProperties>
</file>