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3302-DEC9-4ABA-ADEC-F0993B9B1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B42A-C546-4AA5-9056-D5326328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0ED2-1C53-430D-90D0-822205ED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622B-3176-4753-B65B-6AC6219C6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8C32-AE64-49AC-BF34-4F8532F9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CA4B-A1DF-4892-ADFB-6BAC70CF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73C9-F7D5-466E-8181-798FD271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34E3-F664-442F-84F5-677B3985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FBB2-AAA2-4BD5-876D-2E87A824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54A4-243E-48F3-A1B3-42D9DA38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FAF5-7D75-44C6-BE27-8A311A7D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7518-6668-491B-A6EB-62204B60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9087-0ABB-417C-BD26-A0B5B912BA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 agents are software agents which are designed for web applications, the environment is World Wide We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xonomy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600200"/>
            <a:ext cx="891540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versus 3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 2D web agent is one which is aware of  http, file, and ftp protocols, whereas a 3D web agent is one which is aware of not only those protocols, but also virtual reality protoco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ent versus serv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s the names imply, a client web agent is on client side, whereas server web agent is on server sid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ngularity versus multiplic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s the names imply,  a single web agent would not consider the interface with other  web agents, whereas multiple web agents would interact on each othe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tice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1430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590920"/>
            <a:ext cx="2057400" cy="587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54864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7524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600200" y="1752480"/>
            <a:ext cx="26668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1752480"/>
            <a:ext cx="23623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4648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571640" y="4648320"/>
            <a:ext cx="25909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3200400"/>
            <a:ext cx="2971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495680" y="3276720"/>
            <a:ext cx="27432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676520" y="3200400"/>
            <a:ext cx="25905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200400"/>
            <a:ext cx="25146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4724280"/>
            <a:ext cx="27432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-Server-Multiple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143000"/>
            <a:ext cx="7696080" cy="2286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Real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1752480"/>
            <a:ext cx="175284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1828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2438280"/>
            <a:ext cx="190512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2438280"/>
            <a:ext cx="175248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742840" y="21337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2133720"/>
            <a:ext cx="1295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28195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962520"/>
            <a:ext cx="19051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4267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41008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800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4876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3429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19112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5800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9:06:09Z</dcterms:created>
  <dc:creator>Faculteit Wiskunde en Informatica</dc:creator>
  <dc:description/>
  <dc:language>en-US</dc:language>
  <cp:lastModifiedBy>Faculteit Wiskunde en Informatica</cp:lastModifiedBy>
  <dcterms:modified xsi:type="dcterms:W3CDTF">2001-09-20T09:46:47Z</dcterms:modified>
  <cp:revision>6</cp:revision>
  <dc:subject/>
  <dc:title>Web Agents</dc:title>
</cp:coreProperties>
</file>