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EBF-EA67-4E62-A997-908B6199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33C-882B-4BB1-A014-9B00DA2D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0AA7-649A-46D0-88FB-7170BF61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87E3-5756-4418-9B5F-FFAB9953B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5B4-EEC1-4335-9A4C-FECDFB70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41F-4D42-42C3-B08E-DE5E9BA5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43EB-F231-4CCF-9054-3C56D731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15C1-3A89-4FB6-BD31-6F84C320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372-39BF-4840-9074-B362BB29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891-1C7B-40F9-80FF-C8E28202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B34D-B3AE-4F28-B43C-E64CD3E8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5C96-1312-4CA9-BEEB-8717DFA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DA2-84B4-4022-86A2-B64DA14EEC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1981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b agents are software agents which are designed for web applications, the environment is World Wide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axonomy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600200"/>
            <a:ext cx="8915400" cy="49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men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D versus 3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 2D web agent is one which is aware of  http, file, and ftp protocols, whereas a 3D web agent is one which is aware of not only those protocols, but also virtual reality protocol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lient versus serv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s the names imply, a client web agent is on client side, whereas server web agent is on server sid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ingularity versus multiplic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s the names imply,  a single web agent would not consider the interface with other  web agents, whereas multiple web agents would interact on each other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tice of Web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1430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590920"/>
            <a:ext cx="2057400" cy="587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259092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Server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3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24480" y="403848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5486400"/>
            <a:ext cx="2057400" cy="6184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D-Client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gle Ag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752480"/>
            <a:ext cx="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600200" y="1752480"/>
            <a:ext cx="2666880" cy="838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1752480"/>
            <a:ext cx="236232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6483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571640" y="4648320"/>
            <a:ext cx="259092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4792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32004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3200400"/>
            <a:ext cx="297180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495680" y="3276720"/>
            <a:ext cx="2743200" cy="7617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676520" y="3200400"/>
            <a:ext cx="259056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200400"/>
            <a:ext cx="25146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4724280"/>
            <a:ext cx="274320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-Server-Multiple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143000"/>
            <a:ext cx="7696080" cy="2286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12193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rtual Reality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1752480"/>
            <a:ext cx="1752840" cy="5335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18288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2438280"/>
            <a:ext cx="190512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2438280"/>
            <a:ext cx="1752480" cy="6098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588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b Ag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742840" y="21337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2133720"/>
            <a:ext cx="12952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95480" y="281952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962520"/>
            <a:ext cx="1905120" cy="8380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19920" y="4038480"/>
            <a:ext cx="190476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72200" y="426708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Brows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541008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5486400"/>
            <a:ext cx="1828800" cy="7621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5638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4800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91120" y="48769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4320" y="487692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00200" y="34290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19112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58000" y="34286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9:06:09Z</dcterms:created>
  <dc:creator>Faculteit Wiskunde en Informatica</dc:creator>
  <dc:description/>
  <dc:language>en-US</dc:language>
  <cp:lastModifiedBy>Faculteit Wiskunde en Informatica</cp:lastModifiedBy>
  <dcterms:modified xsi:type="dcterms:W3CDTF">2001-09-20T09:46:47Z</dcterms:modified>
  <cp:revision>6</cp:revision>
  <dc:subject/>
  <dc:title>Web Agents</dc:title>
</cp:coreProperties>
</file>