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BAC8-2EB2-47EE-A700-615CBEBD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CD28-2C4E-415F-B7B0-7324B82B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0A3D-542B-465D-832E-B4A0101E1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E914-C217-4410-B9BC-961712E3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D25-EC12-40F4-B761-1FB5E986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CCF-FC50-40AA-BCFF-653C9126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3775-B392-4382-9A4D-DDCF6FB7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ED7C-7B1A-49BC-8D55-10A9EAF9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68D-9B81-4233-BE07-27D92754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FB8C-3491-4FE0-AAE1-DAF7BB9D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C94F-F458-4CAD-ABC2-217020B2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48AD-4A72-47F4-B76C-6AF2B454E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B98F-A6DB-4D68-ABB7-995DBB0861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for Virtual Environments (I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160020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RML EAI (External Authoring Interfa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eai_diagram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32484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unch DLP Objects from Web Browser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752480"/>
            <a:ext cx="762012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body bgcolor=whit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embed src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./../vrml/root.wrl" width="100%" height="100%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applet codebase="./classes"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archive="dlpsys.jar"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code="</a:t>
            </a:r>
            <a:r>
              <a:rPr b="1" lang="en-US" sz="2000" spc="-1" strike="noStrike">
                <a:solidFill>
                  <a:srgbClr val="00ffff"/>
                </a:solidFill>
                <a:latin typeface="Courier New"/>
              </a:rPr>
              <a:t>dlpbrow.clas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  width=600 height=300 MAYSCRIP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mayscript" value="true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cols" value="6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rows" value="10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param name="object" value=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"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lp-example1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47920" y="2052720"/>
            <a:ext cx="662940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15228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295280"/>
            <a:ext cx="9144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myViewpoint Viewpoint {position 0 3 60 orientation 0 1 0 0}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translation 0 3 0 rotation 1 0 0 1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Transform {translation 0 0 0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 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 ImageTex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 url "star1.jpg" repeatS TRUE repeatT TRUE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ureTransform TextureTransform {scale 30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0.0 0.0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.0 1.0 1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height 2000 radius 2.5 top TRUE bottom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LSE}} 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487692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685800"/>
            <a:ext cx="815328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Intelligent Multimedia Technology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translation -2 3 3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"Distributed Logic Programming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00 minBack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tensity 20 source AudioClip { loop TR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rl ["mozart38.wav"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990720"/>
            <a:ext cx="891540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0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note that the path is relative to ‘root.wrl’ in the html fi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 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 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981080" y="5410080"/>
            <a:ext cx="6172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istance between the viewpoint and the title is s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143000"/>
            <a:ext cx="82296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EF tit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Transform {translation -2 3 50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cale 0.3 0.3 0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diffuseColor 1 1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missiveColor 1 0 0}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 { string ”Multimedia Authoring II: Flying Title" }]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921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1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914400"/>
            <a:ext cx="777240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1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3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0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distance = 5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3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new is Z - 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myViewpoint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5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324480" cy="4222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981080" y="5410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-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2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609480"/>
            <a:ext cx="8991360" cy="65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2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coun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distance=  20.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increment = 0.1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='./title/title1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var countv=1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 text_area(Browser),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 sleep(3000), move_title(count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_V,_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),C):-C1 is C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Znew is Z-incr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SFVec3f(V,position,X,Y,Znew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leep(100)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viewpoint(V,position(X,Y,Znew),C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Objects and  Virtual Worl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634212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304920"/>
            <a:ext cx="807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324840" cy="4222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4800600"/>
            <a:ext cx="6400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viewpoint’s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itle’s  position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ange the text regular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Program: Moving Title (3)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838080"/>
            <a:ext cx="8991720" cy="58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titlemove3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):- N1 is N-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title, translation, Xt,Yt,_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myViewpoint,position, 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t is Z - 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Vec3f(title, translation,Xt,Yt,Z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titletext,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viewpoint(myViewpoint,position(X,Y,Z), countv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itle(N1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TitleText(O,N):- I is N mod 5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I,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etMFString(O, string, [T]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4, 'VRML+Java+ Prolog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0, 'Z. Huang 2002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_, 'Thank You very much!'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titlemove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914400"/>
            <a:ext cx="807732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Design a DLP program to implement a rolling text, namel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ext can move along Y-dimension from down to up. You can design your own vrml file, or download it from the websi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mma2/examples/vrml/title/title7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Based on the moving title example 3, design a DLP program to implement moving titles in which the texts and the colors of the titles are changed regularly, using the following fact form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1, 'Multimedia Authoring II', red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2, 'Flying Title Example', yellow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itle_text(3, 'Changing Title Strings', green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...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vrml file is available at: http://wasp.cs.vu.nl/mma2/examples/vrml/title/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cessibility of your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752480"/>
            <a:ext cx="73152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ter you have done your exercises, make them accessible and executable from your project web site. Add a brief description o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d your DLP source code to your TA by email, and let him know the link of your MMA2 webpag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289548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home directory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21337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213372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3000" y="34290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71600" y="4952880"/>
            <a:ext cx="5335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905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19520" y="21337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8120" y="19051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19051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1752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350532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3200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520" y="4952880"/>
            <a:ext cx="533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4724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ma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3400" y="35053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124080"/>
            <a:ext cx="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3124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41148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2819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1240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4480" y="2819520"/>
            <a:ext cx="16002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7.wrl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9112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121932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4120" y="12193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1600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1905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1295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1320" y="1676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2209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19810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4120" y="2514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7280" y="2209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pl, 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1523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1066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49528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464832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46483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57150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r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71500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48520" y="533412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533412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63244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5720" y="5029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15200" y="5334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59436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5181480"/>
            <a:ext cx="19051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tle2.wrl,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6095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oot.w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648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00800" y="434340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43434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49528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05720" y="4648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1.htm,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96080" y="3886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lpsys.jar,*.clas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294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4343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recommended file struc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Scene Grap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27367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Coordinate Syst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934320" y="3505320"/>
            <a:ext cx="663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0" y="1523880"/>
            <a:ext cx="663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828800" y="5410080"/>
            <a:ext cx="631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+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419720" y="2666520"/>
            <a:ext cx="1600200" cy="11430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962520"/>
            <a:ext cx="0" cy="182880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2133720" y="388620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72200" y="2286000"/>
            <a:ext cx="47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267080" y="5867280"/>
            <a:ext cx="511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523880" y="3505320"/>
            <a:ext cx="511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-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tations in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886200"/>
            <a:ext cx="25146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361960" y="3886200"/>
            <a:ext cx="1981080" cy="1371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343400" y="1828440"/>
            <a:ext cx="0" cy="20574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86200"/>
            <a:ext cx="1218960" cy="360"/>
          </a:xfrm>
          <a:prstGeom prst="line">
            <a:avLst/>
          </a:prstGeom>
          <a:noFill/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91320" y="3581280"/>
            <a:ext cx="15228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12193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otation = &lt;1, 0, 0, 1.57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057400" y="1676160"/>
            <a:ext cx="1905120" cy="99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2666880"/>
            <a:ext cx="2446200" cy="32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axis of rot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715000" y="2133720"/>
            <a:ext cx="244620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le in radian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5028840" y="1600200"/>
            <a:ext cx="1523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4486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23880" y="5715000"/>
            <a:ext cx="60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ght-hand R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 Nodes, Fields, and Typ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219320"/>
            <a:ext cx="8153280" cy="23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396252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lation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Vec3f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0  0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tation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Rotation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 1 0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use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Color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1.0 0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ght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FFloat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3D Objects for DLP 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3200400"/>
            <a:ext cx="815364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VRML V2.0 utf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 Transform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Shape {appearance Appearance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ter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cylinderMaterial Material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ffuseColor 1.0 1.0 0.0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ometry  Cylinder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height 2.0 radius 1.0}}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37160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e object names on VRML no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ing values on the fields of defined ob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523880"/>
            <a:ext cx="80773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Vec3f(ObjectName,Field, 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Rotation(ObjectName,Field, 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Rotation(ObjectName,Field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SFColor(ObjectName,Field, R, G, 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……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352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 3D Predicates (bcilib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1066680"/>
            <a:ext cx="8458200" cy="56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adURL(UR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Position(ObjectName,X,Y,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setSFVec3f(ObjectName,translation,X,Y,Z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=getSFRotation(ObjectName, rotation,X,Y,Z,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Rotation(ObjectName,X,Y,Z,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8T08:18:31Z</dcterms:created>
  <dc:creator>Faculteit Wiskunde en Informatica</dc:creator>
  <dc:description/>
  <dc:language>en-US</dc:language>
  <cp:lastModifiedBy>huang</cp:lastModifiedBy>
  <dcterms:modified xsi:type="dcterms:W3CDTF">2006-05-15T11:40:41Z</dcterms:modified>
  <cp:revision>46</cp:revision>
  <dc:subject/>
  <dc:title>No Slide Title</dc:title>
</cp:coreProperties>
</file>