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0C2C-4CE4-469D-B0BE-EAD38B0D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413E-DA94-44D0-974F-1959DF93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09D-1F44-4ECC-A277-3100588C4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910F-F3F1-4E99-92D8-4D8E4CD1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87A-C6A2-42E6-B051-DBCE442A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9FD-8508-4E14-A9CD-931D9E6DC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13D6-F5F7-4A58-B05E-8D8E5C21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C06-3EE2-4309-998C-C5150EC2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DB9-5A7E-457D-BC48-60E3058D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4FD-F72B-4376-AED5-7132BF5D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3D9D-5153-45B3-9C33-81763B3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C79A-BFBE-41B5-B8C7-055083C8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694B-2FFF-408F-A238-E2ADE68F2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asp.cs.vu.nl/mma2/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I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13716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ecture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Zhisheng Hu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ton Eli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Teaching Assistan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noe Bhikhari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rik Kruith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DLP Technical Sup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es Vis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asp.cs.vu.nl/mma2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Schedule: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actical Work and Exerci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rsday 15.30-17.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uter Lab  S353 (S345), Week 19-20,23-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ternet Explorer for VRML Browser (Blaxxu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LP works under Microsoft Java Virtual Machi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o not </a:t>
            </a:r>
            <a:r>
              <a:rPr b="0" i="1" lang="nl-NL" sz="2800" spc="-1" strike="noStrike">
                <a:solidFill>
                  <a:srgbClr val="ffffff"/>
                </a:solidFill>
                <a:latin typeface="Times New Roman"/>
              </a:rPr>
              <a:t>us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tscape and Firefox  which rely on Sun Java Virtual Machine to run DLP compiled Java apple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988320" y="2666880"/>
            <a:ext cx="2155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Assign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intly work on a project in teams of tw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ister your team to  huang@cs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fore Week 2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port your system design 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mit your work  before Sept. 30, 2006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467240" y="4248000"/>
            <a:ext cx="4676760" cy="2610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0760" y="4267080"/>
            <a:ext cx="23878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yllabus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514600" y="1828800"/>
            <a:ext cx="383076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Project Present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600200"/>
            <a:ext cx="6477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ent Presentation: System De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Week 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791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Gra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67816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0% from  the weekly exerc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80% from the final pro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9144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685800"/>
            <a:ext cx="853452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public website: http://wasp.cs.vu.nl/mma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website: http://www.cs.vu.nl/~eliens/projects/logic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dex.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MA2 website at the blackboa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bb.vu.n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837720" y="914400"/>
            <a:ext cx="85345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Student project (2002): Way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nl-NL" sz="2800" spc="-1" strike="noStrike">
                <a:solidFill>
                  <a:srgbClr val="ffffff"/>
                </a:solidFill>
                <a:latin typeface="Times New Roman"/>
              </a:rPr>
              <a:t>Jasper Soetendal and Liou Yamane</a:t>
            </a:r>
            <a:r>
              <a:rPr b="1" lang="nl-NL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3): Amazing Labyrin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Tim Verweij and Pascal Snijders Blok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udent Project (2004):  S.C.U.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Winoe Bhikharie  and  KH Cheng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mela: A 3D web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EP authoring t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SP Soccer G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yout</a:t>
            </a:r>
            <a:br>
              <a:rPr sz="4400"/>
            </a:b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 Soetendal and Liou Yamane, 2002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543800" cy="45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mazing Labyrinth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Tim Verweij and Pascal Snijders Blok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7663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.C.U.M</a:t>
            </a:r>
            <a:br>
              <a:rPr sz="4000"/>
            </a:b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Winoe Bhikharie  and  KH Cheng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, 2004</a:t>
            </a:r>
            <a:br>
              <a:rPr sz="40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2378160"/>
            <a:ext cx="859644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media Authoring I: VRM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antag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D Sc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-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oss Platfo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edia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xt-based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RML: Expected Extens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Behavior Control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 Users Support: VRML+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venience in Navigation: VRML+JAVA+PROLOG,  for navigation assi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lligent </a:t>
            </a: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irtual agen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 VRML+JAVA+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unctions and Approach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2560" y="2019240"/>
          <a:ext cx="7747200" cy="439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2019240"/>
                    <a:ext cx="7747200" cy="439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istributed Logic Programming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L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RML+JAVA+PROLOG = DLP+VR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6095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ject-oriented parallel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b3D sup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CP/IP support for network  commun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ava-based. All DLP programs are compiled into java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cy for  program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sonably good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280" y="2590920"/>
            <a:ext cx="2517840" cy="30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33520" y="380880"/>
            <a:ext cx="79246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P: a scripting language for embodied agents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886200"/>
            <a:ext cx="3962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pting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hnology fo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bodie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rson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asp.cs.vu.nl/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yt-step01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3809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ACT :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STEP Source Code (1.0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0010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chedule: Lec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day, 11.00-12.45, Room S111, Week 18-21,24-2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and Demonstration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LOG and DLP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LP for Virtual Environmen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ent, Web Agent, 3D Web Ag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atar Desig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and Contro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EP: a scripting language for 3D ag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11:28:58Z</dcterms:created>
  <dc:creator>Faculteit Wiskunde en Informatica</dc:creator>
  <dc:description/>
  <dc:language>en-US</dc:language>
  <cp:lastModifiedBy> huang</cp:lastModifiedBy>
  <dcterms:modified xsi:type="dcterms:W3CDTF">2006-04-30T16:42:29Z</dcterms:modified>
  <cp:revision>41</cp:revision>
  <dc:subject/>
  <dc:title>Multimedia Authoring II</dc:title>
</cp:coreProperties>
</file>