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FB1F-3239-4CFB-962A-AFA397D0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EF7-E534-4B02-9B57-79AF559A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137-824F-4102-BC56-7B107B764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B41C-B5A7-4831-9442-F2837B38F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7B9F-3971-4D8E-B6EB-B9AE3A1B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290-ED9D-4B2A-9CFB-5EBF9581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1F3-5B6B-46B9-A38A-27B362E6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1A1D-111F-4E2B-8D56-9967F02E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B05A-400F-4513-AFD1-CDBB29FA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8CD-DA60-4683-86A2-34BD3818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61B-3838-4B3D-BD40-36D1A49D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3AD6-3060-4FBF-9060-160018A1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855B6-031D-452B-ADFC-863E7D27F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s in the previous examp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0"/>
            <a:ext cx="83822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just 3D objects in virtual wor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s are not independent thre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agent architect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…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: Defini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1600200"/>
            <a:ext cx="80773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 entity which can be programmed to conduct complex behavi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ent  is a piece of software which acts to accomplish tasks on behalf of its user [McGill, 1996]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agent is anything that can be viewed as perceiving its environment through sensors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ting upon that environment through effectors [Russell and Norvig, 1995]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imple Reflex Ag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962160" y="464832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-Making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438280"/>
            <a:ext cx="4038480" cy="2895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666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4419720"/>
            <a:ext cx="114300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181480" y="4495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638680" y="49525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52680" y="495288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19520" y="3276720"/>
            <a:ext cx="342900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505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cision-making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56272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41911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cision Mak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447920" y="2514600"/>
            <a:ext cx="40384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447920" y="3733920"/>
            <a:ext cx="40384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4191120"/>
            <a:ext cx="3962520" cy="1981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2057400"/>
            <a:ext cx="167652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486400" y="3276720"/>
            <a:ext cx="1828800" cy="838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6400" y="5791320"/>
            <a:ext cx="1905120" cy="7617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4267080"/>
            <a:ext cx="0" cy="114300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0" cy="838080"/>
          </a:xfrm>
          <a:prstGeom prst="line">
            <a:avLst/>
          </a:prstGeom>
          <a:ln w="7632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0" y="3657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648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on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2209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3429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62720" y="5943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tcome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3352680"/>
            <a:ext cx="1295640" cy="14479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3581280"/>
            <a:ext cx="1371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r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t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28954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77120" y="41148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5562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DI Agen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438280"/>
            <a:ext cx="4038480" cy="320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752480"/>
            <a:ext cx="5486400" cy="4343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432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1280" y="2514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4952880"/>
            <a:ext cx="11430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9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ff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50292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ns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638680" y="548640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5486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2971800"/>
            <a:ext cx="3504960" cy="1600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0481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DI Compon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34290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3886200"/>
            <a:ext cx="106668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3886200"/>
            <a:ext cx="1067040" cy="4572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350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3962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n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388620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38680" y="4572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2680" y="45720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lligent Agents: Main Feat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676520"/>
            <a:ext cx="8610840" cy="52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utonomy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e system should be able to act without the direct intervention of others and should have control over its own actions and internal st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sponsivenes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perceive their enviro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respond in a timely fashion to changes that occur in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-activit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Agents should not simply act in response to their environment. They should be able to exhibit opportunistic, goal-directed behavior and make the initiative where appropri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ocialness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gents should be able to interact, when they deem appropriate, with other artificial agents and humans in order to complete their own problem solving and to help others with the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iti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gent Technology</a:t>
            </a:r>
            <a:br>
              <a:rPr sz="4400"/>
            </a:b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Online 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1981080"/>
            <a:ext cx="7620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AgentLinks Home P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agentlink.org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0T08:14:13Z</dcterms:created>
  <dc:creator>Faculteit Wiskunde en Informatica</dc:creator>
  <dc:description/>
  <dc:language>en-US</dc:language>
  <cp:lastModifiedBy>huang</cp:lastModifiedBy>
  <dcterms:modified xsi:type="dcterms:W3CDTF">2003-10-06T15:48:25Z</dcterms:modified>
  <cp:revision>11</cp:revision>
  <dc:subject/>
  <dc:title>Agent</dc:title>
</cp:coreProperties>
</file>