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3EF6-7441-4A49-A391-83E336E1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9E3-5410-425E-A7F4-DEFD9C82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A88-845E-4D84-839B-B8D35F14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D226-7EBA-4DB5-8AE4-425A5435C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8E50-8901-438D-A90C-FEBAEB67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F07-EEAD-4D11-A8B4-694735AD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2530-404A-4E38-A740-2D593613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851E-E4F7-49D6-82F3-F998B277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752-8694-41A6-A5B0-C6CDE652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9838-E856-42BF-AB03-68CABC97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B71-1C71-43A3-AEFE-5AC5AE30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DA3-81B5-4E48-8E3A-8AD34F86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E86B-0FA4-44EE-B07C-AB7307FF6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676520"/>
            <a:ext cx="8229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gic Programming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ject-oriented Logic Programming Language and 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for VRML-based Virtual Environ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, Web Agent, 3D Web Agent:  notions and implemen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 Design and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EP: a scripting language for Embodied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rther Top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371600"/>
            <a:ext cx="815364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ies and Agent-based virtual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ML-based Multimedia Technology: X3D, SMIL, X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bodied Conversational Agents: Facial animation and emotion model,  TTS (text to speech technology), gesture and sign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ion of 3D Self-organizing systems and artificial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Virtual environments for E-comme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ducation: 3D models for soccer trai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D agents for entertainment and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: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sentation of System Design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June 26, 2006 (Monday) S111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36232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10-11.20 Group 1: Tom Bestebreurtje and T.V. Bur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20-11.30 Group 2: WW Boer and  Sjaak Wou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30-11.40 Group 3: Jesper Hoeksema, Berend Weel,  and NC Vijlbrie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40-11.50 Group 4: NGM Moel  and EFP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1.50-12.00 Group 5: A.E. van der Ende and Leendert Ullers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00-12.10 Group 6: Bouterse, MC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10-12.20 Group 7: Wouter Broekhof and S. Y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.20-12.30 Group 8: Steve Stomp and D. Zulkarn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ach group has 6 minutes for the presentation, and 4 minutes for questi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471680"/>
            <a:ext cx="6705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ress report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ugust  30, 200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adline:  email to huang@cs.vu.n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30,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po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rce co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cutable Progra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Guideline for MMA2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752480"/>
            <a:ext cx="80773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, Names,  Emails, Student IDs, Project Web S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chnical descri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cussion and future wo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1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Floppy's VRML97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nnotated VRML 97 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ISO: VRML97 Specif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2.0 EAI FA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SWI PROL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Prolog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2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6002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thematics of 3D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ector Math for 3D Computer Graph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3D Coding BlackH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 Techn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H-anim: Specification for a Standard Human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vata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Cywor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nline Resources (3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Commun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Blaxxun Commun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Active Worl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b3D Art and G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Web 3D 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VRML g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EchoEcho: JavaScript Tutor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# JavaScript Quick Referen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10:47:55Z</dcterms:created>
  <dc:creator>Faculteit Wiskunde en Informatica</dc:creator>
  <dc:description/>
  <dc:language>en-US</dc:language>
  <cp:lastModifiedBy>h</cp:lastModifiedBy>
  <dcterms:modified xsi:type="dcterms:W3CDTF">2006-06-18T09:54:25Z</dcterms:modified>
  <cp:revision>46</cp:revision>
  <dc:subject/>
  <dc:title>DLP for Virtual Communities</dc:title>
</cp:coreProperties>
</file>