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BBF-1F3C-473F-85AB-73FB31BD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F865-8D14-4F24-A22F-D2A09827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9BA-D535-4218-B4D5-C9935DB4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1036-CB4D-4FCA-A879-C74FB7D3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F38-4ABF-447A-B7B9-6CD3246D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630B-AF40-430C-B429-1FF4D454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2234-7713-4242-8AB7-F0941AA9D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0292-C9B2-468A-BF38-3A642A99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5FF9-DD97-4196-8FFE-CA23C509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AA42-0D26-41DD-9188-88B63CC8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4F3-7A27-42B7-A780-49C50B9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E88-8AF7-4C06-A9D7-33386970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567B-BA28-4A32-99AB-743B8EB2A6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w3schools.com/js/" TargetMode="Externa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Interface Design for DLP</a:t>
            </a:r>
            <a:br>
              <a:rPr sz="4400"/>
            </a:br>
            <a:r>
              <a:rPr b="0" i="1" lang="nl-NL" sz="4400" spc="-1" strike="noStrike">
                <a:solidFill>
                  <a:srgbClr val="ffff00"/>
                </a:solidFill>
                <a:latin typeface="Times New Roman"/>
              </a:rPr>
              <a:t>Javascripts Sup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tter  human-compuer 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Easy to make the system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hange the system parameters at the run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Javascript to 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447920"/>
            <a:ext cx="830556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listener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script, queue), _), 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InitialValues(Object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speed, 0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et_field(Object, engine_status, off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js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304920"/>
            <a:ext cx="9144000" cy="82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object busDrivinglistener : 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jsilib, bcilib, busDriving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busDrivinglistener(Node,Queue):-run(Node, Queu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run(Node,Queue):- rep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queue(Node, Queue, 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stop, !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process_test_term(Term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Term =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peedChange(Object,Chang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,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:-end_object busDrivinglisten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457200"/>
            <a:ext cx="914400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Object, Change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field(Object, engine_status, Status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tatus = on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g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),%  get a global vari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is Speed + Chang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new &gt; 0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Object, speed, Speednew), % set a global variab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new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Change(_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Set parameters directly from Javascrip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83059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engine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 (window.document.interfaceform.engine.value==“EngineOff” )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{…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fiel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bus1", "engine_status", "off"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Pass values from DLP to Javascrip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23880"/>
            <a:ext cx="9144000" cy="59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howSpeed(Object, Speed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get_window(Window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call(Window,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,[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bject, Speed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],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Javascript ( busDriving_world.htm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howSpeed(object, spee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interface.window.document.interfaceform.speed.value = speed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hange Parameters at the Run T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1828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cond message queue is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068720" cy="2517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3429000"/>
            <a:ext cx="121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4280" y="35812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952880"/>
            <a:ext cx="213372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ript_queu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781680" y="4572000"/>
            <a:ext cx="106704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858000" y="3809520"/>
            <a:ext cx="1295280" cy="228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114440" y="52578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4038120" y="3809880"/>
            <a:ext cx="685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5486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038480" y="266688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 time contro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gineOff, setRotation, speed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31760"/>
            <a:ext cx="9144000" cy="87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DLP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main :-setInitialValues(bus1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new(busDrivinglistener(script, queue), _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ew(busDrivinglistener(script, queue2), _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Courier New"/>
              </a:rPr>
              <a:t>In Javascript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(busDriving_interface.htm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 {window.parent.world.document.applets['dlpbrow'].set_queue("script"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"queue2",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term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engineProcess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){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If(window.document.interfaceform.engine.value==“EngineOn” ){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2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"term: engine(bus1,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");......} 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urce C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ource codes of the bus driving with Javascript interface are available at the MMA2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asp.cs.vu.nl/mma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905120"/>
            <a:ext cx="8153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*(Bonus).  Design a Bus  Race Game with Javascript interfa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Hint: Combine the Bus-Driving-with-Javascript program with the Bus-Moving-along-Route progr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Example: Bus Driving with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79246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Use Fram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6477120" cy="415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H="1" flipV="1">
            <a:off x="5334120" y="5562720"/>
            <a:ext cx="1828800" cy="3045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15200" y="57150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6019920" y="2133720"/>
            <a:ext cx="13716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1905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533520"/>
            <a:ext cx="9144000" cy="65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title&gt;Bus Driving Example (with Javascript Interface)&lt;/titl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set frameborder=1 rows="80%,20%,*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world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world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0 scrolling=no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rame src="busdriving_interface.htm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marginwidth=1 scrolling=yes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frames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html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DLP Javascript Interfa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1066680"/>
            <a:ext cx="845820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S method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 (Java script -&gt; DL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var applet = window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s['dlpbrow']; 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queue("namespace", "queuename", term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to set a message on a message queue on a DLP progra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field( "namespace", "fieldname", atomic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get a value of a global variable  on a DLP 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t_field( "namespace", "fieldname", term )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set a value of a global variable on a  DLP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LP methods (objec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silib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 (DLP -&gt; Javascrip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_window( -JSObject 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( +JSObject, +JSFunctionName, +ArgList, -FunctionResult )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world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8600" y="990720"/>
            <a:ext cx="8534520" cy="51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&lt;script type="text/javascript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......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embed src="./../vrml/street/street5d.wrl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applet codebase="./classes" archive="dlpsys.jar" code="dlpbrow.class"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id="dlpbrow" name="dlpbrow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width=0 height=0 MAY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param name="object" value=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busDrivingjsi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apple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iving_interface.ht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95280"/>
            <a:ext cx="8610480" cy="58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script&gt; ... 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form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interfacefo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name="engine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 Value="EngineOn"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onClick="engineProcess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gas"   Value="Gas" onClick="gasProcess()"&gt;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INPUT TYPE="button" name="turnleft" VALUE="TurnLeft"  onClick="turnLeft()"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Speed: &lt;INPUT TYPE="text" NAME="speed" VALUE="0"&gt; ...... &lt;/form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Online Javascript Tutori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62120" y="3200400"/>
            <a:ext cx="7619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w3schools.com/j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s.brown.edu/courses/bridge/1998/res/javascript/javascript-tutorial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Times New Roman"/>
              </a:rPr>
              <a:t>busDrving_interface.htm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1289160"/>
            <a:ext cx="8763120" cy="56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&lt;script&gt; 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appletQueue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(t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window.parent.world.document.applets['dlpbrow'].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set_queue("script", "queue", term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function gasProces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{var gaschange = 2.0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appletQueue("</a:t>
            </a:r>
            <a:r>
              <a:rPr b="0" lang="nl-NL" sz="2400" spc="-1" strike="noStrike">
                <a:solidFill>
                  <a:srgbClr val="ffff00"/>
                </a:solidFill>
                <a:latin typeface="Courier New"/>
              </a:rPr>
              <a:t>term: speedChange(bus1," + gaschange + ")"</a:t>
            </a: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);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ourier New"/>
              </a:rPr>
              <a:t>&lt;/scrip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8:18:54Z</dcterms:created>
  <dc:creator> h</dc:creator>
  <dc:description/>
  <dc:language>en-US</dc:language>
  <cp:lastModifiedBy>h</cp:lastModifiedBy>
  <dcterms:modified xsi:type="dcterms:W3CDTF">2006-06-18T11:50:50Z</dcterms:modified>
  <cp:revision>16</cp:revision>
  <dc:subject/>
  <dc:title>Interface Design for DLP Javascripts Support</dc:title>
</cp:coreProperties>
</file>