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B4C9-B371-481C-A3EF-70A8908F4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B1DD-F3F7-4E62-BA87-41924A73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C2D8-1B3B-4E40-B984-ACE7D06A0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946A-299A-4371-84B6-8FDC5B37A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A40E-009B-4EC7-BFC1-3242832C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5974-0BE2-4653-8562-2174E943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C96F-EE8D-42BA-B340-79DF592D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432B-D0C0-415A-8239-2CCFB24A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4123-C2F2-4C9E-B221-5174BA2A9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3345-5C39-48FB-8B33-51137AF6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7A71-D32F-407B-9895-83095BC1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29B4-F3C1-40D9-9D1B-B6F296B5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2D44-5C86-45FF-8A46-13E54E0BE1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981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 agents are software agents which are designed for web applications, the environment is World Wide We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xonomy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600200"/>
            <a:ext cx="891540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men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D versus 3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 2D web agent is one which is aware of  http, file, and ftp protocols, whereas a 3D web agent is one which is aware of not only those protocols, but also virtual reality protoco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ient versus serv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s the names imply, a client web agent is on client side, whereas server web agent is on server sid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ngularity versus multiplic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s the names imply,  a single web agent would not consider the interface with other  web agents, whereas multiple web agents would interact on each othe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ttice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1430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2590920"/>
            <a:ext cx="2057400" cy="5878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2448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54864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7524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600200" y="1752480"/>
            <a:ext cx="266688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1752480"/>
            <a:ext cx="236232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46483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571640" y="4648320"/>
            <a:ext cx="25909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3200400"/>
            <a:ext cx="29718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495680" y="3276720"/>
            <a:ext cx="27432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676520" y="3200400"/>
            <a:ext cx="25905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200400"/>
            <a:ext cx="25146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4724280"/>
            <a:ext cx="27432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-Server-Multiple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143000"/>
            <a:ext cx="7696080" cy="2286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1219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Real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1752480"/>
            <a:ext cx="175284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18288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2438280"/>
            <a:ext cx="190512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2438280"/>
            <a:ext cx="175248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742840" y="21337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2133720"/>
            <a:ext cx="12952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281952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962520"/>
            <a:ext cx="1905120" cy="8380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4267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541008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4800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48769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00200" y="34290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19112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5800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9:06:09Z</dcterms:created>
  <dc:creator>Faculteit Wiskunde en Informatica</dc:creator>
  <dc:description/>
  <dc:language>en-US</dc:language>
  <cp:lastModifiedBy>Faculteit Wiskunde en Informatica</cp:lastModifiedBy>
  <dcterms:modified xsi:type="dcterms:W3CDTF">2001-09-20T09:46:47Z</dcterms:modified>
  <cp:revision>6</cp:revision>
  <dc:subject/>
  <dc:title>Web Agents</dc:title>
</cp:coreProperties>
</file>