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052-A676-4E18-A52B-9B4EB37B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69A-0024-45B2-8683-5CD9E70A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5E7-A8A8-4986-BB93-C9EE42F9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49CC-3BFC-44ED-9DBD-2BE7F763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6110-F4E0-4ABF-85BC-C83DFB8E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60C-7D14-44B4-AC01-EDA31E72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5E2-7B47-441E-94E4-027A8F76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107E-97B7-4CE6-81B7-93FB00CF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C30-E59E-4AA3-BA3F-AA2D0649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18D-ABA1-4C0C-8F6C-B28A4F37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398-B493-42D8-9D34-A6F174FC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CD1-5B3D-4B26-82E7-16B934C5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72F5F-A2B0-4E2E-B074-7E4EC33F1D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1: 3D Soccer Ag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70600" cy="26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2280" y="457200"/>
            <a:ext cx="8991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waspsoccer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soccer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 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lay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304920"/>
            <a:ext cx="8991720" cy="58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all := new(ball(ball, 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1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GoalKeeper2 :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ew(goalKeeper(goalKeeper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UserMe := new(soccerPlayerUser(me_red10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9 := new(soccerPlayer(blue9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8 := new(soccerPlayer(blue8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7 := new(soccerPlayer(blue7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2 := new(soccerPlayer(red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3 := new(soccerPlayer(red3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Blue11 := new(soccerPlayer(blue11,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Red11 := new(soccerPlayer(red11,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waspsocc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gnitive model of soccer ga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cogmodel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4771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on Specification in Agent’s Knowledge-Ba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1905120"/>
            <a:ext cx="72388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-at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to-b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o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ve-a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n-and-tr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ar-ball-then-k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685800"/>
            <a:ext cx="853416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soccerPlayer : [common_process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…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ccerPlayer(Name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Name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Name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Activity Loo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20574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the default a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2514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32004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t the information of the current 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44197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d how to react (find an intended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65760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47920" y="5638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ke  the intended action ( do actio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9528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81680" y="5791320"/>
            <a:ext cx="17528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8534520" y="2133720"/>
            <a:ext cx="0" cy="3657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172200" y="213372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57200" y="685800"/>
            <a:ext cx="8077320" cy="43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Name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2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ball(Name,bal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Position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ball,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Name,ball,X,Y,Z,Xball,Y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ball,Dist,Xgoal,Zgoal,Dist1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Action,Name,ball,X,Y,Z,Xbal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ball,Zball,Dist,Xgoal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quitGame(Na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76320"/>
            <a:ext cx="9296280" cy="75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%findHowtoReact(+Player,+Ball,+X,+Y,+Z,+Xball,+Yball,+Zball,+Distball,+Xgoal,+Zgoal,+Distgoal,-Actio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=&l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Ball,_,_,_,_,_,_,Dist,_,_,Dist1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=&l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1 &gt; kickableGoal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in =&lt;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 &gt;= X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FieldMin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lt; FieldMin,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45720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Player,_,_,_,_,X1,_,_,Dist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aroun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kick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ieldAreaInformation(Player,_,_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eldMax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1 &gt; FieldMax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_,_,_,_,_,_,_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533520"/>
            <a:ext cx="9144000" cy="70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hoot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_,_,_,X1,Y1,Z1,_,Xgoal,Zgoal,Dist1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_ball_to_position(Ball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goal,0.0,Zgoal,Dist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passing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X1,Y1,Z1,_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CoTeammate(Player,X,Y,Z,Teammat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_,Z2,_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Passing(Player,Ball,X,Y,Z,X1,Y1,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ammate,X2,_,Z2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to_bal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Player,Ball,X,Y,Z,_X1,_Y1,_Z1,_Dist,_,_,_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run_and_trac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Player,Ball,X,Y,Z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ableDistance,runable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unstep,runSleepTim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Soccer Ag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8800"/>
            <a:ext cx="8534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gent Mode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Decision Making Ag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Multiple Agent Managem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:  Non-distributed Multiple Agent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ognitive Mo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:</a:t>
            </a:r>
            <a:br>
              <a:rPr sz="44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otion Equat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2438280"/>
            <a:ext cx="7772400" cy="34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x=x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y=y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 - 1/2 * g* t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urier New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z=z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+v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* 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ere &lt;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 z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initial position of the soccer ba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lt;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y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,v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urier New"/>
              </a:rPr>
              <a:t>z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&gt; be the velocity vector of the kick, and g be the constant accel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hysics of soccer ball in D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914400"/>
            <a:ext cx="82296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kickedwithStaticStart(Ball,X0,Y0,Z0,Vx,Vy,Vz,BallSleepTime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total is Vy/4.9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:=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Ball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’ is steps*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’ is X0+ Vx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’ is Y0+ Vy*T'-4.9*T'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’ is Z0+ Vz*T’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Position(Ball,X',Y',Z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++step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s &gt; Ttotal//BallSleepTim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oblem: Line-up Phenomen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286000"/>
            <a:ext cx="701028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21932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1:  obtaining more information of players, and add more computa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unsuitable for real-time ag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ution 2: Introducing Distributed behavioral models, li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s, herds, and schools in artificial lif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blem: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ot intelligent enou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666880" y="4191120"/>
            <a:ext cx="36576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ulated Flock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Craig Reynolds 1987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905120"/>
            <a:ext cx="7925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ollision Avoidance: avoid collisions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Velocity Matching: attempt to match velocity with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Flock Centering: attempt to stay close to nearby flockmat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3D Multiple Web Agents </a:t>
            </a:r>
            <a:br>
              <a:rPr sz="4400"/>
            </a:br>
            <a:r>
              <a:rPr b="0" i="1" lang="en-US" sz="3200" spc="-1" strike="noStrike">
                <a:solidFill>
                  <a:srgbClr val="ffff00"/>
                </a:solidFill>
                <a:latin typeface="Times New Roman"/>
              </a:rPr>
              <a:t>Example 2: Dog wor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916680" cy="41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ogworld.wr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914400"/>
            <a:ext cx="8305920" cy="627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Doggie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 0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 0 1 0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 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Bool  bark  FALS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Transform { translation IS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 IS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og {whichChoice IS whichChoice id IS id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nd {minFront 10 minBack 10 intensity 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ource AudioClip { loop IS bark url ["bark.wav"] }} ]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{ children [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 Doggie {position 0.0 0.0 -10.0 whichChoice 0 id 1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2 Doggie {position -1.0 0.0 -15.0 whichChoice 0 id 2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EF dog10 Doggie {position 5.0 0.0 -16.0 whichChoice 0 id 10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1143000"/>
            <a:ext cx="761976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TERNPROTO Dog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 id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["./dog.wrl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49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havioral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8001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with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ark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ove to 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the master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s slowing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then dogs stop move,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look 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st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 the master is too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far awa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from a dog, the dog moves  back to the mas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4920" y="228600"/>
            <a:ext cx="8686800" cy="67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world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url = './dog/dogworld.wrl'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in :-text_area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output(Browser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Load the game ...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adURL(url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:= new(game_clock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Pulse := new(game_clock_pulse(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will start in 5 seconds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total playing time is ~w seconds,~n', [TimeLeft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the game startup,~n'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 := new(dog(dog1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2 := new(dog(dog2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7 := new(dog(dog7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8 := new(dog(dog8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9 := new(dog(dog9, Clock)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_dog10:= new(dog(dog10, Clock)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worl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eneral Consid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905120"/>
            <a:ext cx="72388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ms:  Red and B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yers:  Goalkeeper,  SoccerPlayerAgent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Ba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 F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ore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refe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280" y="152280"/>
            <a:ext cx="8839440" cy="66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time_left = 500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 := time_lef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_game_time(Time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_left := Tim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ame_clock_pulse(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10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is Time -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set_game_time(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game_clock_pul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320" y="228600"/>
            <a:ext cx="8991360" cy="66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object dog : [bcilib]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leeptime = 25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small_movement = 0.2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big_movement = 0.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enlargement = 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var max_distance = 4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g(Dog, 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Int32(Dog,whichChoice, 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ormat('~w thread active.~n', [Dog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ctivity(Dog,Clock) 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epea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50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ock &lt;- get_game_time(TimeLef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Informa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 DogPosition, 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 MasterPosition2, MasterRotation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findHowtoReac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MasterRotation2, 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oAc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Dog,DogPosition,MasterPosition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asterRotation1,MasterPosition2, MasterRotation2,Action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imeLeft &lt; 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04920" y="380880"/>
            <a:ext cx="83818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Information(Dog,position(X,Y,Z),position(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2,Y2,Z2,R2),position(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rotation(X4,Y4,Z4,R4)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Dog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1,Y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2,Y2,Z2,R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sleep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3,Y3,Z3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Rotation(proxSensor,orientation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4,Y4,Z4,R4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position(X,_Y,Z),_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,Z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max_distance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to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move_with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 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position(X1,_Y1,Z1),_,position(X3,_Y3,Z3),_,look_at_master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ance2D(X1,Z1,X3,Z3,Dist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lt; big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ist &gt; small_mov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indHowtoReact(_,_,_,_,_,_,look_at_master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4920" y="152280"/>
            <a:ext cx="8534160" cy="70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_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look_at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position(X,Y,Z),position(X1,_Y1,Z1),_,_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to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2,_Y2,Z2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aster_standing,[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3 is X2 + Xd, Z3 is Z2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1,Z1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500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,Z3),5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oAction(Dog, position(X,Y,Z),position(X1,_Y1,Z1),_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3,Y3,Z3),_,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ove_with_mas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dif is X3-X1, Zdif is Z3-Z1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FlockCenter(position(X5,_Y5,Z5), master_moving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[position(X3,Y3,Z3),Xdif,Zdif]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SFInt32(Dog,id,I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dFunction(ID, Xd,Zd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6 is X5 + Xd, Z6 is Z5 + Zd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_at_position(Dog,X,Z,X6,Z6)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ove_to_position(Dog,position(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(X6,Y,Z6),10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and Distributive Fun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70572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lock  Cent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5791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6320" y="152280"/>
            <a:ext cx="8915400" cy="62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standing, [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SFVec3f(proxSensor,position,X,Y,Z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FlockCenter(position(X,Y,Z),master_moving, [position(X1,Y,Z1), Xdif, Zdif]):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X is X1 + X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Z is Z1 + Zdif* enlargement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,0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2,-1,-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3,1,-7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4,-2,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5,2,2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6,-3,0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7,3,-1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8,-4,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9,5,-4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dFunction(10,5,-3):-!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bark(Dog,Time):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tru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leep(Time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SFBool(Dog, bark, fals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:-end_object do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ercis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914400"/>
            <a:ext cx="8229600" cy="26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Continue to work on the previous unfinished assign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Improve the dog world example by adding more rules on the behavioral model, like the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near a dog, then the dog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jumps up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and bar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f the master stands and turns slowly, then dogs </a:t>
            </a: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lie upside dow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219320" y="3048120"/>
            <a:ext cx="2253960" cy="26542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562720" y="3124080"/>
            <a:ext cx="2286000" cy="2438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28600" y="5867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o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828800"/>
            <a:ext cx="7696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gister your grou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une 26, 2006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sentation of your system design.</a:t>
            </a:r>
            <a:r>
              <a:rPr b="0" lang="nl-NL" sz="2400" spc="-1" strike="noStrike">
                <a:solidFill>
                  <a:srgbClr val="ffff00"/>
                </a:solidFill>
                <a:latin typeface="Times New Roman"/>
              </a:rPr>
              <a:t> 10 minutes for each grou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8" name="field1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635004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sign of Virtual World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295280"/>
            <a:ext cx="85345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form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ranslation 0 0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ildren [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hap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ppearance Appearanc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 ImageTexture { ur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"field1.gif" 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textureTransform TextureTrans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scale 1 1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ometry Box {size 100 .2 64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occer Player Ava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81080"/>
            <a:ext cx="7848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on: to set the posi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tation: to set the rotation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ickname: to give a hint to the name of the ava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Choice: to indicate whether or not the avatar should appear in the virtual worlds, which would be convenient to add or delete any avatars from the sce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icturefile: to set the clothes and the appearance of the avata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193680"/>
            <a:ext cx="800100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ROTO Sportman [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Vec3f posi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Rotation ro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Int32 whichCho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SFString nick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osedField MFString picturefil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......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ransform  {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hildren [ DEF goalKeeper1 Sportm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{rotation 0 1 0 -1.57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hichChoice 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osition 48 1.8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picturefile ["sportmanblue1.jpg"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ickname "blue1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 ]  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oles of Soccer Player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828800"/>
            <a:ext cx="830592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alkeeper: An agent whose active area is around the goal gate of its tea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: An autonomous agent plays one of the following role: forward, middle fielder, and defend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cerPlayerUser: An agent (more exactly, just an object), which  corresponds the activities of the u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828800"/>
            <a:ext cx="8153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alizing the behaviors of multiple play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read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Separate instruction stream sharing a common memory address spac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ultiple thread contro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: makes a program for which the parts of its code can be executed concurrently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1T10:25:07Z</dcterms:created>
  <dc:creator>Faculteit Wiskunde en Informatica</dc:creator>
  <dc:description/>
  <dc:language>en-US</dc:language>
  <cp:lastModifiedBy>h</cp:lastModifiedBy>
  <dcterms:modified xsi:type="dcterms:W3CDTF">2006-06-11T10:14:28Z</dcterms:modified>
  <cp:revision>48</cp:revision>
  <dc:subject/>
  <dc:title>3D Soccer Agent</dc:title>
</cp:coreProperties>
</file>