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3287-8C99-45F8-AFA7-683E7C78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A808-1D1A-498C-935D-79CBD58B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8C9F-EE32-465A-98A6-D8781989F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5A15-17FA-42C9-9BDA-539918F18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1FF2-4033-4FA7-97CC-18F27F9C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6FF6-8135-40D2-90B5-8F774300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BEC2-DE4D-432E-A4A4-DC5CFA01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C17A-5B64-4745-A21C-67AFF704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119B-C232-4255-A810-C32CDC3A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A3FD-0D30-4E5D-9ACC-0C9EA429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0B9A-C5B0-4941-BEAD-31758CE2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2F85-A5A3-4F8D-A181-9B5469CD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F39F-DC73-4F4C-A043-89D59DCAA6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asp.cs.vu.nl/mma2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ecture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hisheng Hu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ton Eli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aching Assistan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noe Bhikhari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ik Kruith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LP Technical Suppor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es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asp.cs.vu.nl/mma2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chedule: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actical Work and Exercis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ursday 15.30-17.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 Lab  S353 (S345), Week 19-20,23-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Internet Explorer for VRML Browser (Blaxxu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LP works under Microsoft Java Virtual Mach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 not </a:t>
            </a:r>
            <a:r>
              <a:rPr b="0" i="1" lang="nl-NL" sz="2800" spc="-1" strike="noStrike">
                <a:solidFill>
                  <a:srgbClr val="ffffff"/>
                </a:solidFill>
                <a:latin typeface="Times New Roman"/>
              </a:rPr>
              <a:t>us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tscape and Firefox  which rely on Sun Java Virtual Machine to run DLP compiled Java apple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88320" y="2666880"/>
            <a:ext cx="21556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intly work on a project in teams of tw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ster your team to  huang@cs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Week 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 your system design 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mit your work  before Sept. 30, 2006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67240" y="4248000"/>
            <a:ext cx="4676760" cy="2610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20760" y="4267080"/>
            <a:ext cx="2387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llab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8307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Project Presen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600200"/>
            <a:ext cx="6477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Presentation: System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352680" y="3429000"/>
            <a:ext cx="5791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Gra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67816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% from  the weekly exerc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0% from the final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685800"/>
            <a:ext cx="8534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public website: http://wasp.cs.vu.nl/mma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website: http://www.cs.vu.nl/~eliens/projects/logic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website at the blackboa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bb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377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Student project (2002): Way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nl-NL" sz="2800" spc="-1" strike="noStrike">
                <a:solidFill>
                  <a:srgbClr val="ffffff"/>
                </a:solidFill>
                <a:latin typeface="Times New Roman"/>
              </a:rPr>
              <a:t>Jasper Soetendal and Liou Yamane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3): Amazing Labyrin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im Verweij and Pascal Snijders Blo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4):  S.C.U.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oe Bhikharie  and  KH Che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mela: A 3D web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EP authoring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SP Soccer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yout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 Soetendal and Liou Yamane, 200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54380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mazing Labyrinth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im Verweij and Pascal Snijders Blok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7663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.C.U.M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Winoe Bhikharie  and  KH Cheng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4</a:t>
            </a:r>
            <a:br>
              <a:rPr sz="40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2378160"/>
            <a:ext cx="85964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: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Sc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-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oss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media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xt-based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: Expected Exten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t Behavior Control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 Users Support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nience in Navigation: VRML+JAVA+PROLOG,  for navigation assi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lligent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irtual age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VRML+JAVA+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ctions and Approach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2560" y="2019240"/>
          <a:ext cx="774720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019240"/>
                    <a:ext cx="7747200" cy="4392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ed Logic Programm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RML+JAVA+PROLOG = DLP+VR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905120"/>
            <a:ext cx="6095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-oriented parallel 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3D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/IP support for network 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-based. All DLP programs are compiled into java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cy for 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ably good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251784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380880"/>
            <a:ext cx="792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: a scripting language for embodied agen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886200"/>
            <a:ext cx="3962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pting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hnology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bodie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so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yt-step01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3809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 :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STEP Source Code (1.0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010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Lec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day, 11.00-12.45, Room S111, Week 18-21,24-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and Demonstrati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LOG and DL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for Virtual Environm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t, Web Agent, 3D Web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tar Desig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and Contr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EP: a scripting language for 3D ag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11:28:58Z</dcterms:created>
  <dc:creator>Faculteit Wiskunde en Informatica</dc:creator>
  <dc:description/>
  <dc:language>en-US</dc:language>
  <cp:lastModifiedBy> huang</cp:lastModifiedBy>
  <dcterms:modified xsi:type="dcterms:W3CDTF">2006-04-30T16:42:29Z</dcterms:modified>
  <cp:revision>41</cp:revision>
  <dc:subject/>
  <dc:title>Multimedia Authoring II</dc:title>
</cp:coreProperties>
</file>