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813E-FFBE-416B-960B-DDFCF3D1F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B578-3077-46DD-9FC8-4CF93E0A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6833-463D-48CD-8E8A-24F5379A2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A176-F12C-411C-960B-D0342C718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A698-0AD4-4E21-B10A-8EA73D0C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5127-7B1D-489A-A4E8-27F8BEAAC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10B2-5BFA-43B9-B133-33EADF36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3E92-1846-451E-8E6A-71D7887B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5A14-9718-4531-B1C4-1A1C313E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437C-6FE0-4205-B8C5-08F6B319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ABE5-85AA-450B-AAD6-8499B56D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A697-5275-4060-AA6D-A6E3179D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B43B-68E5-40AF-8A6B-ED0E4C9E1F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1: 3D Soccer Ag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597060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45720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waspsoccer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soccer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 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lay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304920"/>
            <a:ext cx="8991720" cy="58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all := new(ball(ball, 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1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2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UserMe := new(soccerPlayerUser(me_red10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9 := new(soccerPlayer(blue9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8 := new(soccerPlayer(blue8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7 := new(soccerPlayer(blue7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2 := new(soccerPlayer(red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3 := new(soccerPlayer(red3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11 := new(soccerPlayer(blue11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11 := new(soccerPlayer(red11,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waspsocc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gnitive model of soccer ga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cogmodel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47712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on Specification in Agent’s Knowledge-B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905120"/>
            <a:ext cx="7238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-at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to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o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e-a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and-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ar-ball-then-k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68580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soccerPlayer : [common_process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ccerPlayer(Name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Name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Name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Activity Lo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20574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the default 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2514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32004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 the information of the current 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4419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how to react (find an intended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657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5638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 the intended action ( do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9528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81680" y="579132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8534520" y="2133720"/>
            <a:ext cx="0" cy="3657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172200" y="213372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685800"/>
            <a:ext cx="80773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2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ball(Name,bal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Position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ball,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Xball,Y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ball,Dist,Xgoal,Zgoal,Dist1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Action,Name,ball,X,Y,Z,X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quitGame(Na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76320"/>
            <a:ext cx="9296280" cy="75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findHowtoReact(+Player,+Ball,+X,+Y,+Z,+Xball,+Yball,+Zball,+Distball,+Xgoal,+Zgoal,+Distgoal,-Actio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=&l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&g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in =&lt;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 &gt;=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lt; FieldMin,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45720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gt; FieldMax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_,_,_,_,_,_,_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33520"/>
            <a:ext cx="9144000" cy="70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_,_,_,X1,Y1,Z1,_,Xgoal,Zgoal,Dist1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_ball_to_position(Ball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goal,0.0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X1,Y1,Z1,_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CoTeammate(Player,X,Y,Z,Teammat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_,Z2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Passing(Player,Ball,X,Y,Z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ammate,X2,_,Z2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_X1,_Y1,_Z1,_Dist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and_trac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Player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ableDistance,run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unstep,runSleepTim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Soccer Ag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8800"/>
            <a:ext cx="85345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gent Mod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Decision Making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ltiple Agent Manag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Non-distributed Multiple Agent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gnitive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: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otion Equ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438280"/>
            <a:ext cx="777240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x=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y=y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 - 1/2 * g*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urier New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z=z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ere &lt;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z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initial position of the soccer bal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velocity vector of the kick, and g be the constant accel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 in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914400"/>
            <a:ext cx="82296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edwithStaticStart(Ball,X0,Y0,Z0,Vx,Vy,Vz,BallSleepTime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total is Vy/4.9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:=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Ball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’ is steps*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’ is X0+ Vx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’ is Y0+ Vy*T'-4.9*T'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’ is Z0+ Vz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Position(Ball,X',Y',Z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++step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&gt; Ttotal//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blem: Line-up Phenomen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01028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78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1:  obtaining more information of players, and add more computa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suitable for real-time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2: Introducing Distributed behavioral models, li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cks, herds, and schools in artificial lif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t intelligent en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666880" y="4191120"/>
            <a:ext cx="36576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ulated Flock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Craig Reynolds 1987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90512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ollision Avoidance: avoid collisions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Velocity Matching: attempt to match velocity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Flock Centering: attempt to stay close to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2: Dog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91668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gworl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914400"/>
            <a:ext cx="8305920" cy="62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Doggie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 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Bool  bark  FALS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Transform { translation IS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IS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og {whichChoice IS whichChoice id IS id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 minBack 10 intensity 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rce AudioClip { loop IS bark url ["bark.wav"] }} 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children [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 Doggie {position 0.0 0.0 -10.0 whichChoice 0 id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2 Doggie {position -1.0 0.0 -15.0 whichChoice 0 id 2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0 Doggie {position 5.0 0.0 -16.0 whichChoice 0 id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1143000"/>
            <a:ext cx="761976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TERNPROTO Dog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["./dog.wrl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249696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havioral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8001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with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r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to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s slowing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stop move,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ok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 the master is too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r a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rom a dog, the dog moves  back to the mas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228600"/>
            <a:ext cx="8686800" cy="67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world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./dog/dogworld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game_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 := new(dog(dog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2 := new(dog(dog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7 := new(dog(dog7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8 := new(dog(dog8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9 := new(dog(dog9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0:= new(dog(dog10, 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wor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Consid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905120"/>
            <a:ext cx="72388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ms:  Red and B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s:  Goalkeeper,  SoccerPlayerAgent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B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re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fe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152280"/>
            <a:ext cx="8839440" cy="66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time_lef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 := time_lef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_left := Ti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ame_clock_pulse(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is Time -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set_game_time(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320" y="228600"/>
            <a:ext cx="8991360" cy="66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leeptime = 25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mall_movement = 0.2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big_movement = 0.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enlargement = 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max_distance = 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g(Dog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Dog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Dog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 DogPosition, 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 MasterPosition2, MasterRotation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MasterRotation2, 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 MasterRotation2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80880"/>
            <a:ext cx="838188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Information(Dog,position(X,Y,Z),position(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2,Y2,Z2,R2),position(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4,Y4,Z4,R4)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Dog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Y2,Z2,R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4,Y4,Z4,R4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228600"/>
            <a:ext cx="8610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position(X,_Y,Z),_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,Z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max_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with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 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look_at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look_at_master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152280"/>
            <a:ext cx="8534160" cy="70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_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look_at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to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2,_Y2,Z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aster_standing,[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3 is X2 + Xd, Z3 is Z2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,Z3),5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 position(X,Y,Z),position(X1,_Y1,Z1)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3,Z3)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with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dif is X3-X1, Zdif is Z3-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5,_Y5,Z5), master_moving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[position(X3,Y3,Z3),Xdif,Zdif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6 is X5 + Xd, Z6 is Z5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6,Z6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6,Y,Z6),1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and Distributive Fun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7057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 Cen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5791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320" y="152280"/>
            <a:ext cx="8915400" cy="62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standing, [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moving, [position(X1,Y,Z1), Xdif, Zdif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 is X1 + X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 is Z1 + Z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,0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2,-1,-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3,1,-7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4,-2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5,2,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6,-3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7,3,-1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8,-4,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9,5,-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0,5,-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Time):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tru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fals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914400"/>
            <a:ext cx="82296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Continue to work on the previous unfinished assign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Improve the dog world example by adding more rules on the behavioral model, like the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near a dog, then the dog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jumps up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and turns slowly, then dogs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lie upside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3048120"/>
            <a:ext cx="2253960" cy="2654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62720" y="3124080"/>
            <a:ext cx="2286000" cy="2438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" y="5867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t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828800"/>
            <a:ext cx="7696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er your grou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une 26, 2006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sentation of your system design.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10 minutes for each grou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field1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3500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of Virtual Worl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295280"/>
            <a:ext cx="85345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form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hap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 ImageTexture { u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field1.gif"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Transform TextureTransfor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scale 1 1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ometry Box {size 100 .2 64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Player Avat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81080"/>
            <a:ext cx="7848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to set the posi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tation: to set the rota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kname: to give a hint to the name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Choice: to indicate whether or not the avatar should appear in the virtual worlds, which would be convenient to add or delete any avatars from the sce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cturefile: to set the clothes and the appearance of the avat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93680"/>
            <a:ext cx="8001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Sportman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String nick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MFString picturefil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......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EF goalKeeper1 Sportma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rotation 0 1 0 -1.57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hichChoice 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 48 1.8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icturefile ["sportmanblue1.jpg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ickname "blue1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 ] 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les of Soccer Player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828800"/>
            <a:ext cx="83059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alkeeper: An agent whose active area is around the goal gate of its team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: An autonomous agent plays one of the following role: forward, middle fielder, and defen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: An agent (more exactly, just an object), which  corresponds the activities of the us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828800"/>
            <a:ext cx="81532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izing the behaviors of multiple play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rea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Separate instruction stream sharing a common memory address spa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makes a program for which the parts of its code can be executed concurrentl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0:25:07Z</dcterms:created>
  <dc:creator>Faculteit Wiskunde en Informatica</dc:creator>
  <dc:description/>
  <dc:language>en-US</dc:language>
  <cp:lastModifiedBy>h</cp:lastModifiedBy>
  <dcterms:modified xsi:type="dcterms:W3CDTF">2006-06-11T10:14:28Z</dcterms:modified>
  <cp:revision>48</cp:revision>
  <dc:subject/>
  <dc:title>3D Soccer Agent</dc:title>
</cp:coreProperties>
</file>