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6295-5EEC-4645-9880-A2C16A062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0B0F-8F3A-4733-B6A8-2ED93702C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D738-2BFC-43EF-BBCC-83121AAA3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3DD0-EC89-409B-80BF-6E52ABDD8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1549-FEF1-487C-98E2-3CCC617F3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DB59-A213-49DC-969A-A8EC58A25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EC25-EA5E-4069-B94F-044167802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EFE7-912A-4C6D-91CC-B2C1C9E67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1B12-2BDE-4DD7-8626-0D0DFA0A4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75B8-66BA-45A6-8AC5-0B887A98C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6584-866B-49F4-B6E2-8BB736834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8389-1DC1-4433-8853-608303DEA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9FD98-16CC-4902-875F-52D768BCC7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ultimedia Authoring II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33520" y="1676520"/>
            <a:ext cx="822960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gic Programming Langu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bject-oriented Logic Programming Language and DL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LP for VRML-based Virtual Environ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gent, Web Agent, 3D Web Agent:  notions and implement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vatar Design and Contr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EP: a scripting language for Embodied Ag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urther Topic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371600"/>
            <a:ext cx="8153640" cy="56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rtual Communities and Agent-based virtual communit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ML-based Multimedia Technology: X3D, SMIL, XSTE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mbodied Conversational Agents: Facial animation and emotion model,  TTS (text to speech technology), gesture and sign langu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mulation of 3D Self-organizing systems and artificial lif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D Virtual environments for E-commer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D agents for education: 3D models for soccer train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D agents for entertainment and gam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…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inal Assignment: 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esentation of System Design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June 26, 2006 (Monday) S111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2362320"/>
            <a:ext cx="9144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1.10-11.20 Group 1: Tom Bestebreurtje and T.V. Burg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1.20-11.30 Group 2: WW Boer and  Sjaak Wout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1.30-11.40 Group 3: Jesper Hoeksema, Berend Weel,  and NC Vijlbrie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1.40-11.50 Group 4: NGM Moel  and EFP Viss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1.50-12.00 Group 5: A.E. van der Ende and Leendert Ullersm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.00-12.10 Group 6: Bouterse, MC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.10-12.20 Group 7: Wouter Broekhof and S. Y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.20-12.30 Group 8: Steve Stomp and D. Zulkarna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ach group has 6 minutes for the presentation, and 4 minutes for question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inal Assignme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066680" y="1471680"/>
            <a:ext cx="670572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gress report:  email to huang@cs.vu.n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ugust  30, 2006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adline:  email to huang@cs.vu.n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ptember 30, 200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por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urce cod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ecutable Progra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 Guideline for MMA2 Repor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752480"/>
            <a:ext cx="807732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itle, Names,  Emails, Student IDs, Project Web Si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trodu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stem desig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echnical descrip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 manu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scussion and future wor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feren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nline Resources (1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R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Floppy's VRML97 Tutor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The Annotated VRML 97 Refere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ISO: VRML97 Specif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VRML 2.0 EAI FA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lo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SWI PROLO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Prolog Tutor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nline Resources (2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1600200"/>
            <a:ext cx="79246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thematics of 3D Graphi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Vector Math for 3D Computer Graphi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3D Coding BlackHo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gent Technolo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The Agent Home P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The AgentLinks Home P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vat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H-anim: Specification for a Standard Humano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Avata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Cywor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nline Resources (3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rtual Commun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Blaxxun Community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Active Worl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b3D Art and Ga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Web 3D A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VRML gam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avascrip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JavaScript Tutor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EchoEcho: JavaScript Tutor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JavaScript Quick Referenc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1T10:47:55Z</dcterms:created>
  <dc:creator>Faculteit Wiskunde en Informatica</dc:creator>
  <dc:description/>
  <dc:language>en-US</dc:language>
  <cp:lastModifiedBy>h</cp:lastModifiedBy>
  <dcterms:modified xsi:type="dcterms:W3CDTF">2006-06-18T09:54:25Z</dcterms:modified>
  <cp:revision>46</cp:revision>
  <dc:subject/>
  <dc:title>DLP for Virtual Communities</dc:title>
</cp:coreProperties>
</file>