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49B3-E1C1-4B46-83C6-85D481197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3799-FC66-447A-9D89-EA9FF3EC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03DB-D927-4C50-84CB-DA35BAA60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1777-D8BB-409C-8A01-A6A1BCD57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7957-CEB5-43EF-BE2A-0BD7FDAC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907B-7670-4B2C-AF09-9A3720E5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1BC6-88A3-40F3-9112-8F748E36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398C-FC4B-4CF4-8C1B-69F856F4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EA65-B357-4715-81FF-8FA7331B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FF35-D5AD-4492-9D86-B7301026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8013-6C6B-4654-8479-CA7E8DDE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E840-0196-4530-8C29-31C4FFDE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7307-DEF2-48A9-A665-90E6D96C42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for Virtual Environments (I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60020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RML EAI (External Authoring Interfa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eai_diagram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632484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unch DLP Objects from Web Browser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752480"/>
            <a:ext cx="762012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body bgcolor=whit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embed src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/../vrml/root.wrl" width="100%" height="100%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applet codebase="./classes"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archive="dlpsys.jar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code="</a:t>
            </a:r>
            <a:r>
              <a:rPr b="1" lang="en-US" sz="2000" spc="-1" strike="noStrike">
                <a:solidFill>
                  <a:srgbClr val="00ffff"/>
                </a:solidFill>
                <a:latin typeface="Courier New"/>
              </a:rPr>
              <a:t>dlpbrow.clas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  width=600 height=300 MAYSCRIP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mayscript" value="true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cols" value="6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rows" value="1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object" value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lp-example1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47920" y="2052720"/>
            <a:ext cx="662940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1522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295280"/>
            <a:ext cx="9144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myViewpoint Viewpoint {position 0 3 60 orientation 0 1 0 0}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translation 0 3 0 rotation 1 0 0 1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Transform {translation 0 0 0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 ImageTextu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 url "star1.jpg" repeatS TRUE repeatT TRUE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Transform TextureTransform {scale 30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0.0 0.0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.0 1.0 1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height 2000 radius 2.5 top TRUE bottom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ALSE}}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487692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343400" y="48769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685800"/>
            <a:ext cx="81532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Intelligent Multimedia Technology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3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Distributed Logic Programming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00 minBack 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nsity 20 source AudioClip { loop TR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rl ["mozart38.wav"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990720"/>
            <a:ext cx="8915400" cy="63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0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note that the path is relative to ‘root.wrl’ in the html fi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 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 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81080" y="5410080"/>
            <a:ext cx="6172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stance between the viewpoint and the title is s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1143000"/>
            <a:ext cx="8229600" cy="28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EF tit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”Multimedia Authoring II: Flying Title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921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914400"/>
            <a:ext cx="7772400" cy="63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1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distance = 5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981080" y="541008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09480"/>
            <a:ext cx="8991360" cy="65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2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distance=  20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1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countv=1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 sleep(3000), 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_V,_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),C):-C1 is C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new is Z-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V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leep(100)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new),C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Objects and  Virtual Worl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63421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324840" cy="4222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19320" y="4800600"/>
            <a:ext cx="6400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ext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838080"/>
            <a:ext cx="8991720" cy="58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3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titletext,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O,N):- I is N mod 5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I,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MFString(O, string, [T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4, 'VRML+Java+ Prolog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0, 'Z. Huang 2002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_, 'Thank You very much!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914400"/>
            <a:ext cx="8077320" cy="45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Design a DLP program to implement a rolling text, namel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ext can move along Y-dimension from down to up. You can design your own vrml file, or download it from the websi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mma2/examples/vrml/title/title7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Based on the moving title example 3, design a DLP program to implement moving titles in which the texts and the colors of the titles are changed regularly, using the following fact forma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, red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, yellow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, green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rml file is available at: http://wasp.cs.vu.nl/mma2/examples/vrml/title/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cessibility of you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752480"/>
            <a:ext cx="73152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you have done your exercises, make them accessible and executable from your project web site. Add a brief description on th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d your DLP source code to your TA by email, and let him know the link of your MMA2 webpag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280" y="289548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home directory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213372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21337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34290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49528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1905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21337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19051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19051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35053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49528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4724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3505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31240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3124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4114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1240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2819520"/>
            <a:ext cx="16002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7.wrl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733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886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91120" y="1981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12193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219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1600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1905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1295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1676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2209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1981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2514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22096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pl, 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1523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10666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4952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46483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46483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rc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5715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5715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53341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48520" y="53341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6324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5334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5943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5181480"/>
            <a:ext cx="1905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,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6095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4648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43434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43434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4952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4648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3886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4343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recommended file struc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Scene Grap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27367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Coordinate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934320" y="3505320"/>
            <a:ext cx="66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0" y="1523880"/>
            <a:ext cx="663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828800" y="5410080"/>
            <a:ext cx="631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419720" y="2666520"/>
            <a:ext cx="1600200" cy="11430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962520"/>
            <a:ext cx="0" cy="18288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133720" y="3886200"/>
            <a:ext cx="2209680" cy="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72200" y="2286000"/>
            <a:ext cx="47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67080" y="5867280"/>
            <a:ext cx="511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3880" y="3505320"/>
            <a:ext cx="511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tations in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886200"/>
            <a:ext cx="1218960" cy="360"/>
          </a:xfrm>
          <a:prstGeom prst="line">
            <a:avLst/>
          </a:prstGeom>
          <a:noFill/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791320" y="3581280"/>
            <a:ext cx="152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12193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tation = &lt;1, 0, 0, 1.57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057400" y="1676160"/>
            <a:ext cx="190512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2666880"/>
            <a:ext cx="244620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axis of rot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715000" y="2133720"/>
            <a:ext cx="2446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gle in radia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028840" y="1600200"/>
            <a:ext cx="15238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4486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3880" y="57150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ght-hand R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Nodes, Fields, and Typ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3962520"/>
            <a:ext cx="8534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ion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Vec3f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0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ta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Rotation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1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use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0 1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ght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Float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 for DLP U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3200400"/>
            <a:ext cx="815364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 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37160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object names on VRML no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ipulating values on the fields of defined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523880"/>
            <a:ext cx="80773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Rotation(ObjectName,Field, 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Rotation(ObjectName,Field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1066680"/>
            <a:ext cx="845820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adURL(UR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s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getSFRotation(ObjectName, rotation,X,Y,Z,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8:18:31Z</dcterms:created>
  <dc:creator>Faculteit Wiskunde en Informatica</dc:creator>
  <dc:description/>
  <dc:language>en-US</dc:language>
  <cp:lastModifiedBy>huang</cp:lastModifiedBy>
  <dcterms:modified xsi:type="dcterms:W3CDTF">2006-05-15T11:40:41Z</dcterms:modified>
  <cp:revision>46</cp:revision>
  <dc:subject/>
  <dc:title>No Slide Title</dc:title>
</cp:coreProperties>
</file>