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5749-BF72-487A-A0BE-77989556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BE60-5F7A-4E59-B8D2-5805376E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9CDF-0B97-4178-A4D0-87294432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65DD-2582-485A-A319-4E39DCAD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BDAF-1AC8-4740-AA77-59E6A1B4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0E00-250E-4A7B-9035-19016F97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A627-6D48-4A62-9DEB-3026287D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129E-AF0A-4D20-94A9-4DB4451A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0AD5-002E-4541-B1F5-0F6D5A4E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E8B0-F493-4A3A-BAA2-F494F5C0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412D-671A-4D20-BB62-9FA2B72C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A864-76B5-4AF0-B0FB-6FAC6CE4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8144-11B5-4ECB-914A-C95CB2A50D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asp.cs.vu.nl/mma2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ectur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hisheng Hu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on E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aching Assista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oe Bhikhar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ik Kruith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LP Technical Suppo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es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asp.cs.vu.nl/mma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hedule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actical Work and Exerci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ursday 15.30-17.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 Lab  S353 (S345), Week 19-20,23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ternet Explorer for VRML Browser (Blaxxu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P works under Microsoft Java Virtual Mach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 not </a:t>
            </a:r>
            <a:r>
              <a:rPr b="0" i="1" lang="nl-NL" sz="28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scape and Firefox  which rely on Sun Java Virtual Machine to run DLP compiled Java appl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88320" y="2666880"/>
            <a:ext cx="2155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ly work on a project in teams of tw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 your team to  huang@cs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Week 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your system design 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 your work  before Sept. 30, 2006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67240" y="4248000"/>
            <a:ext cx="4676760" cy="261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0760" y="4267080"/>
            <a:ext cx="2387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llab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30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Project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600200"/>
            <a:ext cx="6477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Presentation: System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791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Gr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% from  the weekly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% from th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858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public website: http://wasp.cs.vu.nl/mm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website: http://www.cs.vu.nl/~eliens/projects/logic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website at the blackbo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bb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Student project (2002): W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nl-NL" sz="2800" spc="-1" strike="noStrike">
                <a:solidFill>
                  <a:srgbClr val="ffffff"/>
                </a:solidFill>
                <a:latin typeface="Times New Roman"/>
              </a:rPr>
              <a:t>Jasper Soetendal and Liou Yamane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3): Amazing Labyri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im Verweij and Pascal Snijders Blo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4):  S.C.U.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oe Bhikharie  and  KH Che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mela: A 3D web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EP authoring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P Socc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you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 Soetendal and Liou Yamane, 200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mazing Labyrinth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im Verweij and Pascal Snijders Blok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6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.C.U.M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inoe Bhikharie  and  KH Che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4</a:t>
            </a:r>
            <a:br>
              <a:rPr sz="40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2378160"/>
            <a:ext cx="85964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: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Sc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-based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: Expected Exten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Behavior Control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 Users Support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nience in Navigation: VRML+JAVA+PROLOG,  for navigation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igent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irtual ag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RML+JAVA+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ctions and Approa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2560" y="2019240"/>
          <a:ext cx="77472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9240"/>
                    <a:ext cx="7747200" cy="439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Logic Programm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ML+JAVA+PROLOG = DLP+VR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6095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-oriented parallel 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3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/IP support for network 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-based. All DLP programs are compiled into java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cy for 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y good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25178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8088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: a scripting language for embodied agen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88620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ptin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hnology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di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so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yt-step01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 :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TEP Source Code (1.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Le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day, 11.00-12.45, Room S111, Week 18-21,24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and Demonstra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G and DL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for Virtual Environ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t, Web Agent, 3D Web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tar Des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and Contr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P: a scripting language for 3D ag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1:28:58Z</dcterms:created>
  <dc:creator>Faculteit Wiskunde en Informatica</dc:creator>
  <dc:description/>
  <dc:language>en-US</dc:language>
  <cp:lastModifiedBy> huang</cp:lastModifiedBy>
  <dcterms:modified xsi:type="dcterms:W3CDTF">2006-04-30T16:42:29Z</dcterms:modified>
  <cp:revision>41</cp:revision>
  <dc:subject/>
  <dc:title>Multimedia Authoring II</dc:title>
</cp:coreProperties>
</file>