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1EA-CB77-4019-A4DB-664E72DA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97A-4F52-4669-B358-A53269FA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ADA-49E8-46CC-8BF5-2A575B4C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60C-C1E0-4B58-BACA-CA573B82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A91-0189-4278-B04A-3C14B5B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088-07F4-47A8-84C6-152D093B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C8D-B292-416C-A3DD-87C04849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413-24AD-445B-A30C-837C6665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6C7-E192-4C86-B686-F4EDD75C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294-FD14-4A51-8707-E4F8D6A3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811-ED75-4254-8E2F-0FC04EAA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396-0562-4A37-BF00-87E45067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407B-C4CF-4696-958C-E11269522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7560" y="2514600"/>
            <a:ext cx="53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2514600"/>
            <a:ext cx="50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0160" y="281952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200400"/>
            <a:ext cx="43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h media mash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5760" y="83808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e technology / new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160" y="274320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bachelor.utwente.nl/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45720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560" y="54100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9760" y="23623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9092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5360" y="2971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920" y="36576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6560" y="17524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2040" y="36576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0600" y="5105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066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3240" y="685800"/>
            <a:ext cx="54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52578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1520" y="52578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1720" y="25304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8120" y="253044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10240" y="38098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3880" y="259092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440" y="274320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8-03-20T15:12:22Z</dcterms:modified>
  <cp:revision>7</cp:revision>
  <dc:subject/>
  <dc:title>Slide 1</dc:title>
</cp:coreProperties>
</file>