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4F7-6851-4A65-9AD2-5F93362B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300-4E51-4A29-8B86-0E774827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8A8-9319-4547-8248-E484D3F9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334-F838-499D-BA7B-EE92CFCE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AE2-322E-4715-8272-7883A46B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3E2-B0A4-4E98-BE09-B537E46A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E28-1B51-48A0-8C38-698701D3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55F-811D-4D94-A043-841A1462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EFF-6146-4FC4-BCEC-D957A3B1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0F0-7EDD-4C07-B3A5-6E978E3A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99B-00F5-4410-A33F-1922E7E9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23B-9565-44C9-95B3-4C392C9A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974A-12EC-4CDE-8F58-8C1160734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4320" y="609480"/>
            <a:ext cx="744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3760" y="236232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(virtual) community of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0" y="5410080"/>
            <a:ext cx="92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on Eliëns, Frans Feldberg, Elly Konijn, Egon Com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               FEWEB              FSW      COMMUNIC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28810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1200" y="2895480"/>
            <a:ext cx="78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Life as a platform for Serious G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0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it technically adeq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523880"/>
            <a:ext cx="694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 engin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240" y="552276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Second Life sufficiently scalable to adapt to expected grow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15400" cy="4408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3600" y="5599080"/>
            <a:ext cx="67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C = blaxxun Community, AW = AlphaWorld, D3D = Delta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2 = Half Life 2 Source SDK, SL =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480" y="3808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00080" y="4952880"/>
            <a:ext cx="602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est -- wiki.secondlife.com/wiki/LlHTTP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pe -- wiki.secondlife.com/wiki/LlEscapeU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se -- wiki.secondlife.com/wiki/Http_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2600" y="1752480"/>
            <a:ext cx="8449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ctor target= &lt;162,134,27&gt;;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coordinates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ault { state_entry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Text("Info @ VU",&lt;255,255,255&gt;,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SitText("telepor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tation my_rot=llGetRo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itTarget((target - llGetPos()) / my_rot,ZERO_ROTATION / my_ro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nged(integer chang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UnSit(llAvatarOnSitTarget()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end defaul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53000" y="87480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-like, server-s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31000" y="304920"/>
            <a:ext cx="38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5560" y="5257800"/>
            <a:ext cx="58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.com/secondlife/VU%20University%20NL/29/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560" y="44956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971800"/>
            <a:ext cx="56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nowledgebase -- secondlife.com/knowledge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ripting -- wiki.secondlife.com/wiki/LSL_Por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page -- https://wiki.secondlife.com/wi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560" y="2133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ki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83280" y="125568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wnership, access and modifiability right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36280" y="148428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vergence of social networking and content cre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mersive networked 3D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sion of elementary economic princi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n't miss the boat 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ee and easy accessible 3D design tool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option by big companies like IBM, Reebok,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ing of Second Life by Linden Lab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romise to make (real) money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" y="4800600"/>
            <a:ext cx="8201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rding to Philip Rosedale, CEO of Linden Lab, (interview in .NET magazine, issue 15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07) the success of SL is due to the fac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it offers a set of capabilities, which are in many different ways superior to the real wor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the decision to allow residents to own the intellectual property rights to their creation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because Second Life is full of creative possibilities, and opportunites for innov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366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15880" y="1371600"/>
            <a:ext cx="74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construct and communicat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second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virtual and real (monetary) rew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requires element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virtu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transfer to first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56272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 veritable media-supported augmentation of our first lif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0492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092240"/>
            <a:ext cx="4495680" cy="3370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95680" y="3448080"/>
            <a:ext cx="4648320" cy="348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0" y="15238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L4, AT5, Campus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ool, Else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0960" y="533412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&lt;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#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y of Mario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6440" y="304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0760" y="4800600"/>
            <a:ext cx="46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AA: 3D weather data visu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OA: test the water in a virtual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C: spare change in second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: be anyone, set your own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ORPG: secondlife as a 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6040" y="1447920"/>
            <a:ext cx="63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ORAMA --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diating soci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4960" y="3048120"/>
            <a:ext cx="272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ERA @ 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discipl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31560" y="22096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reflec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al encount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asional battl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38088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419720"/>
            <a:ext cx="685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KNOWLEDGEMEN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thank the students involved, Viola van Alphen (FEWEB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m Bestebreurtje (FEW), Elbert-Jan Hennipman (FEW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last but not least Bjorn de Boer (FSW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ir enthusiasm, creativity, and of course their har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led to an amazing res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9840" y="1865160"/>
            <a:ext cx="636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7650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7840" y="53352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31200" y="3808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6400" y="12556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apid adoption of Second Life has been a surpri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5680" y="2590920"/>
            <a:ext cx="71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Amsterdam – center of commerce / individual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business, corporate presence, / irregularities (2e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7120" y="4764240"/>
            <a:ext cx="65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es a respectable university, like V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to be present in Second Lif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0440" y="304920"/>
            <a:ext cx="63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6480" y="548640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hift of culture, from a media consumer culture to a participatory cul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users also actively contribut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8240" y="4572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enkins (2006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53360" y="1103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euromanc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520" y="20937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taver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1295280"/>
            <a:ext cx="14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nowcras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6320" y="1941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axx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9520" y="2590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0920" y="27036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of wa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3389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4680" y="3008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0560" y="33894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20080" y="3770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ck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560" y="1066680"/>
            <a:ext cx="469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 initial (throwaway) prot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re content creation 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 tutorial(s) for content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alyse technological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5480" y="3886200"/>
            <a:ext cx="213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5760" y="1600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s /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1640" y="3733920"/>
            <a:ext cx="304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FEW / FSW / FE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month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040" y="125568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cture room, research laboratory, information panels, photo ga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ol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98960" y="114300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idea that comes to mind, natur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o use Second Life to offer courses on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080" y="2514600"/>
            <a:ext cx="72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, although we do have plans to give lectures (college) on l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bably including the enactment of a particular ca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consider this approach as rather na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frankly we see no reason to include what may be consid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outdated paradigm of learning in our virtual camp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there might be more appealing altern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ilarly, using the virtual laboratory for experi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ght not be the best way to offer courses, although, aga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intend to provide a model of a living c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wing students to study the structure,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behavior of organic cells in virtual 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3480" y="1219320"/>
            <a:ext cx="628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riencing the world in new w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ing new affil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paration for future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nk about the domain at a meta-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a complex system of inter-rela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projec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uated cognition in semiotic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720" y="5751360"/>
            <a:ext cx="45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s a platform for SERIOUS GAM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MMUNICATION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200" y="3962520"/>
            <a:ext cx="913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struction and deployment of humanoid intelligent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ays agents can provide an explanation in rich media con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arch as guidance in finding locations in large 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virtual replicas of existing buildings to provide immersive access to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ffectiveness of the use of an intelligent humanoid agent wrt. 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between perceptions of fictitious versus existing characte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ole of emotions in establishing communication between real and virtual 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98960" y="3429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840" y="1447920"/>
            <a:ext cx="76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decision-making in a virtual environment the same as or simila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-making in the real worl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what about investments, and starting a new compan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3:30:23Z</dcterms:created>
  <dc:creator>User name placeholder</dc:creator>
  <dc:description/>
  <dc:language>en-US</dc:language>
  <cp:lastModifiedBy>User name placeholder</cp:lastModifiedBy>
  <dcterms:modified xsi:type="dcterms:W3CDTF">2007-03-28T14:57:57Z</dcterms:modified>
  <cp:revision>6</cp:revision>
  <dc:subject/>
  <dc:title>Slide 1</dc:title>
</cp:coreProperties>
</file>