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BE37-8EC0-4B21-92D4-5B65BAC7A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39F7-DB6E-4856-AD36-5201A32EA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02EC-5EB3-4BCB-83C3-2070B2058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9A79-C62A-4ABA-802A-E32845437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8C89-6964-449E-9BF5-18FE24CF4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DA52-B82C-41FF-834B-A556A85A9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079E-23EE-4DCB-92E7-8E024BEDD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9A61-A152-4EB5-8AB6-0F44C9069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5FA2-0A26-4E82-B78E-B318BD696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A559-FA11-4E2A-83EB-F0C23C066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BC35-E8A1-4D8F-8374-0A49E6197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BB26-6E7A-4334-8E67-E1C5C20C2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7B08-6EAD-4E8F-84A6-83E8AE076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337-1DFB-442A-94E3-642FE76AD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E67A-F755-4A88-BC8D-7DD2BC205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788-FFDB-4769-9571-4BA9A14C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80B-B00B-4D29-B0CA-3DDE55D3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732-389F-4C21-BA8C-17465E56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413-9F83-4414-AB6D-640191DB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3F3-0116-4A33-9672-9578C908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EAA-08E4-454A-ABED-EDA0A5A1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A18-E0F3-4B3A-A415-BEBC9A8B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CC1-DBC2-45DA-8BA7-FE5A37B6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ED7-5AAB-4767-913B-C839149A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D12-FA7C-4733-B04F-0257118B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163-5C76-4A6B-8CA2-63083C4E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6E7-2B4D-477A-8147-E1CE7CCA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667-D200-4034-8BAA-741CE0A34F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DBF6-8524-4493-B43C-C798A0267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NORAM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Rich VRML Platform For Online Ga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4714560"/>
            <a:ext cx="4357800" cy="104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i Yin    Anton Eli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Administrator\Desktop\title.jpg"/>
          <p:cNvPicPr/>
          <p:nvPr/>
        </p:nvPicPr>
        <p:blipFill>
          <a:blip r:embed="rId1"/>
          <a:stretch/>
        </p:blipFill>
        <p:spPr>
          <a:xfrm>
            <a:off x="6072120" y="3405240"/>
            <a:ext cx="3071880" cy="345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oto Share Appl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BA7E-2DA8-4851-8B53-391B1DCD4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Work\PANORAMA\ShortPaper\figure3_2.jpg"/>
          <p:cNvPicPr/>
          <p:nvPr/>
        </p:nvPicPr>
        <p:blipFill>
          <a:blip r:embed="rId2"/>
          <a:stretch/>
        </p:blipFill>
        <p:spPr>
          <a:xfrm>
            <a:off x="1357200" y="1643040"/>
            <a:ext cx="6318360" cy="44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antages to other Online Gaming Platf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e and Open 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the players and tools needed can be found free or open-source 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totally build up your game for fr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 performance of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ly a 3D game eng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 rendering spe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n stand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X9 fully support, you can port your effects easi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yalty fre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e authoring tools available(Flux, VrmlPa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also build your world from Text Editor (It’s also very conveni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5941-7952-4CCF-BC44-FF5984A39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advantage to other online Gaming platform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tibility problem among different play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find some worlds can be played as same using different play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me players have their own special featu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automatic installation on today's brows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 has to install the plug-in mannual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E9A6-4840-4BF1-B13E-4F2B1BA8F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ew design model for multi-user support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-source development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not only for games, but can also used in other web 3d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 Google UI to overcome the tedious work in programming the interface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C8D7-212D-4368-A081-260C00D39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B5D9-A8B8-4AAD-957A-A4D6225AB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s in Traditional VRML G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Poly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ll tex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or Ligh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ommunication fac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us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rporate with other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Desktop\wasp-soccer1.jpg"/>
          <p:cNvPicPr/>
          <p:nvPr/>
        </p:nvPicPr>
        <p:blipFill>
          <a:blip r:embed="rId1"/>
          <a:stretch/>
        </p:blipFill>
        <p:spPr>
          <a:xfrm>
            <a:off x="2401920" y="2066760"/>
            <a:ext cx="4181400" cy="464508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7172-2E52-4456-A37E-E9D55ADE1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RML Games To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polygon and texture thanks to the fast video c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X9 fully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der Program in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communication problems still haven’t been sol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17F6-CEF0-42B2-92BE-7BC9D0E9D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istrator\Desktop\2.jpg"/>
          <p:cNvPicPr/>
          <p:nvPr/>
        </p:nvPicPr>
        <p:blipFill>
          <a:blip r:embed="rId1"/>
          <a:stretch/>
        </p:blipFill>
        <p:spPr>
          <a:xfrm>
            <a:off x="2262240" y="1994040"/>
            <a:ext cx="4906800" cy="5949720"/>
          </a:xfrm>
          <a:prstGeom prst="rect">
            <a:avLst/>
          </a:prstGeom>
          <a:ln w="0">
            <a:noFill/>
          </a:ln>
        </p:spPr>
      </p:pic>
      <p:sp>
        <p:nvSpPr>
          <p:cNvPr id="61" name="Footer Placeholder 4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ternative Sol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tibility Problem with other play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 open enough for developer to exp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nsive charges, licenses, user number lim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LP with soc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academic research, not mature enou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only run  in 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integrate and slow development peri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28608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0A92-6ED7-475E-8A77-741AAE384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ANORAMA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to show self-refl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lligent, Interactive and visually good loo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 the awareness within the around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7E89-8304-4DCF-B10E-D10E17811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VRML World For the Game and other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listic 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action with user (web 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AJAX + EAI to set up a communication fac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quent asynchronize communication with the server so you can talk with other guy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’t have to refresh the page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Google Web Toolkits to make control panel and integrate with other web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vercome the weakness of UI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gantly  work with other web elements(form, text, tags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159C-6D16-4C31-B0B6-6455F70B6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8DDC-F779-4BA0-9583-7C4490997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D:\Work\PANORAMA\ShortPaper\figure1.jpg"/>
          <p:cNvPicPr/>
          <p:nvPr/>
        </p:nvPicPr>
        <p:blipFill>
          <a:blip r:embed="rId1"/>
          <a:stretch/>
        </p:blipFill>
        <p:spPr>
          <a:xfrm>
            <a:off x="1571760" y="1571760"/>
            <a:ext cx="5902200" cy="378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snfer value through the EAI interf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cument.Contact3D.setNodeEventIn(node, field, value); # send the value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rowser.loadURL(“OnEvent(par)”, v); # call the function out of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JAX request made in Javascript or the Google RPC at cli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t Timeout value smaller enough if you want to refresh it frequentl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page can be implemented in whatever way you lik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GI, PHP, Perl, and Java with a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nk about the GTal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in Java to make the control interface in GWT saves lot of ti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’s not only on the HTML side, but also for the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gramming UI in VRML is time consu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08C6-0502-4280-B9EE-E9F9AC7D3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Jumping Tiger G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D165-80A1-4B85-9FA5-13CD64D46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Work\PANORAMA\ShortPaper\figure2_2.jpg"/>
          <p:cNvPicPr/>
          <p:nvPr/>
        </p:nvPicPr>
        <p:blipFill>
          <a:blip r:embed="rId2"/>
          <a:stretch/>
        </p:blipFill>
        <p:spPr>
          <a:xfrm>
            <a:off x="1500120" y="1714680"/>
            <a:ext cx="6286680" cy="443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1:18:05Z</dcterms:created>
  <dc:creator>S.Yin</dc:creator>
  <dc:description/>
  <dc:language>en-US</dc:language>
  <cp:lastModifiedBy>User name placeholder</cp:lastModifiedBy>
  <dcterms:modified xsi:type="dcterms:W3CDTF">2007-04-06T09:23:31Z</dcterms:modified>
  <cp:revision>57</cp:revision>
  <dc:subject/>
  <dc:title>PANORAMA A Rich VRML Platform For Online Gaming</dc:title>
</cp:coreProperties>
</file>