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5FD-BCFA-4FE5-A6F8-E768A5D8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C21-8CB5-4835-9D8D-2CBC67A6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BCC-9099-4993-A360-4CCDF2A0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78D-A43B-4C14-87B4-F7CDE23D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C91-D32A-4297-933B-3A3ECD96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878-BDAA-4870-95A5-B771A808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F70-3738-42B7-9F0C-6F63A7D7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136-F338-49FB-A242-A0E1ECF7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EF11-372E-4E58-8D19-A91B47DD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200-00F2-4BBE-A229-69C29942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620-5256-42F9-B39D-541A4AF3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90F-241A-40D1-8310-BF724D08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E084-50AF-4548-AA37-9225FA8CA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6400" y="137160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"/>
              </a:rPr>
              <a:t>孫子兵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1:54:42Z</dcterms:created>
  <dc:creator>User name placeholder</dc:creator>
  <dc:description/>
  <dc:language>en-US</dc:language>
  <cp:lastModifiedBy>User name placeholder</cp:lastModifiedBy>
  <dcterms:modified xsi:type="dcterms:W3CDTF">2007-03-29T11:55:04Z</dcterms:modified>
  <cp:revision>1</cp:revision>
  <dc:subject/>
  <dc:title>Slide 1</dc:title>
</cp:coreProperties>
</file>