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80C-3101-4DD0-A3B7-8266CA61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126-8B79-4A52-8D48-FE607879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21D-3E8F-4FE8-947D-FD3C2D31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CAD-4939-474F-BC7C-9FD3F4A3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A9B-FDF7-4E5E-9941-0BE27321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25D-3CEB-493A-8F0D-A1A6418B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90A-F33F-4E42-92F5-863301B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4A4-6C2D-4E8F-918A-66DB9054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D27-52D4-462F-9D44-C8F9FBD5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EF2-7B6F-4BE0-905F-1AEA9219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C0D-1CAE-4024-BD6B-027663A7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4ED-21C3-4424-9B37-35233CA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E32-4AE1-4A82-96D1-61E44ACA2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360" y="8380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7800" y="1752480"/>
            <a:ext cx="70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e, Recommed, Regr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7240" y="3265560"/>
            <a:ext cx="57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tours / serial recomm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4920" y="304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33360" y="541008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El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wen W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29000" y="30492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543120" cy="26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1371600"/>
            <a:ext cx="3085920" cy="231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50655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TECHNOLOGY / D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0" y="5486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C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2360" y="45720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6240" y="1447920"/>
            <a:ext cx="70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ommender system that generates a collection of ar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ccordance with  the users' pre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rating of a small sample of ar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9720" y="685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7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 =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r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358128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weighting scheme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 a difference metric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 can be crea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prioritized accessibility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each artwork and a collection of related ar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changing the weight for one of the proper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 case the tour is generated for the actual muse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ority ordering may be changed, resulting in a different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7720" y="6095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0560" y="1066680"/>
            <a:ext cx="251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 =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= 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 =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=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 =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84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--  U x I x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--  U x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240" y="312408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distributed recommend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F -&gt;  U x I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(s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B -&gt; I x 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4360" y="411480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560" y="4684680"/>
            <a:ext cx="51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time = 20sec, rating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(rembrandt) = r, topic(portrait)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0007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908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p1, p2 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pk = [ f1 = v1, f2 = v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228600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nightwatch = [ artist=rembrandt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guernica = [ artist=picasso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00320" y="380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8280" y="99072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= d(y,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&lt;= d(x,z) + d(z,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x)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160" y="243828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 = [ artist = rembrandt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 = [ artist = rembrandt, name = nightwatch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 = [ artist = picasso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 = [ artist = picasso, name = guernica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760" y="914400"/>
            <a:ext cx="40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d( a1, a2 ) &lt; d( a1, a3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n r(topic) &lt; r(arti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240" y="399888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in sequenc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60" y="4724280"/>
            <a:ext cx="47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n = [ time = 20sec, forward = ak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n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 = [ d(sn, ak ) &lt; d(sn, s_{n+1})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8720" y="59436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/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08560" y="4572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040" y="1143000"/>
            <a:ext cx="43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mensions involved in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vs neg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vs community/collab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ature-based vs item-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760" y="320040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3962520"/>
            <a:ext cx="61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al interpretation -- use d(sn, ak) &lt; d(sn, s_{n+1}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interpretation -- increase w(feature(ak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ative interpretation -- decrease w(feature(s_{n+1}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360" y="571500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/ NEGATIV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8920" y="4572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" y="1295280"/>
            <a:ext cx="808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is paper we have shown how to adap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uided t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tracking expert users by modify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tached to the 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ontributed to the construction of this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pplication of these techniques requires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hoices are discre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hence do not apply to arbitrary navigation in virtual environ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ess we find proper ways to encode such navigation as a 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ite collection of discrete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 in the discrete case, however, we must be able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rma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avigation path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n order to compare and weigh the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experts invol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have generalized our approach to a wider clas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rial recommende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and indicated how to apply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sion of rating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an incremental fashion to adapt an existing tou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preferences, reflect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ual navigation behavi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840" y="304920"/>
            <a:ext cx="58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Advice and Regret for Serial Recomme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200" y="762120"/>
            <a:ext cx="82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, Recommend, Regre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pert-based Approach to the Personalization of Guided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360" y="2286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" y="2246400"/>
            <a:ext cx="6342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LLIGENT GUIDANCE --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IAL RECOMMENDER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7440" y="30492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0" y="914400"/>
            <a:ext cx="742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ic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-based -- dependent on (group) rating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-based -- dependent on features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methods -- combining predi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040" y="3313080"/>
            <a:ext cx="73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t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value representing a user's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item(s) that might be of interest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function to measure the accuracy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1720" y="5141880"/>
            <a:ext cx="73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--    predicts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xpert (obsessive)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99480" y="41760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640" y="1066680"/>
            <a:ext cx="844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ical prediction theory a prediction is a sequence of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, x2, ... that results from a stationary stochastic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isk of the prediction is taken to be the expected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accumul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the discrepancy between predicted values and actual outc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6240" y="29718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nt: [Cesa-Bianchi and Lugosi (2006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3468600"/>
            <a:ext cx="8340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orecast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=  an entity that gives a prediction for an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one or mor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actual sequences stored in a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deviation of the forecaster with the actual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diction tas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minimimizing 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unction by cho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st expert for advice for each element of a prediction seq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use a weighting factor 0 &lt;= bi &lt;= 1 for each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indicate the credibility of the experts' ad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83280" y="2286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90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760" y="569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ga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39080" y="399888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step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3280" y="54100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83280" y="304920"/>
            <a:ext cx="35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4240" y="685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a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6520" y="460836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iscret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920" y="12556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della Dea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800" y="533412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38088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320" y="1219320"/>
            <a:ext cx="80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(viewpoint) navigation in virtual spa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imation explaining, for example, the construction of an artwork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(narrative) presentation of a sequence of concept 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5920" y="4952880"/>
            <a:ext cx="68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possible to normalize interaction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4280" y="45720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680" y="1295280"/>
            <a:ext cx="8038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cessor function S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each node n S(n) = { n1,...,nk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ign to each expert i a weight 0 &lt;= bi &lt;=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ng the relevance of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expe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ume to have an advice ai = x, with weight bi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S(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 advice will be a(n) =ai(n) with weight bi  and w(ei) &gt; w(ej) for i != 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no suitable advice ai(n) exists, we may query the user to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expert has preference, and adapt the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 experts according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05320" y="4572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43000"/>
            <a:ext cx="83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ing the information space according to the user's perspective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 agents, that (pro) actively aid the user in searching the informatio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505320" cy="227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3790800" cy="245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371448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9320" y="5257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5240" y="5410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9:21:28Z</dcterms:created>
  <dc:creator>User name placeholder</dc:creator>
  <dc:description/>
  <dc:language>en-US</dc:language>
  <cp:lastModifiedBy>User name placeholder</cp:lastModifiedBy>
  <dcterms:modified xsi:type="dcterms:W3CDTF">2007-04-29T12:30:11Z</dcterms:modified>
  <cp:revision>3</cp:revision>
  <dc:subject/>
  <dc:title>Slide 1</dc:title>
</cp:coreProperties>
</file>