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767A-326C-4981-AB13-725728968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12E3-B2EB-4383-8413-ADA408374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F438-405F-456B-9B92-84E3EB2E2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7BCB-1D01-467D-A195-58ED29CD6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EF86-69A2-49F3-8493-767AB1B8E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872F-59B9-4165-8B8F-A819CA20C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3A33-919E-452B-88C2-9DB7503FE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0587-37D3-497A-8174-839B1E42F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8024-59C5-4928-8E39-C3CE91778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9A20-3F5B-4EF5-8C0C-1D24FC7C8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3A37-3012-4951-AFD7-498BB3900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3396-921E-4E8C-A5A4-C9380445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C07DF-6D94-497C-8424-AF3455C07F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449000" y="2286000"/>
            <a:ext cx="6144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be creativ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46280" y="950760"/>
            <a:ext cx="4511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0840" y="579600"/>
            <a:ext cx="383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message 2.0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70240" y="2514600"/>
            <a:ext cx="86022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n our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igital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message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termi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e selection of the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mediu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59400" y="5867280"/>
            <a:ext cx="71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cording to th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esthetic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terac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of our tim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2514600"/>
            <a:ext cx="282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allen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8720" y="3276720"/>
            <a:ext cx="266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uriosit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44440" y="4952880"/>
            <a:ext cx="223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ontrol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365720" y="3344760"/>
            <a:ext cx="183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ex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93120" y="4572000"/>
            <a:ext cx="232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tex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841480" y="601560"/>
            <a:ext cx="59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edia, viral(s), clips, casual game(s), message(s)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320080" y="5450040"/>
            <a:ext cx="29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t is, let’s begin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-3600" y="685800"/>
            <a:ext cx="90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ut when I start talking about the aesthetics of our time, it is better to announc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8160" y="992160"/>
            <a:ext cx="8708760" cy="39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hat do 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video game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ave to teach u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bou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literacy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learning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6520" y="380880"/>
            <a:ext cx="80917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situated cognitio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        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i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semiotic domain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635720" y="603360"/>
            <a:ext cx="345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ive lear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88920" y="2209680"/>
            <a:ext cx="6818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ing the world in new 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forming new affili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preparation for future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448640" y="2286000"/>
            <a:ext cx="6279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game ove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727520" y="457200"/>
            <a:ext cx="35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itical lear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48440" y="2743200"/>
            <a:ext cx="794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think about the domain at a meta-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complex system of inter-related 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905120" y="1828800"/>
            <a:ext cx="16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un 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3440" y="2057400"/>
            <a:ext cx="813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let the fun begi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915400" cy="38098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55480" y="5326200"/>
            <a:ext cx="828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ame play (G), exploration (E), simulation  (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6T16:39:10Z</dcterms:created>
  <dc:creator>User name placeholder</dc:creator>
  <dc:description/>
  <dc:language>en-US</dc:language>
  <cp:lastModifiedBy>User name placeholder</cp:lastModifiedBy>
  <dcterms:modified xsi:type="dcterms:W3CDTF">2008-05-31T14:15:57Z</dcterms:modified>
  <cp:revision>8</cp:revision>
  <dc:subject/>
  <dc:title>Slide 1</dc:title>
</cp:coreProperties>
</file>